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900" spc="-1" strike="noStrike">
                <a:solidFill>
                  <a:srgbClr val="0066cc"/>
                </a:solidFill>
                <a:latin typeface="Verdana"/>
              </a:rPr>
              <a:t>nsrc@intERLab 2008</a:t>
            </a:r>
            <a:br>
              <a:rPr sz="900"/>
            </a:br>
            <a:r>
              <a:rPr b="1" i="1" lang="en-GB" sz="900" spc="-1" strike="noStrike">
                <a:solidFill>
                  <a:srgbClr val="0066cc"/>
                </a:solidFill>
                <a:latin typeface="Verdana"/>
              </a:rPr>
              <a:t>Bangkok, Thai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39440" y="581040"/>
            <a:ext cx="8607240" cy="65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-216000" algn="ctr">
              <a:lnSpc>
                <a:spcPct val="102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  <a:ea typeface="msmincho"/>
              </a:rPr>
              <a:t>Scripting</a:t>
            </a: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msminch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02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  <a:ea typeface="msmincho"/>
              </a:rPr>
              <a:t>Tools, languages and the Sh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2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2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mincho"/>
              </a:rPr>
              <a:t>intERLab at 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01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Network Management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01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March 11-15 – Bangkok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101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Hervey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9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93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51160" y="5626080"/>
            <a:ext cx="365760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Using the Shell</a:t>
            </a: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 a fil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w we can execute those commands in the order in which they appear in the file by doing thi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# bash new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# sh new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# . new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Using the Shell</a:t>
            </a: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s a shell scrip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w we can take the last step and start to create self-contained scripts that run on their ow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'll need to do two thing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1. Specify the CLI to use,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2. Make our file execu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 “Shebang”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 specify that a file is to become a shell script you specify the interpreter like this at the very start of the fi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#!/bin/s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#!/bin/bas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s is known as the “Shebang” (#!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Next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w let's create a very simple shell script. This will simply echo back what you enter on the command lin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#!/bin/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cho $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nter this in a file new.sh, then d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# chmod 755 new.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Run your scrip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 run the script d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# ./new.sh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# ./new.sh “text with spaces..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ry updating the script to echo two, or more separated items on the command li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en Not to Us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long'ish list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source-intensive tasks, especially where speed is a factor (sorting, hashing, etc.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cedures involving heavy-duty math operations, especially floating point arithmetic arbitrary precision calculations, or comple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ross-platform portability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mplex applications, where structured programming is a necessity (need type-checking of variables, function prototypes, etc.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ject consists of subcomponents with interlocking depend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xtensive file operations required (Bash is limited to serial file access, and that only in a particularly clumsy and inefficient line-by-line fashion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eed native support for multi-dimensional arrays or  data structures, such as linked lists or tr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eed to generate or manipulate graphics or GU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eed direct access to system hardware or port or socket I/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books you received in clas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Classic Shell Scrip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The Bash Cook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on-line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Advanced Bash Scripting Guid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available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ttp://www.tldp.org/LDP/abs/htm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0520" y="2065320"/>
            <a:ext cx="64548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Verdana"/>
              </a:rPr>
              <a:t>Interpre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ash/sh, Perl, PHP, Python, Rub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Verdana"/>
              </a:rPr>
              <a:t>Compil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, C++, Ja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29560" y="3413160"/>
            <a:ext cx="3249360" cy="32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sed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ream EDi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awk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ttern scanning &amp; proce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dc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rbitrary precision calcul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bc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rbitrary precision calculato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angua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tr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ranslate or delete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grep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int lines matching a patte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 Shell (bash)</a:t>
            </a: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192240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inten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~/.bashr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~/.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/etc/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/etc/bash.bashr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/etc/skel (in Ubuntu)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 Shell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y default, on Ubuntu, we use the Bourne Again SHell, or BAS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shell is your interface to the kerne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grams use the shell to determine their environ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Your shell environment can be customized. We'll go over how it's configured in Ubunt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 Shell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low of bash execution at startup:</a:t>
            </a:r>
            <a:br>
              <a:rPr sz="3200"/>
            </a:b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Interactive log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Verdan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/etc/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Verdan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~/.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Verdan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~/.bashr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s is true for Ubuntu. See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man bash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” for standard startup sequ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'll go through this now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 Shell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low of bash execution at startup:</a:t>
            </a:r>
            <a:br>
              <a:rPr sz="3200"/>
            </a:b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Interactive shell, no log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Verdan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/etc/bash.bashr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Verdan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~/.bashrc</a:t>
            </a:r>
            <a:br>
              <a:rPr sz="3200"/>
            </a:br>
            <a:br>
              <a:rPr sz="3200"/>
            </a:b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Non-interactive startup, run a scrip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1. Script looks for variable BASH_EN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2. If it is set and is a file bash does thi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f [ -n "$BASH_ENV" ]; then . "$BASH_ENV"; f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Using the Shell</a:t>
            </a: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mmand Line Interpreter or CLI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 understand scripts let's practice a bit with the CLI. At the shell prompt t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# cd; echo “Hello, World” &gt; test.txt;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p test.txt test.txt.bak; vi test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above is all on one li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w try thi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# cp test.txt $( date +%F )test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Using the Shell</a:t>
            </a: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 a fil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w create a new file and place the some of our previous command in i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# 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# vi new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cho “Hello world” &gt; hello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p hello.txt hello.txt.b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t hello.txt+hello.txt.bak &gt; new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4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t new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:w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