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9440" y="4590360"/>
            <a:ext cx="860436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944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836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9440" y="459036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8600" y="459036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57760" y="459036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944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836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9440" y="4590360"/>
            <a:ext cx="860436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725480" indent="-21420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607080"/>
            <a:ext cx="10080720" cy="952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575560" y="7189920"/>
            <a:ext cx="1541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Verdana"/>
              </a:rPr>
              <a:t>nsrc@intERLab 2008</a:t>
            </a:r>
            <a:br>
              <a:rPr sz="900"/>
            </a:br>
            <a:r>
              <a:rPr b="0" i="1" lang="en-GB" sz="900" spc="-1" strike="noStrike">
                <a:solidFill>
                  <a:srgbClr val="000000"/>
                </a:solidFill>
                <a:latin typeface="Verdana"/>
              </a:rPr>
              <a:t>Bangkok, Thai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backports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buntu.com/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9440" y="-11160"/>
            <a:ext cx="9293040" cy="21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Utopia"/>
              </a:rPr>
              <a:t>Ubuntu Linux Server </a:t>
            </a:r>
            <a:r>
              <a:rPr b="1" i="1" lang="en-GB" sz="4800" spc="-1" strike="noStrike">
                <a:solidFill>
                  <a:srgbClr val="000000"/>
                </a:solidFill>
                <a:latin typeface="Utopia"/>
              </a:rPr>
              <a:t>Structure and Config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39440" y="1860480"/>
            <a:ext cx="8607240" cy="52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0200" indent="0" algn="ctr">
              <a:lnSpc>
                <a:spcPct val="12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2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2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2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2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  <a:ea typeface="msmincho"/>
              </a:rPr>
              <a:t>intERLab at 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01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topia"/>
                <a:ea typeface="msmincho"/>
              </a:rPr>
              <a:t>Network Management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01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topia"/>
                <a:ea typeface="msmincho"/>
              </a:rPr>
              <a:t>March 11 – Bangkok, Thai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01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Utopia"/>
                <a:ea typeface="msmincho"/>
              </a:rPr>
              <a:t>Hervey 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9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9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083120" y="6323040"/>
            <a:ext cx="2090520" cy="53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6680" y="2430360"/>
            <a:ext cx="5257800" cy="18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What's Different cont.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ke and GC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installed by default. Wh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18,500+ pack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o get “apt-get install build-essential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stal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staller </a:t>
            </a: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really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ants to be on the n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Your language/location choices determine which Ubuntu mirror will be used at instal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What's Different cont.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 use of </a:t>
            </a:r>
            <a:r>
              <a:rPr b="0" i="1" lang="en-GB" sz="3200" spc="-1" strike="noStrike">
                <a:solidFill>
                  <a:srgbClr val="000000"/>
                </a:solidFill>
                <a:latin typeface="Verdana"/>
              </a:rPr>
              <a:t>root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 is discouraged by default and </a:t>
            </a:r>
            <a:r>
              <a:rPr b="0" i="1" lang="en-GB" sz="3200" spc="-1" strike="noStrike">
                <a:solidFill>
                  <a:srgbClr val="000000"/>
                </a:solidFill>
                <a:latin typeface="Verdana"/>
              </a:rPr>
              <a:t>sudo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is used instea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You can do </a:t>
            </a:r>
            <a:r>
              <a:rPr b="0" i="1" lang="en-GB" sz="3200" spc="-1" strike="noStrike">
                <a:solidFill>
                  <a:srgbClr val="000000"/>
                </a:solidFill>
                <a:latin typeface="Verdana"/>
              </a:rPr>
              <a:t>apt-get dist-upgrade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 to move between major and minor releas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ources in /etc/apt/sources.list (how you install from cd/dvd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oftware Repositorie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9440" y="1956960"/>
            <a:ext cx="8605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efines what is available to you – i.e. where apt will look. There are four major categori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25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Verdana"/>
              </a:rPr>
              <a:t>Ubuntu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Verdana"/>
              </a:rPr>
              <a:t>Debi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542880" y="4343400"/>
            <a:ext cx="309240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61840" indent="-28548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6184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84564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1840" indent="-28548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6184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84564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restri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1840" indent="-28548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6184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84564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un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1840" indent="-28548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6184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84564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mult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13360" y="4340160"/>
            <a:ext cx="3414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61840" indent="-28548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6184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84564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1840" indent="-28548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6184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84564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1840" indent="-28548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6184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84564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un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66720" y="577440"/>
            <a:ext cx="882648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oftware Repositories Ubuntu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Verdana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re install of Ubunt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ully supported by Ubunt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reely redistributable and unencumbered, but may contain binari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6720" y="626760"/>
            <a:ext cx="8826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oftware Repositories cont.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Verdana"/>
              </a:rPr>
              <a:t>restric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only used software, but is not licensed as completely fre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upported by Ubuntu as best as possib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cludes binary drivers for specific hardwa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Open source versions used firs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6720" y="626760"/>
            <a:ext cx="8826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oftware Repositories cont.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Verdana"/>
              </a:rPr>
              <a:t>univer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ntains remaining open source software that may be available under “less open licenses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uilt against libraries and tools in “main”, thus it should install and be stab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o guarantee of regular updates, but they are provided as made availab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6720" y="626760"/>
            <a:ext cx="8826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oftware Repositories cont.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Verdana"/>
              </a:rPr>
              <a:t>multiver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ntains software that is “not free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You must determine if you meet licensing requireme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Unsupported and updates/upgrades are not provid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Use “at your own risk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66720" y="626760"/>
            <a:ext cx="8826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What's the Reality?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or “simple” servers “main” and “restricted” are enough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or servers with more complex configurations (like in this class), then “universe” is a must and “multiverse” may be needed as wel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tability: you must pay attention to multiverse installed softwa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66720" y="626760"/>
            <a:ext cx="8826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Additional Repositorie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On some occasions you may need to add third-party repositories for specific software. These may move to multiverse at some poi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Examples Inclu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Sky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PT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E emulators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your author uses for testing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66720" y="626760"/>
            <a:ext cx="8826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Additional Repositorie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Back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ee 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backports.org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e careful with these. Newer software that is “backported” to run on older versions of Ubuntu (or Debian...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an cause problems if you wish to do a distribution upgrad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Utopia"/>
              </a:rPr>
              <a:t>What's Our Goal?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808840" cy="481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 bit of Debian &amp; Ubuntu philosoph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ifferences from the Red Hat worl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ackage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ebian's </a:t>
            </a:r>
            <a:r>
              <a:rPr b="0" i="1" lang="en-GB" sz="3200" spc="-1" strike="noStrike">
                <a:solidFill>
                  <a:srgbClr val="000000"/>
                </a:solidFill>
                <a:latin typeface="Verdana"/>
              </a:rPr>
              <a:t>root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philosoph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ools you may ne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stalling your environ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How the OS and services start/sto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40640" y="3452760"/>
            <a:ext cx="1521000" cy="185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6720" y="626760"/>
            <a:ext cx="8826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Repository Philosophy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3200" y="196848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Ubuntu 7x vs. Debi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undamental change in philosoph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refox, Thunderbird, OpenOffice, kernel,  proprietary binary drivers, etc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buntu repository vs. Debian for Firefo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2160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in vs. “iceweasel” now in stable</a:t>
            </a: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Courier 10 Pitch"/>
              </a:rPr>
              <a:t>http://web.glandium.org/blog/?p=9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buntu licensing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6720" y="626760"/>
            <a:ext cx="8826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pecifying Repositorie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/etc/apt/sources.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e'll hand edit this file. If you use a GUI, then Synaptic can do this for yo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is file contains a number of additional items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Understanding the configuration is critical to understanding your confi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6720" y="626760"/>
            <a:ext cx="8826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/etc/apt/sources.lis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9800" y="1957320"/>
            <a:ext cx="86630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nclud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posi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Location: i.e. local mirrors, cd/dvd-rom, local server (noc in classroom or country-specific server), ftp, etc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ecurity update reposi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ird-party reposi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ack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6720" y="626760"/>
            <a:ext cx="8826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Critical Read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800" y="1957320"/>
            <a:ext cx="86630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man apt-g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man sources.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ome people like aptitude. That's fine, but watch out for dependency issue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6720" y="626760"/>
            <a:ext cx="8826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Meta Package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39800" y="1957320"/>
            <a:ext cx="89438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nnoying to new us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ovide all packages for subsyst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nitial documentation</a:t>
            </a:r>
            <a:br>
              <a:rPr sz="3200"/>
            </a:b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https://help.ubuntu.com/community/MetaPack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Examples inclu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uild-essential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libc, g++, gcc, mak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buntu-desktop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xorg, gnome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xserver-xorg-video-int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There's more...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440" y="1849320"/>
            <a:ext cx="88470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ut, hopefully enough to get us started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25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Verdana"/>
              </a:rPr>
              <a:t>Some 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80880" indent="-2138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ww.ubuntu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80880" indent="-2138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buntuforums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80880" indent="-2138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ww.debian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80880" indent="-2138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buntuguide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80880" indent="-2138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ttp://en.wikipedia.org/wiki/Debi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80880" indent="-2138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ttp://en.wikipedia.org/wiki/Ubuntu_(Linux_distribution)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GIYF (Google Is Your Friend)</a:t>
            </a: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Packages &amp; Exercise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39440" y="1849320"/>
            <a:ext cx="88470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e'll reinforce some of these concepts using exercises and by installing Ubuntu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Utopia"/>
              </a:rPr>
              <a:t>Some Practical Matter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481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Verdana"/>
              </a:rPr>
              <a:t>Please do not change the root or inst passwor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uestions are encouraged :-)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Utopia"/>
              </a:rPr>
              <a:t>Who We Think We Are Teaching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0520" y="2065320"/>
            <a:ext cx="645480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 class that has already experienced or used Linux or UNIX in the real world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We're assuming an intermediate to advanced level of knowledg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Are we right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29560" y="3413160"/>
            <a:ext cx="3249360" cy="324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Utopia"/>
              </a:rPr>
              <a:t>Some Philosophy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481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ebian's conservative mod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Verdana"/>
              </a:rPr>
              <a:t>Very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ifferent from Fedora Co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leases and Reposi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Ubuntu's benefactor: Mark Shuttlewor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esktop vs. Server vs. LTS vers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 connection with Debi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tricted software and Ubunt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60580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Ubuntu           Debian 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9800" y="1993680"/>
            <a:ext cx="419904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arty Warthog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4.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58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oary Hedgehog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5.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58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reezy Badge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5.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58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pper Drake*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6.0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58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dgy Ef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6.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58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eisty Faw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7.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58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utsy Gibb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7.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58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ardy Heron**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8.04</a:t>
            </a:r>
            <a:br>
              <a:rPr sz="2400"/>
            </a:br>
            <a:br>
              <a:rPr sz="2400"/>
            </a:b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*6.06 is “LTS”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**8.04 is “LTS”, Planned for April 2008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89080" y="1957320"/>
            <a:ext cx="34354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uzz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.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.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.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amm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2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link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tat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oody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arg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tch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4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nny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b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814320" y="1415880"/>
            <a:ext cx="8910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lease Na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Vers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lease Name   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67440" y="1839960"/>
            <a:ext cx="1440" cy="487512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92000" y="1838160"/>
            <a:ext cx="7658280" cy="180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Utopia"/>
              </a:rPr>
              <a:t>The World of Ubuntu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739800" y="2101680"/>
            <a:ext cx="86072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0200" indent="-324000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tart here: 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ubuntu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Verdana"/>
              </a:rPr>
              <a:t>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msmincho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msmincho"/>
              </a:rPr>
              <a:t>Gutsy Gibbon” 7.10 (18 month support)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msmincho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msmincho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msmincho"/>
              </a:rPr>
              <a:t>Dapper Drake“ 6.06 LTS (5 years support)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msmincho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Verdana"/>
              </a:rPr>
              <a:t>Deskt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msmincho"/>
              </a:rPr>
              <a:t>Current are 6.06 LTS and 7.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ubuntu (KDE), Edubuntu (Educational)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What's Differen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oftware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pk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pt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(this is what we'll use)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pt-cach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ptitu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napt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eta-pack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posito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What's Different cont.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tartup scrip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 /etc/init.d/   (System V)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pon install services run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ntrolling servi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pdate-rc.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vconf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ccon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c-conf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rvey Allen</cp:lastModifiedBy>
  <cp:revision>0</cp:revision>
  <dc:subject/>
  <dc:title/>
</cp:coreProperties>
</file>