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2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587240" y="1006200"/>
            <a:ext cx="4593960" cy="34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185480" y="4787640"/>
            <a:ext cx="5405400" cy="38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4360" cy="22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39440" y="4590360"/>
            <a:ext cx="8604360" cy="22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4198680" cy="22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48360" y="2101680"/>
            <a:ext cx="4198680" cy="22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39440" y="4590360"/>
            <a:ext cx="4198680" cy="22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148360" y="4590360"/>
            <a:ext cx="4198680" cy="22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2770200" cy="22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48600" y="2101680"/>
            <a:ext cx="2770200" cy="22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557760" y="2101680"/>
            <a:ext cx="2770200" cy="22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739440" y="4590360"/>
            <a:ext cx="2770200" cy="22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48600" y="4590360"/>
            <a:ext cx="2770200" cy="22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557760" y="4590360"/>
            <a:ext cx="2770200" cy="22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436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436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419868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148360" y="2101680"/>
            <a:ext cx="419868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6043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4198680" cy="22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48360" y="2101680"/>
            <a:ext cx="419868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739440" y="4590360"/>
            <a:ext cx="4198680" cy="22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419868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48360" y="2101680"/>
            <a:ext cx="4198680" cy="22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148360" y="4590360"/>
            <a:ext cx="4198680" cy="22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4198680" cy="22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48360" y="2101680"/>
            <a:ext cx="4198680" cy="22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39440" y="4590360"/>
            <a:ext cx="8604360" cy="22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hyperlink" Target="mailto:nsrc@APRICOT" TargetMode="External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440" y="2101680"/>
            <a:ext cx="860436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861840" indent="-285480"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293840" indent="-216000"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725480" indent="-214200"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157480" indent="-216000"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157480" indent="-216000"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157480" indent="-216000"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6607080"/>
            <a:ext cx="10080720" cy="952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575560" y="7189920"/>
            <a:ext cx="15415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9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nsrc@APRICOT</a:t>
            </a:r>
            <a:r>
              <a:rPr b="0" i="1" lang="en-GB" sz="900" spc="-1" strike="noStrike">
                <a:solidFill>
                  <a:srgbClr val="0000ff"/>
                </a:solidFill>
                <a:latin typeface="Arial"/>
              </a:rPr>
              <a:t> 2008</a:t>
            </a:r>
            <a:br>
              <a:rPr sz="900"/>
            </a:br>
            <a:r>
              <a:rPr b="0" i="1" lang="en-GB" sz="900" spc="-1" strike="noStrike">
                <a:solidFill>
                  <a:srgbClr val="0000ff"/>
                </a:solidFill>
                <a:latin typeface="Arial"/>
              </a:rPr>
              <a:t>Taipei, Taiwa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5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7.png"/><Relationship Id="rId15" Type="http://schemas.openxmlformats.org/officeDocument/2006/relationships/image" Target="../media/image6.jpeg"/><Relationship Id="rId16" Type="http://schemas.openxmlformats.org/officeDocument/2006/relationships/image" Target="../media/image11.png"/><Relationship Id="rId17" Type="http://schemas.openxmlformats.org/officeDocument/2006/relationships/image" Target="../media/image4.png"/><Relationship Id="rId18" Type="http://schemas.openxmlformats.org/officeDocument/2006/relationships/image" Target="../media/image6.jpeg"/><Relationship Id="rId19" Type="http://schemas.openxmlformats.org/officeDocument/2006/relationships/image" Target="../media/image7.png"/><Relationship Id="rId20" Type="http://schemas.openxmlformats.org/officeDocument/2006/relationships/image" Target="../media/image7.png"/><Relationship Id="rId21" Type="http://schemas.openxmlformats.org/officeDocument/2006/relationships/image" Target="../media/image7.png"/><Relationship Id="rId22" Type="http://schemas.openxmlformats.org/officeDocument/2006/relationships/image" Target="../media/image7.png"/><Relationship Id="rId23" Type="http://schemas.openxmlformats.org/officeDocument/2006/relationships/image" Target="../media/image5.png"/><Relationship Id="rId24" Type="http://schemas.openxmlformats.org/officeDocument/2006/relationships/image" Target="../media/image8.png"/><Relationship Id="rId25" Type="http://schemas.openxmlformats.org/officeDocument/2006/relationships/image" Target="../media/image9.png"/><Relationship Id="rId26" Type="http://schemas.openxmlformats.org/officeDocument/2006/relationships/image" Target="../media/image10.png"/><Relationship Id="rId27" Type="http://schemas.openxmlformats.org/officeDocument/2006/relationships/image" Target="../media/image4.png"/><Relationship Id="rId28" Type="http://schemas.openxmlformats.org/officeDocument/2006/relationships/image" Target="../media/image4.png"/><Relationship Id="rId29" Type="http://schemas.openxmlformats.org/officeDocument/2006/relationships/image" Target="../media/image7.png"/><Relationship Id="rId30" Type="http://schemas.openxmlformats.org/officeDocument/2006/relationships/image" Target="../media/image6.jpeg"/><Relationship Id="rId31" Type="http://schemas.openxmlformats.org/officeDocument/2006/relationships/image" Target="../media/image11.png"/><Relationship Id="rId32" Type="http://schemas.openxmlformats.org/officeDocument/2006/relationships/slideLayout" Target="../slideLayouts/slideLayout1.xml"/><Relationship Id="rId3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79440" y="468360"/>
            <a:ext cx="9293040" cy="120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Utopia"/>
              </a:rPr>
              <a:t>An Introduction</a:t>
            </a:r>
            <a:endParaRPr b="1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30200" indent="0" algn="ctr">
              <a:lnSpc>
                <a:spcPct val="123000"/>
              </a:lnSpc>
              <a:buNone/>
              <a:tabLst>
                <a:tab algn="l" pos="0"/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30200" indent="0" algn="ctr">
              <a:lnSpc>
                <a:spcPct val="123000"/>
              </a:lnSpc>
              <a:buNone/>
              <a:tabLst>
                <a:tab algn="l" pos="0"/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30200" indent="0" algn="ctr">
              <a:lnSpc>
                <a:spcPct val="123000"/>
              </a:lnSpc>
              <a:buNone/>
              <a:tabLst>
                <a:tab algn="l" pos="0"/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30200" indent="0" algn="ctr">
              <a:lnSpc>
                <a:spcPct val="123000"/>
              </a:lnSpc>
              <a:buNone/>
              <a:tabLst>
                <a:tab algn="l" pos="0"/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Utopia"/>
                <a:ea typeface="msmincho"/>
              </a:rPr>
              <a:t>APRICOT 200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30200" indent="0" algn="ctr">
              <a:lnSpc>
                <a:spcPct val="101000"/>
              </a:lnSpc>
              <a:buNone/>
              <a:tabLst>
                <a:tab algn="l" pos="0"/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Utopia"/>
                <a:ea typeface="msmincho"/>
              </a:rPr>
              <a:t>Network Management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30200" indent="0" algn="ctr">
              <a:lnSpc>
                <a:spcPct val="101000"/>
              </a:lnSpc>
              <a:buNone/>
              <a:tabLst>
                <a:tab algn="l" pos="0"/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Utopia"/>
                <a:ea typeface="msmincho"/>
              </a:rPr>
              <a:t>February 20-25 – Taipei, Taiw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30200" indent="0" algn="ctr">
              <a:lnSpc>
                <a:spcPct val="101000"/>
              </a:lnSpc>
              <a:buNone/>
              <a:tabLst>
                <a:tab algn="l" pos="0"/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Utopia"/>
                <a:ea typeface="msmincho"/>
              </a:rPr>
              <a:t>Hervey Allen &amp; Phil Regnau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30200" indent="0" algn="ctr">
              <a:lnSpc>
                <a:spcPct val="93000"/>
              </a:lnSpc>
              <a:buNone/>
              <a:tabLst>
                <a:tab algn="l" pos="0"/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30200" indent="0" algn="ctr">
              <a:lnSpc>
                <a:spcPct val="93000"/>
              </a:lnSpc>
              <a:buNone/>
              <a:tabLst>
                <a:tab algn="l" pos="0"/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083120" y="6323040"/>
            <a:ext cx="2090520" cy="5396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05000" y="2529000"/>
            <a:ext cx="3689640" cy="110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3684600" y="6245280"/>
            <a:ext cx="3656160" cy="365040"/>
          </a:xfrm>
          <a:prstGeom prst="roundRect">
            <a:avLst>
              <a:gd name="adj" fmla="val 43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3070080" y="800280"/>
            <a:ext cx="3689640" cy="1101600"/>
          </a:xfrm>
          <a:prstGeom prst="rect">
            <a:avLst/>
          </a:prstGeom>
          <a:ln w="0">
            <a:noFill/>
          </a:ln>
        </p:spPr>
      </p:pic>
      <p:grpSp>
        <p:nvGrpSpPr>
          <p:cNvPr id="169" name=""/>
          <p:cNvGrpSpPr/>
          <p:nvPr/>
        </p:nvGrpSpPr>
        <p:grpSpPr>
          <a:xfrm>
            <a:off x="4680" y="2308320"/>
            <a:ext cx="9996480" cy="1784160"/>
            <a:chOff x="4680" y="2308320"/>
            <a:chExt cx="9996480" cy="1784160"/>
          </a:xfrm>
        </p:grpSpPr>
        <p:sp>
          <p:nvSpPr>
            <p:cNvPr id="170" name=""/>
            <p:cNvSpPr/>
            <p:nvPr/>
          </p:nvSpPr>
          <p:spPr>
            <a:xfrm>
              <a:off x="4680" y="2308320"/>
              <a:ext cx="9996480" cy="1784160"/>
            </a:xfrm>
            <a:prstGeom prst="roundRect">
              <a:avLst>
                <a:gd name="adj" fmla="val 88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680" y="2308320"/>
              <a:ext cx="9996480" cy="178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410760"/>
                  <a:tab algn="l" pos="9601200"/>
                  <a:tab algn="l" pos="10058400"/>
                  <a:tab algn="l" pos="10515600"/>
                </a:tabLst>
              </a:pPr>
              <a:r>
                <a:rPr b="0" lang="en-GB" sz="4400" spc="-1" strike="noStrike">
                  <a:solidFill>
                    <a:srgbClr val="000000"/>
                  </a:solidFill>
                  <a:latin typeface="Times New Roman"/>
                  <a:ea typeface="msmincho"/>
                </a:rPr>
                <a:t>Remaining Slides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2543040" y="4363920"/>
            <a:ext cx="4778640" cy="669960"/>
          </a:xfrm>
          <a:prstGeom prst="roundRect">
            <a:avLst>
              <a:gd name="adj" fmla="val 2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  <a:ea typeface="msmincho"/>
              </a:rPr>
              <a:t>Dhruba Raj Bhandar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226040" y="5043600"/>
            <a:ext cx="903240" cy="366480"/>
          </a:xfrm>
          <a:prstGeom prst="roundRect">
            <a:avLst>
              <a:gd name="adj" fmla="val 43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msmincho"/>
              </a:rPr>
              <a:t>(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msmincho"/>
              </a:rPr>
              <a:t>CCN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msmincho"/>
              </a:rPr>
              <a:t>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msmincho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314880" y="5573880"/>
            <a:ext cx="3973320" cy="669600"/>
          </a:xfrm>
          <a:prstGeom prst="roundRect">
            <a:avLst>
              <a:gd name="adj" fmla="val 2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msmincho"/>
              </a:rPr>
              <a:t>Additions by Phil Regnau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msmincho"/>
              </a:rPr>
              <a:t>bhandari.dhruba@scp.com.n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685800" y="222120"/>
            <a:ext cx="77724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739800" indent="-525600" algn="ctr">
              <a:lnSpc>
                <a:spcPct val="93000"/>
              </a:lnSpc>
              <a:spcBef>
                <a:spcPts val="587"/>
              </a:spcBef>
              <a:buClr>
                <a:srgbClr val="000000"/>
              </a:buClr>
              <a:buSzPct val="45000"/>
              <a:buFont typeface="Symbol" charset="2"/>
              <a:buChar char=""/>
              <a:tabLst>
                <a:tab algn="l" pos="739800"/>
                <a:tab algn="l" pos="1187280"/>
                <a:tab algn="l" pos="1636560"/>
                <a:tab algn="l" pos="2085840"/>
                <a:tab algn="l" pos="2535120"/>
                <a:tab algn="l" pos="2984400"/>
                <a:tab algn="l" pos="3433680"/>
                <a:tab algn="l" pos="3882960"/>
                <a:tab algn="l" pos="4332240"/>
                <a:tab algn="l" pos="4781520"/>
                <a:tab algn="l" pos="5230800"/>
                <a:tab algn="l" pos="5680080"/>
                <a:tab algn="l" pos="6129360"/>
                <a:tab algn="l" pos="6578640"/>
                <a:tab algn="l" pos="7027920"/>
                <a:tab algn="l" pos="7477200"/>
                <a:tab algn="l" pos="7926480"/>
                <a:tab algn="l" pos="8375760"/>
                <a:tab algn="l" pos="8825040"/>
                <a:tab algn="l" pos="9274320"/>
                <a:tab algn="l" pos="97236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Nagios Status Detail scr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85800" y="1219320"/>
            <a:ext cx="78487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3000"/>
              </a:lnSpc>
              <a:spcBef>
                <a:spcPts val="587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525600">
              <a:lnSpc>
                <a:spcPct val="97000"/>
              </a:lnSpc>
              <a:spcBef>
                <a:spcPts val="587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-1440" y="843120"/>
            <a:ext cx="10080360" cy="671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685800" y="54000"/>
            <a:ext cx="777240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80"/>
                </a:solidFill>
                <a:latin typeface="Times New Roman"/>
                <a:ea typeface="msmincho"/>
              </a:rPr>
              <a:t>Tactical Overview Of Nag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219320"/>
            <a:ext cx="78487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3000"/>
              </a:lnSpc>
              <a:spcBef>
                <a:spcPts val="587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525600">
              <a:lnSpc>
                <a:spcPct val="97000"/>
              </a:lnSpc>
              <a:spcBef>
                <a:spcPts val="587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-1440" y="843120"/>
            <a:ext cx="10080360" cy="671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685800" y="223920"/>
            <a:ext cx="777240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80"/>
                </a:solidFill>
                <a:latin typeface="Times New Roman"/>
                <a:ea typeface="msmincho"/>
              </a:rPr>
              <a:t>Service Detail of Nag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85800" y="1219320"/>
            <a:ext cx="78487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3000"/>
              </a:lnSpc>
              <a:spcBef>
                <a:spcPts val="587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525600">
              <a:lnSpc>
                <a:spcPct val="97000"/>
              </a:lnSpc>
              <a:spcBef>
                <a:spcPts val="587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-1440" y="830160"/>
            <a:ext cx="10080360" cy="665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685800" y="223920"/>
            <a:ext cx="777240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3366"/>
                </a:solidFill>
                <a:latin typeface="Arial"/>
                <a:ea typeface="msmincho"/>
              </a:rPr>
              <a:t> </a:t>
            </a:r>
            <a:r>
              <a:rPr b="1" lang="en-GB" sz="3200" spc="-1" strike="noStrike">
                <a:solidFill>
                  <a:srgbClr val="000080"/>
                </a:solidFill>
                <a:latin typeface="Times New Roman"/>
                <a:ea typeface="msmincho"/>
              </a:rPr>
              <a:t>Service 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85800" y="1219320"/>
            <a:ext cx="78487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3000"/>
              </a:lnSpc>
              <a:spcBef>
                <a:spcPts val="587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525600">
              <a:lnSpc>
                <a:spcPct val="97000"/>
              </a:lnSpc>
              <a:spcBef>
                <a:spcPts val="587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-1440" y="774720"/>
            <a:ext cx="10080360" cy="678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-225360" y="-3240"/>
            <a:ext cx="10729800" cy="756288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4106880" y="312840"/>
            <a:ext cx="5567400" cy="396720"/>
          </a:xfrm>
          <a:prstGeom prst="roundRect">
            <a:avLst>
              <a:gd name="adj" fmla="val 39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80"/>
                </a:solidFill>
                <a:latin typeface="Times New Roman"/>
                <a:ea typeface="msmincho"/>
              </a:rPr>
              <a:t>Status Map of MC Network From Nagio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727200" y="0"/>
            <a:ext cx="77724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80"/>
                </a:solidFill>
                <a:latin typeface="Times New Roman"/>
                <a:ea typeface="msmincho"/>
              </a:rPr>
              <a:t>Status Overview from nag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-1440" y="762120"/>
            <a:ext cx="10080360" cy="679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782640" y="0"/>
            <a:ext cx="7772400" cy="10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80"/>
                </a:solidFill>
                <a:latin typeface="Times New Roman"/>
                <a:ea typeface="msmincho"/>
              </a:rPr>
              <a:t>Status Summary Based On Hostgro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150840" y="762120"/>
            <a:ext cx="9767880" cy="668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65240" y="1006560"/>
            <a:ext cx="9837720" cy="623232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2527200" y="353880"/>
            <a:ext cx="4842000" cy="489240"/>
          </a:xfrm>
          <a:prstGeom prst="roundRect">
            <a:avLst>
              <a:gd name="adj" fmla="val 32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80"/>
                </a:solidFill>
                <a:latin typeface="Times New Roman"/>
                <a:ea typeface="msmincho"/>
              </a:rPr>
              <a:t>Host Trends or Status Hist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96840" y="2606760"/>
            <a:ext cx="9891720" cy="369252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2225520" y="666720"/>
            <a:ext cx="4273560" cy="671400"/>
          </a:xfrm>
          <a:prstGeom prst="roundRect">
            <a:avLst>
              <a:gd name="adj" fmla="val 2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  <a:ea typeface="msmincho"/>
              </a:rPr>
              <a:t>Histogram Of Ho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Utopia"/>
              </a:rPr>
              <a:t>Where Does Nagios Fit?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808840" cy="481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Nagios, in some ways, ties it all together. We've seen things like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861840" indent="-285480">
              <a:lnSpc>
                <a:spcPct val="94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SNMP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861840" indent="-285480">
              <a:lnSpc>
                <a:spcPct val="94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RT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861840" indent="-285480">
              <a:lnSpc>
                <a:spcPct val="94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RDToo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861840" indent="-285480">
              <a:lnSpc>
                <a:spcPct val="94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anci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861840" indent="-285480">
              <a:lnSpc>
                <a:spcPct val="94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Cact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861840" indent="-285480">
              <a:lnSpc>
                <a:spcPct val="94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Smokep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"/>
          <p:cNvSpPr/>
          <p:nvPr/>
        </p:nvSpPr>
        <p:spPr>
          <a:xfrm>
            <a:off x="4775040" y="3807000"/>
            <a:ext cx="4738680" cy="28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You can and will use all this functionality in Nagios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It is a monolithic tool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2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Bi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2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Comple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2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Powerfu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-1440" y="938160"/>
            <a:ext cx="10080360" cy="662148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4121280" y="135000"/>
            <a:ext cx="1857240" cy="488880"/>
          </a:xfrm>
          <a:prstGeom prst="roundRect">
            <a:avLst>
              <a:gd name="adj" fmla="val 32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msmincho"/>
              </a:rPr>
              <a:t>Event Lo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95400" y="816120"/>
            <a:ext cx="9983520" cy="674352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489480" y="190440"/>
            <a:ext cx="3016080" cy="488880"/>
          </a:xfrm>
          <a:prstGeom prst="roundRect">
            <a:avLst>
              <a:gd name="adj" fmla="val 32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msmincho"/>
              </a:rPr>
              <a:t>Who is Notifi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73980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80"/>
                </a:solidFill>
                <a:latin typeface="Verdana"/>
                <a:ea typeface="msmincho"/>
              </a:rPr>
              <a:t>Notification Email S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39800" y="2101680"/>
            <a:ext cx="8607240" cy="48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30200" indent="-324000">
              <a:lnSpc>
                <a:spcPct val="87000"/>
              </a:lnSpc>
              <a:spcAft>
                <a:spcPts val="1412"/>
              </a:spcAft>
              <a:tabLst>
                <a:tab algn="l" pos="0"/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msmincho"/>
              </a:rPr>
              <a:t>From: nagios@thuldai.mos.com.n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30200" indent="-324000">
              <a:lnSpc>
                <a:spcPct val="87000"/>
              </a:lnSpc>
              <a:spcAft>
                <a:spcPts val="1412"/>
              </a:spcAft>
              <a:tabLst>
                <a:tab algn="l" pos="0"/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msmincho"/>
              </a:rPr>
              <a:t>To: "ishwars@mos.com.np" &lt;ishwars@mos.com.np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30200" indent="-324000">
              <a:lnSpc>
                <a:spcPct val="87000"/>
              </a:lnSpc>
              <a:spcAft>
                <a:spcPts val="1412"/>
              </a:spcAft>
              <a:tabLst>
                <a:tab algn="l" pos="0"/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msmincho"/>
              </a:rPr>
              <a:t>Subject: Host DOWN alert for WORLDBANK-L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30200" indent="-324000">
              <a:lnSpc>
                <a:spcPct val="87000"/>
              </a:lnSpc>
              <a:spcAft>
                <a:spcPts val="1412"/>
              </a:spcAft>
              <a:tabLst>
                <a:tab algn="l" pos="0"/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msmincho"/>
              </a:rPr>
              <a:t>Date: 05/02/04 11:0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30200" indent="-324000">
              <a:lnSpc>
                <a:spcPct val="87000"/>
              </a:lnSpc>
              <a:spcAft>
                <a:spcPts val="1412"/>
              </a:spcAft>
              <a:tabLst>
                <a:tab algn="l" pos="0"/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msmincho"/>
              </a:rPr>
              <a:t>***** Nagios ****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30200" indent="-324000">
              <a:lnSpc>
                <a:spcPct val="87000"/>
              </a:lnSpc>
              <a:spcAft>
                <a:spcPts val="1412"/>
              </a:spcAft>
              <a:tabLst>
                <a:tab algn="l" pos="0"/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msmincho"/>
              </a:rPr>
              <a:t>Notification Type: 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30200" indent="-324000">
              <a:lnSpc>
                <a:spcPct val="87000"/>
              </a:lnSpc>
              <a:spcAft>
                <a:spcPts val="1412"/>
              </a:spcAft>
              <a:tabLst>
                <a:tab algn="l" pos="0"/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msmincho"/>
              </a:rPr>
              <a:t>Host: WORLDBANK-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30200" indent="-324000">
              <a:lnSpc>
                <a:spcPct val="87000"/>
              </a:lnSpc>
              <a:spcAft>
                <a:spcPts val="1412"/>
              </a:spcAft>
              <a:tabLst>
                <a:tab algn="l" pos="0"/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msmincho"/>
              </a:rPr>
              <a:t>State: DOW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30200" indent="-324000">
              <a:lnSpc>
                <a:spcPct val="87000"/>
              </a:lnSpc>
              <a:spcAft>
                <a:spcPts val="1412"/>
              </a:spcAft>
              <a:tabLst>
                <a:tab algn="l" pos="0"/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msmincho"/>
              </a:rPr>
              <a:t>Address: 202.52.239.7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30200" indent="-324000">
              <a:lnSpc>
                <a:spcPct val="87000"/>
              </a:lnSpc>
              <a:spcAft>
                <a:spcPts val="1412"/>
              </a:spcAft>
              <a:tabLst>
                <a:tab algn="l" pos="0"/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msmincho"/>
              </a:rPr>
              <a:t>Info: PING CRITICAL - Packet loss = 10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30200" indent="-324000">
              <a:lnSpc>
                <a:spcPct val="87000"/>
              </a:lnSpc>
              <a:spcAft>
                <a:spcPts val="1412"/>
              </a:spcAft>
              <a:tabLst>
                <a:tab algn="l" pos="0"/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msmincho"/>
              </a:rPr>
              <a:t>Date/Time: Thu Feb 5 11:06:38 NPT 20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Verdana"/>
              </a:rPr>
              <a:t>Nagios configuration files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Located in /etc/nagios2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30200" indent="-3240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Important file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861840" indent="-28548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gi.cfg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ontrols the Web Interface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options secur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61840" indent="-28548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ommands.cfg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ommands that Nagios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uses to notif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61840" indent="-28548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agios.cfg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ain Nagios configuration fi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61840" indent="-28548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onf.d/*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he core of the config fi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Verdana"/>
              </a:rPr>
              <a:t>Nagios configuration files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900252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Under conf.d/*, files “xxxx_nagios2.cfg”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30200" indent="-3240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ontacts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users and group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30200" indent="-3240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generic-host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“template” host (default)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30200" indent="-3240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generic-service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“template” serv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30200" indent="-3240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hostgroups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host group defini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30200" indent="-3240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rvices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which services to chec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30200" indent="-3240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imeperiods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when to check and notif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39440" y="577440"/>
            <a:ext cx="8605800" cy="13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Verdana"/>
              </a:rPr>
              <a:t>Nagios plugin configuration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/etc/nagios-plugins/config/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302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pt.cfg   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tp.cfg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hcp.cfg   ping.cf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302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isk.cfg  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rocs.cfg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ummy.cfg  real.cf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302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tp.cfg   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sh.cfg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http.cfg   tcp_udp.cf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302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load.cfg  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elnet.cfg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ail.cfg   users.cf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302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ews.cf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166680" y="484200"/>
            <a:ext cx="9701280" cy="672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Verdana"/>
              </a:rPr>
              <a:t>Concepts: parents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Hosts can have par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861840" indent="-28548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llows one to specify which dependencies there are in the networ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61840" indent="-28548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void sending alarms if we cannot know the state of a host..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353880" y="233280"/>
            <a:ext cx="9063000" cy="646128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846000" y="3295800"/>
            <a:ext cx="3038760" cy="2328840"/>
          </a:xfrm>
          <a:prstGeom prst="roundRect">
            <a:avLst>
              <a:gd name="adj" fmla="val 65"/>
            </a:avLst>
          </a:prstGeom>
          <a:solidFill>
            <a:srgbClr val="ffffff"/>
          </a:solidFill>
          <a:ln w="547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39440" y="577440"/>
            <a:ext cx="8605800" cy="13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Verdana"/>
              </a:rPr>
              <a:t>Nagios – working principles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299880" y="176040"/>
            <a:ext cx="9579240" cy="651852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0" y="166680"/>
            <a:ext cx="2071800" cy="1481040"/>
          </a:xfrm>
          <a:prstGeom prst="roundRect">
            <a:avLst>
              <a:gd name="adj" fmla="val 106"/>
            </a:avLst>
          </a:prstGeom>
          <a:solidFill>
            <a:srgbClr val="ffffff"/>
          </a:solidFill>
          <a:ln w="547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Verdana"/>
              </a:rPr>
              <a:t>Why Nagios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102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80"/>
                </a:solidFill>
                <a:latin typeface="Verdana"/>
                <a:ea typeface="msmincho"/>
              </a:rPr>
              <a:t>Open sour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30200" indent="-324000">
              <a:lnSpc>
                <a:spcPct val="102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80"/>
                </a:solidFill>
                <a:latin typeface="Verdana"/>
              </a:rPr>
              <a:t>Relatively scalable, Manageable, Secure and mor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30200" indent="-324000">
              <a:lnSpc>
                <a:spcPct val="102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80"/>
                </a:solidFill>
                <a:latin typeface="Verdana"/>
              </a:rPr>
              <a:t>Best documentation availab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30200" indent="-324000">
              <a:lnSpc>
                <a:spcPct val="102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80"/>
                </a:solidFill>
                <a:latin typeface="Verdana"/>
              </a:rPr>
              <a:t>Good log and database syste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30200" indent="-324000">
              <a:lnSpc>
                <a:spcPct val="102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80"/>
                </a:solidFill>
                <a:latin typeface="Verdana"/>
              </a:rPr>
              <a:t>Nice, informative and attractive web interfa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30200" indent="-324000">
              <a:lnSpc>
                <a:spcPct val="102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80"/>
                </a:solidFill>
                <a:latin typeface="Verdana"/>
              </a:rPr>
              <a:t>Very flexibl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30200" indent="-324000">
              <a:lnSpc>
                <a:spcPct val="102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80"/>
                </a:solidFill>
                <a:latin typeface="Verdana"/>
              </a:rPr>
              <a:t>Alerts automatically sent if condition chang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30200" indent="-324000">
              <a:lnSpc>
                <a:spcPct val="102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80"/>
                </a:solidFill>
                <a:latin typeface="Verdana"/>
              </a:rPr>
              <a:t>Various notification options (Email, pager, mobile phone)</a:t>
            </a:r>
            <a:r>
              <a:rPr b="0" lang="en-GB" sz="2400" spc="-1" strike="noStrike">
                <a:solidFill>
                  <a:srgbClr val="000080"/>
                </a:solidFill>
                <a:latin typeface="Verdana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405240" y="3179880"/>
            <a:ext cx="3387600" cy="917280"/>
          </a:xfrm>
          <a:prstGeom prst="roundRect">
            <a:avLst>
              <a:gd name="adj" fmla="val 17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6000" spc="-1" strike="noStrike">
                <a:solidFill>
                  <a:srgbClr val="000080"/>
                </a:solidFill>
                <a:latin typeface="Times New Roman"/>
                <a:ea typeface="msmincho"/>
              </a:rPr>
              <a:t>Questions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Verdana"/>
              </a:rPr>
              <a:t>Why Nagios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2160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80"/>
                </a:solidFill>
                <a:latin typeface="Verdana"/>
                <a:ea typeface="msmincho"/>
              </a:rPr>
              <a:t>Avoidance of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msmincho"/>
              </a:rPr>
              <a:t> “</a:t>
            </a:r>
            <a:r>
              <a:rPr b="0" lang="en-GB" sz="2800" spc="-1" strike="noStrike">
                <a:solidFill>
                  <a:srgbClr val="ff0000"/>
                </a:solidFill>
                <a:latin typeface="Verdana"/>
                <a:ea typeface="msmincho"/>
              </a:rPr>
              <a:t>Too many red flashing lights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msmincho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30200" indent="-2160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80"/>
                </a:solidFill>
                <a:latin typeface="Verdana"/>
                <a:ea typeface="msmincho"/>
              </a:rPr>
              <a:t>“</a:t>
            </a:r>
            <a:r>
              <a:rPr b="0" lang="en-GB" sz="2400" spc="-1" strike="noStrike">
                <a:solidFill>
                  <a:srgbClr val="000080"/>
                </a:solidFill>
                <a:latin typeface="Verdana"/>
                <a:ea typeface="msmincho"/>
              </a:rPr>
              <a:t>Just the facts” – only want root cause failures to be reported, not cascade of every downstream failur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30200" indent="-2160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80"/>
                </a:solidFill>
                <a:latin typeface="Verdana"/>
                <a:ea typeface="msmincho"/>
              </a:rPr>
              <a:t>also avoids unnecessary chec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30200" indent="-2160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80"/>
                </a:solidFill>
                <a:latin typeface="Verdana"/>
                <a:ea typeface="msmincho"/>
              </a:rPr>
              <a:t>e.g. HTTP responds, therefore no need to p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30200" indent="-2160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80"/>
                </a:solidFill>
                <a:latin typeface="Verdana"/>
                <a:ea typeface="msmincho"/>
              </a:rPr>
              <a:t>e.g. power outage, no ping response, so don’t bother trying anything el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30200" indent="-2160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80"/>
                </a:solidFill>
                <a:latin typeface="Verdana"/>
                <a:ea typeface="msmincho"/>
              </a:rPr>
              <a:t>Services are running fine no need to do check if the host itself is aliv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Verdana"/>
              </a:rPr>
              <a:t>What Can it Do?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646200" indent="-216000">
              <a:lnSpc>
                <a:spcPct val="89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679320"/>
                <a:tab algn="l" pos="1128600"/>
                <a:tab algn="l" pos="1577880"/>
                <a:tab algn="l" pos="2027160"/>
                <a:tab algn="l" pos="2476440"/>
                <a:tab algn="l" pos="2925720"/>
                <a:tab algn="l" pos="3375000"/>
                <a:tab algn="l" pos="3824280"/>
                <a:tab algn="l" pos="4273560"/>
                <a:tab algn="l" pos="4722840"/>
                <a:tab algn="l" pos="5172120"/>
                <a:tab algn="l" pos="5621400"/>
                <a:tab algn="l" pos="6070680"/>
                <a:tab algn="l" pos="6519960"/>
                <a:tab algn="l" pos="6969240"/>
                <a:tab algn="l" pos="7418520"/>
                <a:tab algn="l" pos="7867800"/>
                <a:tab algn="l" pos="8317080"/>
                <a:tab algn="l" pos="8766000"/>
                <a:tab algn="l" pos="921528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80"/>
                </a:solidFill>
                <a:latin typeface="Verdana"/>
                <a:ea typeface="msmincho"/>
              </a:rPr>
              <a:t>Individual node statu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-216000">
              <a:lnSpc>
                <a:spcPct val="89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"/>
              <a:tabLst>
                <a:tab algn="l" pos="679320"/>
                <a:tab algn="l" pos="1128600"/>
                <a:tab algn="l" pos="1577880"/>
                <a:tab algn="l" pos="2027160"/>
                <a:tab algn="l" pos="2476440"/>
                <a:tab algn="l" pos="2925720"/>
                <a:tab algn="l" pos="3375000"/>
                <a:tab algn="l" pos="3824280"/>
                <a:tab algn="l" pos="4273560"/>
                <a:tab algn="l" pos="4722840"/>
                <a:tab algn="l" pos="5172120"/>
                <a:tab algn="l" pos="5621400"/>
                <a:tab algn="l" pos="6070680"/>
                <a:tab algn="l" pos="6519960"/>
                <a:tab algn="l" pos="6969240"/>
                <a:tab algn="l" pos="7418520"/>
                <a:tab algn="l" pos="7867800"/>
                <a:tab algn="l" pos="8317080"/>
                <a:tab algn="l" pos="8766000"/>
                <a:tab algn="l" pos="921528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80"/>
                </a:solidFill>
                <a:latin typeface="Verdana"/>
                <a:ea typeface="msmincho"/>
              </a:rPr>
              <a:t>Is it up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-216000">
              <a:lnSpc>
                <a:spcPct val="89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"/>
              <a:tabLst>
                <a:tab algn="l" pos="679320"/>
                <a:tab algn="l" pos="1128600"/>
                <a:tab algn="l" pos="1577880"/>
                <a:tab algn="l" pos="2027160"/>
                <a:tab algn="l" pos="2476440"/>
                <a:tab algn="l" pos="2925720"/>
                <a:tab algn="l" pos="3375000"/>
                <a:tab algn="l" pos="3824280"/>
                <a:tab algn="l" pos="4273560"/>
                <a:tab algn="l" pos="4722840"/>
                <a:tab algn="l" pos="5172120"/>
                <a:tab algn="l" pos="5621400"/>
                <a:tab algn="l" pos="6070680"/>
                <a:tab algn="l" pos="6519960"/>
                <a:tab algn="l" pos="6969240"/>
                <a:tab algn="l" pos="7418520"/>
                <a:tab algn="l" pos="7867800"/>
                <a:tab algn="l" pos="8317080"/>
                <a:tab algn="l" pos="8766000"/>
                <a:tab algn="l" pos="921528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80"/>
                </a:solidFill>
                <a:latin typeface="Verdana"/>
                <a:ea typeface="msmincho"/>
              </a:rPr>
              <a:t>What is its load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-216000">
              <a:lnSpc>
                <a:spcPct val="89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"/>
              <a:tabLst>
                <a:tab algn="l" pos="679320"/>
                <a:tab algn="l" pos="1128600"/>
                <a:tab algn="l" pos="1577880"/>
                <a:tab algn="l" pos="2027160"/>
                <a:tab algn="l" pos="2476440"/>
                <a:tab algn="l" pos="2925720"/>
                <a:tab algn="l" pos="3375000"/>
                <a:tab algn="l" pos="3824280"/>
                <a:tab algn="l" pos="4273560"/>
                <a:tab algn="l" pos="4722840"/>
                <a:tab algn="l" pos="5172120"/>
                <a:tab algn="l" pos="5621400"/>
                <a:tab algn="l" pos="6070680"/>
                <a:tab algn="l" pos="6519960"/>
                <a:tab algn="l" pos="6969240"/>
                <a:tab algn="l" pos="7418520"/>
                <a:tab algn="l" pos="7867800"/>
                <a:tab algn="l" pos="8317080"/>
                <a:tab algn="l" pos="8766000"/>
                <a:tab algn="l" pos="921528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80"/>
                </a:solidFill>
                <a:latin typeface="Verdana"/>
                <a:ea typeface="msmincho"/>
              </a:rPr>
              <a:t>What is the memory and swap usage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-216000">
              <a:lnSpc>
                <a:spcPct val="89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"/>
              <a:tabLst>
                <a:tab algn="l" pos="679320"/>
                <a:tab algn="l" pos="1128600"/>
                <a:tab algn="l" pos="1577880"/>
                <a:tab algn="l" pos="2027160"/>
                <a:tab algn="l" pos="2476440"/>
                <a:tab algn="l" pos="2925720"/>
                <a:tab algn="l" pos="3375000"/>
                <a:tab algn="l" pos="3824280"/>
                <a:tab algn="l" pos="4273560"/>
                <a:tab algn="l" pos="4722840"/>
                <a:tab algn="l" pos="5172120"/>
                <a:tab algn="l" pos="5621400"/>
                <a:tab algn="l" pos="6070680"/>
                <a:tab algn="l" pos="6519960"/>
                <a:tab algn="l" pos="6969240"/>
                <a:tab algn="l" pos="7418520"/>
                <a:tab algn="l" pos="7867800"/>
                <a:tab algn="l" pos="8317080"/>
                <a:tab algn="l" pos="8766000"/>
                <a:tab algn="l" pos="921528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80"/>
                </a:solidFill>
                <a:latin typeface="Verdana"/>
                <a:ea typeface="msmincho"/>
              </a:rPr>
              <a:t>NFS and network load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-216000">
              <a:lnSpc>
                <a:spcPct val="89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"/>
              <a:tabLst>
                <a:tab algn="l" pos="679320"/>
                <a:tab algn="l" pos="1128600"/>
                <a:tab algn="l" pos="1577880"/>
                <a:tab algn="l" pos="2027160"/>
                <a:tab algn="l" pos="2476440"/>
                <a:tab algn="l" pos="2925720"/>
                <a:tab algn="l" pos="3375000"/>
                <a:tab algn="l" pos="3824280"/>
                <a:tab algn="l" pos="4273560"/>
                <a:tab algn="l" pos="4722840"/>
                <a:tab algn="l" pos="5172120"/>
                <a:tab algn="l" pos="5621400"/>
                <a:tab algn="l" pos="6070680"/>
                <a:tab algn="l" pos="6519960"/>
                <a:tab algn="l" pos="6969240"/>
                <a:tab algn="l" pos="7418520"/>
                <a:tab algn="l" pos="7867800"/>
                <a:tab algn="l" pos="8317080"/>
                <a:tab algn="l" pos="8766000"/>
                <a:tab algn="l" pos="921528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80"/>
                </a:solidFill>
                <a:latin typeface="Verdana"/>
                <a:ea typeface="msmincho"/>
              </a:rPr>
              <a:t>Are the partitions full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-216000">
              <a:lnSpc>
                <a:spcPct val="89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"/>
              <a:tabLst>
                <a:tab algn="l" pos="679320"/>
                <a:tab algn="l" pos="1128600"/>
                <a:tab algn="l" pos="1577880"/>
                <a:tab algn="l" pos="2027160"/>
                <a:tab algn="l" pos="2476440"/>
                <a:tab algn="l" pos="2925720"/>
                <a:tab algn="l" pos="3375000"/>
                <a:tab algn="l" pos="3824280"/>
                <a:tab algn="l" pos="4273560"/>
                <a:tab algn="l" pos="4722840"/>
                <a:tab algn="l" pos="5172120"/>
                <a:tab algn="l" pos="5621400"/>
                <a:tab algn="l" pos="6070680"/>
                <a:tab algn="l" pos="6519960"/>
                <a:tab algn="l" pos="6969240"/>
                <a:tab algn="l" pos="7418520"/>
                <a:tab algn="l" pos="7867800"/>
                <a:tab algn="l" pos="8317080"/>
                <a:tab algn="l" pos="8766000"/>
                <a:tab algn="l" pos="921528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80"/>
                </a:solidFill>
                <a:latin typeface="Verdana"/>
                <a:ea typeface="msmincho"/>
              </a:rPr>
              <a:t>Are applications and services running properly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-216000">
              <a:lnSpc>
                <a:spcPct val="89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"/>
              <a:tabLst>
                <a:tab algn="l" pos="679320"/>
                <a:tab algn="l" pos="1128600"/>
                <a:tab algn="l" pos="1577880"/>
                <a:tab algn="l" pos="2027160"/>
                <a:tab algn="l" pos="2476440"/>
                <a:tab algn="l" pos="2925720"/>
                <a:tab algn="l" pos="3375000"/>
                <a:tab algn="l" pos="3824280"/>
                <a:tab algn="l" pos="4273560"/>
                <a:tab algn="l" pos="4722840"/>
                <a:tab algn="l" pos="5172120"/>
                <a:tab algn="l" pos="5621400"/>
                <a:tab algn="l" pos="6070680"/>
                <a:tab algn="l" pos="6519960"/>
                <a:tab algn="l" pos="6969240"/>
                <a:tab algn="l" pos="7418520"/>
                <a:tab algn="l" pos="7867800"/>
                <a:tab algn="l" pos="8317080"/>
                <a:tab algn="l" pos="8766000"/>
                <a:tab algn="l" pos="921528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80"/>
                </a:solidFill>
                <a:latin typeface="Verdana"/>
                <a:ea typeface="msmincho"/>
              </a:rPr>
              <a:t>How about ping latency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-216000">
              <a:lnSpc>
                <a:spcPct val="89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679320"/>
                <a:tab algn="l" pos="1128600"/>
                <a:tab algn="l" pos="1577880"/>
                <a:tab algn="l" pos="2027160"/>
                <a:tab algn="l" pos="2476440"/>
                <a:tab algn="l" pos="2925720"/>
                <a:tab algn="l" pos="3375000"/>
                <a:tab algn="l" pos="3824280"/>
                <a:tab algn="l" pos="4273560"/>
                <a:tab algn="l" pos="4722840"/>
                <a:tab algn="l" pos="5172120"/>
                <a:tab algn="l" pos="5621400"/>
                <a:tab algn="l" pos="6070680"/>
                <a:tab algn="l" pos="6519960"/>
                <a:tab algn="l" pos="6969240"/>
                <a:tab algn="l" pos="7418520"/>
                <a:tab algn="l" pos="7867800"/>
                <a:tab algn="l" pos="8317080"/>
                <a:tab algn="l" pos="8766000"/>
                <a:tab algn="l" pos="921528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80"/>
                </a:solidFill>
                <a:latin typeface="Verdana"/>
                <a:ea typeface="msmincho"/>
              </a:rPr>
              <a:t>Aggregated node statu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-216000">
              <a:lnSpc>
                <a:spcPct val="89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"/>
              <a:tabLst>
                <a:tab algn="l" pos="679320"/>
                <a:tab algn="l" pos="1128600"/>
                <a:tab algn="l" pos="1577880"/>
                <a:tab algn="l" pos="2027160"/>
                <a:tab algn="l" pos="2476440"/>
                <a:tab algn="l" pos="2925720"/>
                <a:tab algn="l" pos="3375000"/>
                <a:tab algn="l" pos="3824280"/>
                <a:tab algn="l" pos="4273560"/>
                <a:tab algn="l" pos="4722840"/>
                <a:tab algn="l" pos="5172120"/>
                <a:tab algn="l" pos="5621400"/>
                <a:tab algn="l" pos="6070680"/>
                <a:tab algn="l" pos="6519960"/>
                <a:tab algn="l" pos="6969240"/>
                <a:tab algn="l" pos="7418520"/>
                <a:tab algn="l" pos="7867800"/>
                <a:tab algn="l" pos="8317080"/>
                <a:tab algn="l" pos="8766000"/>
                <a:tab algn="l" pos="921528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80"/>
                </a:solidFill>
                <a:latin typeface="Verdana"/>
                <a:ea typeface="msmincho"/>
              </a:rPr>
              <a:t>Same info, but across groups of nod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Utopia"/>
              </a:rPr>
              <a:t>What Can it Do?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39800" y="2101680"/>
            <a:ext cx="4199040" cy="47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 lot, including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30200" indent="-3240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Service monitor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30200" indent="-3240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Alerts from SNMP trap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30200" indent="-3240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Monitoring redundanc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30200" indent="-3240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Detection of primary failure to avoid multiple like alert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30200" indent="-3240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Notifications via email, pager, etc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30200" indent="-3240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Notifications to individuals or defined group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30200" indent="-3240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Log inform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49800" y="2101680"/>
            <a:ext cx="4199040" cy="47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 databases to store histor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30200" indent="-3240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Graph generation from MRT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30200" indent="-3240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Very extensible via plug-ins, add-ons and local script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30200" indent="-3240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Can scale to large installa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30200" indent="-3240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Allows for redundant monitor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30200" indent="-3240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Aggregation of like-data across multiple node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30200" indent="-3240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Ability to escalate aler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30200" indent="-3240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Runs on multiple Unic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30200" indent="-3240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Licensed under GPL v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361040" y="6284880"/>
            <a:ext cx="836280" cy="7016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724280" y="1055520"/>
            <a:ext cx="719280" cy="5860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4751280" y="2668680"/>
            <a:ext cx="760680" cy="6728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65200" y="1620720"/>
            <a:ext cx="315720" cy="6969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5"/>
          <a:stretch/>
        </p:blipFill>
        <p:spPr>
          <a:xfrm>
            <a:off x="601560" y="477720"/>
            <a:ext cx="316080" cy="6969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6"/>
          <a:stretch/>
        </p:blipFill>
        <p:spPr>
          <a:xfrm>
            <a:off x="565200" y="2786040"/>
            <a:ext cx="315720" cy="6969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7"/>
          <a:stretch/>
        </p:blipFill>
        <p:spPr>
          <a:xfrm>
            <a:off x="628560" y="4075200"/>
            <a:ext cx="316080" cy="6969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8"/>
          <a:stretch/>
        </p:blipFill>
        <p:spPr>
          <a:xfrm>
            <a:off x="9097920" y="1881360"/>
            <a:ext cx="719280" cy="5857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9"/>
          <a:stretch/>
        </p:blipFill>
        <p:spPr>
          <a:xfrm>
            <a:off x="4675320" y="1998720"/>
            <a:ext cx="871560" cy="3729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10"/>
          <a:stretch/>
        </p:blipFill>
        <p:spPr>
          <a:xfrm>
            <a:off x="8597880" y="3341520"/>
            <a:ext cx="1330200" cy="573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1"/>
          <a:stretch/>
        </p:blipFill>
        <p:spPr>
          <a:xfrm>
            <a:off x="8785080" y="4792680"/>
            <a:ext cx="1019160" cy="4683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12"/>
          <a:stretch/>
        </p:blipFill>
        <p:spPr>
          <a:xfrm>
            <a:off x="6483240" y="6275520"/>
            <a:ext cx="852480" cy="7016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13"/>
          <a:stretch/>
        </p:blipFill>
        <p:spPr>
          <a:xfrm>
            <a:off x="2411280" y="6316560"/>
            <a:ext cx="857520" cy="701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14"/>
          <a:stretch/>
        </p:blipFill>
        <p:spPr>
          <a:xfrm>
            <a:off x="3184560" y="4106880"/>
            <a:ext cx="315720" cy="6969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15"/>
          <a:stretch/>
        </p:blipFill>
        <p:spPr>
          <a:xfrm>
            <a:off x="4743360" y="4138560"/>
            <a:ext cx="760680" cy="6732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16"/>
          <a:stretch/>
        </p:blipFill>
        <p:spPr>
          <a:xfrm>
            <a:off x="452520" y="4616280"/>
            <a:ext cx="779400" cy="6462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5041800" y="884160"/>
            <a:ext cx="1800" cy="204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110200" y="1619280"/>
            <a:ext cx="1440" cy="4222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124600" y="2340000"/>
            <a:ext cx="1440" cy="3538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16080" y="490680"/>
            <a:ext cx="1800" cy="46530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2084400" y="3033720"/>
            <a:ext cx="265752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06480" y="816120"/>
            <a:ext cx="125100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92080" y="1959120"/>
            <a:ext cx="125100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92080" y="3130560"/>
            <a:ext cx="127800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61920" y="4408560"/>
            <a:ext cx="120816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2071440" y="4437000"/>
            <a:ext cx="1160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503520" y="4437000"/>
            <a:ext cx="126360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799320" y="1809720"/>
            <a:ext cx="1440" cy="33606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811920" y="2163600"/>
            <a:ext cx="228600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6838560" y="3673440"/>
            <a:ext cx="179244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6811920" y="4994280"/>
            <a:ext cx="205272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11480" y="5973840"/>
            <a:ext cx="561816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027760" y="4762440"/>
            <a:ext cx="1440" cy="12240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753080" y="5973840"/>
            <a:ext cx="1440" cy="3538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10560" y="5973840"/>
            <a:ext cx="1440" cy="312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747880" y="5973840"/>
            <a:ext cx="1800" cy="3394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522760" y="2952720"/>
            <a:ext cx="127800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088040" y="1824120"/>
            <a:ext cx="1159200" cy="306360"/>
          </a:xfrm>
          <a:prstGeom prst="roundRect">
            <a:avLst>
              <a:gd name="adj" fmla="val 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msmincho"/>
              </a:rPr>
              <a:t>Check p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170840" y="4545000"/>
            <a:ext cx="1158840" cy="306360"/>
          </a:xfrm>
          <a:prstGeom prst="roundRect">
            <a:avLst>
              <a:gd name="adj" fmla="val 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msmincho"/>
              </a:rPr>
              <a:t>Check p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51200" y="7143840"/>
            <a:ext cx="2073240" cy="306360"/>
          </a:xfrm>
          <a:prstGeom prst="roundRect">
            <a:avLst>
              <a:gd name="adj" fmla="val 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msmincho"/>
              </a:rPr>
              <a:t>Web Client At NO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30120" y="5170320"/>
            <a:ext cx="1201680" cy="306720"/>
          </a:xfrm>
          <a:prstGeom prst="roundRect">
            <a:avLst>
              <a:gd name="adj" fmla="val 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msmincho"/>
              </a:rPr>
              <a:t>Web 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952720" y="4803840"/>
            <a:ext cx="897120" cy="441360"/>
          </a:xfrm>
          <a:prstGeom prst="roundRect">
            <a:avLst>
              <a:gd name="adj" fmla="val 35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msmincho"/>
              </a:rPr>
              <a:t>Gate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57680" y="0"/>
            <a:ext cx="3195360" cy="488880"/>
          </a:xfrm>
          <a:prstGeom prst="roundRect">
            <a:avLst>
              <a:gd name="adj" fmla="val 32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80"/>
                </a:solidFill>
                <a:latin typeface="Times New Roman"/>
                <a:ea typeface="msmincho"/>
              </a:rPr>
              <a:t>	</a:t>
            </a:r>
            <a:r>
              <a:rPr b="1" lang="en-GB" sz="4400" spc="-1" strike="noStrike">
                <a:solidFill>
                  <a:srgbClr val="000080"/>
                </a:solidFill>
                <a:latin typeface="Verdana"/>
                <a:ea typeface="msmincho"/>
              </a:rPr>
              <a:t>	</a:t>
            </a:r>
            <a:r>
              <a:rPr b="1" lang="en-GB" sz="4400" spc="-1" strike="noStrike">
                <a:solidFill>
                  <a:srgbClr val="000080"/>
                </a:solidFill>
                <a:latin typeface="Verdana"/>
                <a:ea typeface="msmincho"/>
              </a:rPr>
              <a:t>Sample Setu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7"/>
          <a:stretch/>
        </p:blipFill>
        <p:spPr>
          <a:xfrm>
            <a:off x="4361040" y="6284880"/>
            <a:ext cx="836280" cy="7016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18"/>
          <a:stretch/>
        </p:blipFill>
        <p:spPr>
          <a:xfrm>
            <a:off x="4751280" y="2668680"/>
            <a:ext cx="760680" cy="6728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19"/>
          <a:stretch/>
        </p:blipFill>
        <p:spPr>
          <a:xfrm>
            <a:off x="565200" y="1620720"/>
            <a:ext cx="315720" cy="696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0"/>
          <a:stretch/>
        </p:blipFill>
        <p:spPr>
          <a:xfrm>
            <a:off x="601560" y="477720"/>
            <a:ext cx="316080" cy="6969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1"/>
          <a:stretch/>
        </p:blipFill>
        <p:spPr>
          <a:xfrm>
            <a:off x="565200" y="2786040"/>
            <a:ext cx="315720" cy="6969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2"/>
          <a:stretch/>
        </p:blipFill>
        <p:spPr>
          <a:xfrm>
            <a:off x="628560" y="4075200"/>
            <a:ext cx="316080" cy="6969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3"/>
          <a:stretch/>
        </p:blipFill>
        <p:spPr>
          <a:xfrm>
            <a:off x="9097920" y="1881360"/>
            <a:ext cx="719280" cy="5857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4"/>
          <a:stretch/>
        </p:blipFill>
        <p:spPr>
          <a:xfrm>
            <a:off x="4675320" y="1998720"/>
            <a:ext cx="871560" cy="3729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5"/>
          <a:stretch/>
        </p:blipFill>
        <p:spPr>
          <a:xfrm>
            <a:off x="8597880" y="3341520"/>
            <a:ext cx="1330200" cy="5731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6"/>
          <a:stretch/>
        </p:blipFill>
        <p:spPr>
          <a:xfrm>
            <a:off x="8785080" y="4792680"/>
            <a:ext cx="1019160" cy="4683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7"/>
          <a:stretch/>
        </p:blipFill>
        <p:spPr>
          <a:xfrm>
            <a:off x="6483240" y="6275520"/>
            <a:ext cx="852480" cy="7016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8"/>
          <a:stretch/>
        </p:blipFill>
        <p:spPr>
          <a:xfrm>
            <a:off x="2411280" y="6316560"/>
            <a:ext cx="857520" cy="7016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9"/>
          <a:stretch/>
        </p:blipFill>
        <p:spPr>
          <a:xfrm>
            <a:off x="3184560" y="4106880"/>
            <a:ext cx="315720" cy="6969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0"/>
          <a:stretch/>
        </p:blipFill>
        <p:spPr>
          <a:xfrm>
            <a:off x="4743360" y="4138560"/>
            <a:ext cx="760680" cy="6732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1"/>
          <a:stretch/>
        </p:blipFill>
        <p:spPr>
          <a:xfrm>
            <a:off x="452520" y="4616280"/>
            <a:ext cx="779400" cy="6462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5041800" y="884160"/>
            <a:ext cx="1800" cy="204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10200" y="1619280"/>
            <a:ext cx="1440" cy="4222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124600" y="2340000"/>
            <a:ext cx="1440" cy="3538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116080" y="490680"/>
            <a:ext cx="1800" cy="46530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2084400" y="3033720"/>
            <a:ext cx="265752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06480" y="816120"/>
            <a:ext cx="125100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92080" y="1959120"/>
            <a:ext cx="125100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92080" y="3130560"/>
            <a:ext cx="127800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61920" y="4408560"/>
            <a:ext cx="120816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2071440" y="4437000"/>
            <a:ext cx="1160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503520" y="4437000"/>
            <a:ext cx="126360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799320" y="1809720"/>
            <a:ext cx="1440" cy="33606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6811920" y="2163600"/>
            <a:ext cx="228600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6838560" y="3673440"/>
            <a:ext cx="179244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6811920" y="4994280"/>
            <a:ext cx="205272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211480" y="5973840"/>
            <a:ext cx="561816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027760" y="4762440"/>
            <a:ext cx="1440" cy="12240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753080" y="5973840"/>
            <a:ext cx="1440" cy="3538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910560" y="5973840"/>
            <a:ext cx="1440" cy="312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747880" y="5973840"/>
            <a:ext cx="1800" cy="3394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522760" y="2952720"/>
            <a:ext cx="127800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937200" y="3279600"/>
            <a:ext cx="1581480" cy="306720"/>
          </a:xfrm>
          <a:prstGeom prst="roundRect">
            <a:avLst>
              <a:gd name="adj" fmla="val 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msmincho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msmincho"/>
              </a:rPr>
              <a:t>Check bandwid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751200" y="7143840"/>
            <a:ext cx="2073240" cy="306360"/>
          </a:xfrm>
          <a:prstGeom prst="roundRect">
            <a:avLst>
              <a:gd name="adj" fmla="val 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msmincho"/>
              </a:rPr>
              <a:t>Web Client At 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952720" y="4803840"/>
            <a:ext cx="897120" cy="441360"/>
          </a:xfrm>
          <a:prstGeom prst="roundRect">
            <a:avLst>
              <a:gd name="adj" fmla="val 35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msmincho"/>
              </a:rPr>
              <a:t>Gate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376360" y="2422440"/>
            <a:ext cx="2030400" cy="366840"/>
          </a:xfrm>
          <a:prstGeom prst="roundRect">
            <a:avLst>
              <a:gd name="adj" fmla="val 43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msmincho"/>
              </a:rPr>
              <a:t>Check host al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913120" y="3048120"/>
            <a:ext cx="315720" cy="1440"/>
          </a:xfrm>
          <a:prstGeom prst="line">
            <a:avLst/>
          </a:prstGeom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1370160" y="3112920"/>
            <a:ext cx="212400" cy="20880"/>
          </a:xfrm>
          <a:prstGeom prst="line">
            <a:avLst/>
          </a:prstGeom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278000" y="4404960"/>
            <a:ext cx="522360" cy="20520"/>
          </a:xfrm>
          <a:prstGeom prst="line">
            <a:avLst/>
          </a:prstGeom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2098440" y="3508200"/>
            <a:ext cx="20520" cy="292320"/>
          </a:xfrm>
          <a:prstGeom prst="line">
            <a:avLst/>
          </a:prstGeom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880240" y="2936520"/>
            <a:ext cx="330120" cy="19080"/>
          </a:xfrm>
          <a:prstGeom prst="line">
            <a:avLst/>
          </a:prstGeom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7335720" y="3655800"/>
            <a:ext cx="425520" cy="20520"/>
          </a:xfrm>
          <a:prstGeom prst="line">
            <a:avLst/>
          </a:prstGeom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7459560" y="4989240"/>
            <a:ext cx="507960" cy="20520"/>
          </a:xfrm>
          <a:prstGeom prst="line">
            <a:avLst/>
          </a:prstGeom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432560" y="2163600"/>
            <a:ext cx="425520" cy="1800"/>
          </a:xfrm>
          <a:prstGeom prst="line">
            <a:avLst/>
          </a:prstGeom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27760" y="3755880"/>
            <a:ext cx="1800" cy="422280"/>
          </a:xfrm>
          <a:prstGeom prst="line">
            <a:avLst/>
          </a:prstGeom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2116080" y="4146480"/>
            <a:ext cx="1800" cy="292320"/>
          </a:xfrm>
          <a:prstGeom prst="line">
            <a:avLst/>
          </a:prstGeom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2128680" y="2417400"/>
            <a:ext cx="14400" cy="306360"/>
          </a:xfrm>
          <a:prstGeom prst="line">
            <a:avLst/>
          </a:prstGeom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1355760" y="1946160"/>
            <a:ext cx="295200" cy="1800"/>
          </a:xfrm>
          <a:prstGeom prst="line">
            <a:avLst/>
          </a:prstGeom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 flipV="1">
            <a:off x="2111040" y="1166760"/>
            <a:ext cx="20520" cy="292320"/>
          </a:xfrm>
          <a:prstGeom prst="line">
            <a:avLst/>
          </a:prstGeom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1396800" y="798120"/>
            <a:ext cx="377640" cy="20520"/>
          </a:xfrm>
          <a:prstGeom prst="line">
            <a:avLst/>
          </a:prstGeom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6799320" y="2311560"/>
            <a:ext cx="1440" cy="304560"/>
          </a:xfrm>
          <a:prstGeom prst="line">
            <a:avLst/>
          </a:prstGeom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5124600" y="2351160"/>
            <a:ext cx="27000" cy="169920"/>
          </a:xfrm>
          <a:prstGeom prst="line">
            <a:avLst/>
          </a:prstGeom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5124600" y="1657440"/>
            <a:ext cx="1440" cy="264960"/>
          </a:xfrm>
          <a:prstGeom prst="line">
            <a:avLst/>
          </a:prstGeom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030320" y="2803680"/>
            <a:ext cx="853920" cy="247320"/>
          </a:xfrm>
          <a:prstGeom prst="roundRect">
            <a:avLst>
              <a:gd name="adj" fmla="val 63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msmincho"/>
              </a:rPr>
              <a:t>Check d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003320" y="1606680"/>
            <a:ext cx="912960" cy="247680"/>
          </a:xfrm>
          <a:prstGeom prst="roundRect">
            <a:avLst>
              <a:gd name="adj" fmla="val 63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msmincho"/>
              </a:rPr>
              <a:t>Check di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06480" y="298440"/>
            <a:ext cx="1254240" cy="247680"/>
          </a:xfrm>
          <a:prstGeom prst="roundRect">
            <a:avLst>
              <a:gd name="adj" fmla="val 63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msmincho"/>
              </a:rPr>
              <a:t>Check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46600" y="1604880"/>
            <a:ext cx="1144440" cy="306360"/>
          </a:xfrm>
          <a:prstGeom prst="roundRect">
            <a:avLst>
              <a:gd name="adj" fmla="val 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msmincho"/>
              </a:rPr>
              <a:t>Check 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214200" y="184320"/>
            <a:ext cx="9690120" cy="644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39440" y="339480"/>
            <a:ext cx="860580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Nagios Configuratio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860400" y="965160"/>
            <a:ext cx="8447040" cy="5713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ervey Allen</cp:lastModifiedBy>
  <cp:revision>0</cp:revision>
  <dc:subject/>
  <dc:title/>
</cp:coreProperties>
</file>