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-360" y="-6856560"/>
            <a:ext cx="360" cy="151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-334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6736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360" y="4163400"/>
            <a:ext cx="776736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416340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4880" y="416340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98072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360" y="416340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0560" y="416340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16340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67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6736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79080"/>
            <a:ext cx="776592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360" y="416340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4880" y="416340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360" y="4163400"/>
            <a:ext cx="776736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6736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 fontScale="98000"/>
          </a:bodyPr>
          <a:p>
            <a:pPr marL="367200" indent="-3330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9200" indent="-27684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268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5088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872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9872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9872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42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Lucida Grande"/>
              </a:rPr>
              <a:t>Flow tools</a:t>
            </a:r>
            <a:endParaRPr b="0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84320" y="4449600"/>
            <a:ext cx="341640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1609560"/>
            <a:ext cx="57358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23960" indent="-282600" algn="ctr">
              <a:lnSpc>
                <a:spcPct val="97000"/>
              </a:lnSpc>
              <a:tabLst>
                <a:tab algn="l" pos="0"/>
                <a:tab algn="l" pos="7239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7074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74760" indent="-339840" algn="ctr">
              <a:lnSpc>
                <a:spcPct val="101000"/>
              </a:lnSpc>
              <a:tabLst>
                <a:tab algn="l" pos="0"/>
                <a:tab algn="l" pos="7239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7074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marL="374760" indent="-339840" algn="ctr">
              <a:lnSpc>
                <a:spcPct val="101000"/>
              </a:lnSpc>
              <a:tabLst>
                <a:tab algn="l" pos="0"/>
                <a:tab algn="l" pos="7239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7074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marL="374760" indent="-339840" algn="ctr">
              <a:lnSpc>
                <a:spcPct val="96000"/>
              </a:lnSpc>
              <a:tabLst>
                <a:tab algn="l" pos="0"/>
                <a:tab algn="l" pos="7239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7074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filte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ilter flows based on port, protocol, ASN, IP address, ToS bits, TCP bits, and ta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0720" y="3505320"/>
            <a:ext cx="869328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g1% flow-cat . | flow-filter -P119 | flow-print | head -10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rcIP            dstIP            prot  srcPort  dstPort  octets      packet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55.52.46.50     164.107.115.4    6     33225    119      114         2   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8.223.220.29   129.137.4.135    6     52745    119      1438382     1022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55.52.46.50     164.107.115.4    6     33225    119      374         6   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64.107.115.4    192.58.107.160   6     60141    119      5147961     8876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8.223.220.29   129.137.4.135    6     52745    119      1356325     965 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8.223.220.29   129.137.4.135    6     52714    119      561016      398 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0.207.244.18   129.22.8.64      6     36033    119      30194       121 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55.52.46.50     164.107.115.4    6     33225    119      130         2   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8.108.1.146    129.137.4.135    6     17800    119      210720652   216072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spli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plit flow files into smaller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ypically used with flow-stat and graphing.  For example if flow files are 1 hour and want 5 minute data points in graph, flow-split can take the 1 hour flow files and generate 5 minute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ta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dds a tag field to flows based on IP exporter, IP prefix, Autonomous System, or next ho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ike flow-filter used with other to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ed to manage groups of prefixes or ASN’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heade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splay meta information in flow fi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302480" y="2438280"/>
            <a:ext cx="616932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g1:% flow-header &lt; ft-v05.2002-01-21.093345-05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de:                 normal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capture hostname:     eng1.oar.ne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exporter IP address:  0.0.0.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capture start:        Mon Jan 21 09:33:45 2002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capture end:          Mon Jan 21 09:45:01 2002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capture period:       676 second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mpress:             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byte order:           littl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stream version:       3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export version:       5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lost flows:           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rrupt packets:      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sequencer resets:     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capture flows:        34137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st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enerates reports from flow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utput is readable and easily imported into graphing programs (gnuplot, etc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 Address, IP address pairs, ports, packets, bytes, interfaces, next hop, Autonomous System, ToS bits, exporter, and ta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stat - summar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/>
          <p:nvPr/>
        </p:nvSpPr>
        <p:spPr>
          <a:xfrm>
            <a:off x="1302480" y="2133720"/>
            <a:ext cx="5681880" cy="28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Flows                     : 2423673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ctets                    : 7126680661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Packets                   : 109298006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Time (1/1000 secs) (flows): 289031186084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uration of data  (realtime)    : 864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uration of data (1/1000 secs)  : 88352112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flow time (1/1000 secs) : 11925.00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packet size (octets)    : 652.00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flow size (octets)      : 2940.00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packets per flow        : 4.00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flows / second (flow)   : 274.3201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flows / second (real)   : 280.5177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Kbits / second (flow)   : 6452.988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Kbits / second (real)   : 6598.7781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stat – Source AS % Tot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/>
          <p:nvPr/>
        </p:nvSpPr>
        <p:spPr>
          <a:xfrm>
            <a:off x="1151640" y="1828800"/>
            <a:ext cx="641340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src AS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SFNETTEST14-AS  6.430    6.582    7.019    5.693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NET-AS-1      2.914    4.417    3.529    3.566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ONET            0.600    4.052    2.484    1.979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PITT-AS         1.847    3.816    2.697    2.552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CERT          1.786    2.931    2.391    1.955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HIOU            3.961    2.601    2.140    1.655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MU-ROUTER       1.962    2.577    2.349    2.075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TONU-AS       1.503    2.126    1.665    1.914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RDUE           2.185    1.994    2.157    2.507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FORD         2.124    1.950    2.270    2.636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               1.809    1.919    1.652    1.532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MN-AGS-NET-AS   1.612    1.895    1.788    1.938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ISQ-AS          1.086    1.849    1.378    1.367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NN-STATE       2.845    1.641    2.666    2.19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IT-ASN          0.796    1.601    1.414    0.83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stat – Dest AS % Tot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/>
          <p:nvPr/>
        </p:nvSpPr>
        <p:spPr>
          <a:xfrm>
            <a:off x="1000800" y="1631880"/>
            <a:ext cx="6413400" cy="38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dst AS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SFNETTEST14-AS  6.202    9.564    8.005    6.762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NN-STATE       2.037    3.774    2.712    2.153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CERT          2.628    3.133    2.888    2.326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NET-AS-1      2.818    2.434    2.906    3.00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FORD         1.915    2.360    2.122    2.195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NET            2.508    2.319    2.150    2.485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0.831    2.187    2.431    2.91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FN-WIN-AS       2.349    2.099    1.938    2.359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MU-ROUTER       1.383    2.090    1.972    1.96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ONET            0.537    2.067    1.699    1.397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RDUE           2.029    1.934    1.983    2.177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MN-AGS-NET-AS   1.608    1.784    1.664    1.681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PITT-AS         1.507    1.707    2.067    2.288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T-GATEWAYS     0.677    1.425    1.175    0.806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IT-ASN          0.644    1.313    1.243    0.868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DIANA-AS       0.899    1.285    0.996    0.781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stat – Src/Dest AS % Tot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/>
          <p:nvPr/>
        </p:nvSpPr>
        <p:spPr>
          <a:xfrm>
            <a:off x="281160" y="1905120"/>
            <a:ext cx="88628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src AS          dst AS   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ORGIA-TECH      PENN-STATE        0.030    0.965    0.459    0.071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WU-AS            0                 0.008    0.734    0.379    0.17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ONET             CONCERT           0.064    0.698    0.438    0.29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CLA              NSFNETTEST14-AS   0.037    0.568    0.269    0.111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CERT           UONET             0.052    0.543    0.364    0.221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CNET-AS          MIT-GATEWAYS      0.019    0.538    0.274    0.134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ONET             0                 0.015    0.536    0.318    0.20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T-GATEWAYS      STANFORD          0.032    0.477    0.245    0.073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NET-AS-1       NSFNETTEST14-AS   0.140    0.451    0.263    0.159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ONET             PENN-STATE        0.019    0.439    0.200    0.063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AA-AS           NOAA-FSL          0.018    0.438    0.255    0.031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NET             UONET             0.032    0.410    0.189    0.188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SFNETTEST14-AS   UC-DOM            0.022    0.365    0.244    0.081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ALY-AS          UONET             0.016    0.358    0.228    0.117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SFNETTEST14-AS   CONCERT           0.322    0.349    0.335    0.228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ONET             ITALY-AS          0.022    0.349    0.210    0.13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dsca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820360" cy="56340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oS detection / network scanning to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ag hosts which have flows to many other ho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ag hosts which are using a large number of TCP/UDP por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s better on smaller networks or with flow-filter to limit traffic.  For example filter TCP port 25 to detect hosts infected with e-mail w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too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45548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 fontScale="99000"/>
          </a:bodyPr>
          <a:p>
            <a:pPr marL="455760" indent="-421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llection of programs to post process Cisco NetFlow compatible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ritten in C, designed to be fast (scales to large installation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cludes library (ftlib) for custom app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stallation with configure;make;make install on most platforms (FreeBSD, Linux, Solaris)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ge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5588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bugging tool to generate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3520" y="2743200"/>
            <a:ext cx="90954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g1:% flow-gen -V8.1 | flow-print | head -1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cAS  dstAS  in     out    flows       octets      packets   durati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65280  0      65280  2           1           1         4294901760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65281  1      65281  4           2           2         4294901760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65282  2      65282  6           3           3         4294901760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65283  3      65283  8           4           4         4294901760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65284  4      65284  10          5           5         4294901760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65285  5      65285  12          6           6         4294901760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65286  6      65286  14          7           7         4294901760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65287  7      65287  16          8           8         4294901760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65288  8      65288  18          9           9         4294901760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sen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ransmit flow files with NetFlow protocol to another coll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n be used to take flow-tools files and send them to other NetFlow compatible coll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87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receiv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ike flow-capture but does not manage disk space.  Output is to standard out and can be used directly with other flow-tools pro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ypically used for debugg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82800" y="4267080"/>
            <a:ext cx="860796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g1:% flow-receive 0/0/5555 | flow-print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-receive: New exporter: time=1011652474 src_ip=199.18.112.11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st_ip=199.18.97.102 d_version=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rcPrefix           srcAS  dstPrefix           dstAS  input  output flows 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43.105/16          600    128.9/16            4      48     25     1    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40.141/16          600    150.216/16          81     48     25     4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2.235/16          17135  130.49/17           4130   38     25     25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1.123/16          11050  129.59/16           7212   42     25     1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6.21/16           600    128.239/16          11975  48     25     2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9.218/16          600    128.255/16          3676   48     25     1    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impor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mport flows from other formats into flow-to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urrently supports ASCII and cflowd forma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expor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xport flows from flow-tools files to other forma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urrently supports ASCII and cflowd forma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CII output can be used with perl or other scripting languages (with a performance penal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xl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ranslate flows among NetFlow ver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riginally intended for use with Catalyst switches since they export some flows in version 7 and others in version 5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ront End applic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ow-tools is good at collecting raw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may need additional tools to generate customiz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l applications are very popul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owscan.p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flow.p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Grapher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ration with RRDTool, MRTG etc. makes it more use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 fontScale="99000"/>
          </a:bodyPr>
          <a:p>
            <a:pPr marL="455760" indent="-421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-tools: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www.splintered.net/sw/flow-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 Applications </a:t>
            </a:r>
            <a:r>
              <a:rPr b="0" lang="en-GB" sz="2400" spc="-1" strike="noStrike">
                <a:solidFill>
                  <a:srgbClr val="000080"/>
                </a:solidFill>
                <a:latin typeface="Lucida Grande"/>
                <a:ea typeface="Lucida Grande"/>
              </a:rPr>
              <a:t>http://www.inmon.com/technology/netflowapps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 HOW-TO</a:t>
            </a:r>
            <a:br>
              <a:rPr sz="3200"/>
            </a:b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www.linuxgeek.org/netflow-howto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ETF standards effort:</a:t>
            </a:r>
            <a:br>
              <a:rPr sz="3200"/>
            </a:br>
            <a:r>
              <a:rPr b="0" lang="en-GB" sz="2400" spc="-1" strike="noStrike">
                <a:solidFill>
                  <a:srgbClr val="000080"/>
                </a:solidFill>
                <a:latin typeface="Lucida Grande"/>
                <a:ea typeface="Lucida Grande"/>
              </a:rPr>
              <a:t>http://www.ietf.org/html.charters/ipfix-charter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1980720"/>
            <a:ext cx="8459640" cy="52117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bilene NetFlow page</a:t>
            </a:r>
            <a:br>
              <a:rPr sz="3200"/>
            </a:b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abilene-netflow.itec.oar.net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-tools mailing list:                     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flow-tools@splintered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isco Centric Open Source Community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cosi-nms.sourceforge.net/related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captu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74640"/>
            <a:ext cx="7772400" cy="46944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 fontScale="99000"/>
          </a:bodyPr>
          <a:p>
            <a:pPr marL="455760" indent="-421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llect NetFlow exports and stores to di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uilt in compr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nages disk space by expiring older flow files at configurable lim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tects lost flows by missing sequence numbers and stores with flow meta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fanou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plicate NetFlow UDP streams from one source to many destin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tination may be a multicast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expi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xpire (remove) old flow files based on disk u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ame functionality built in to flow-cap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ed when managing disk space in a distributed enviro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ollector Placement and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 is UDP so the collector should ideally be directly connected to the router to minimize packet loss and IP spoofing ris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 flow control.  Undersized collector will drop flows.  Monitor netstat –s | grep buf and configure syslog so dropped flows will be logg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67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prin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6160" y="936360"/>
            <a:ext cx="7315200" cy="7189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matted output of flow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1514520"/>
            <a:ext cx="914400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g1:% flow-print &lt; ft-v05.2002-01-21.093345-0500 | head -15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cIP            dstIP            prot  srcPort  dstPort  octets packet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1.238.205.199  194.210.13.1     6     6346     40355    221         5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2.5.110.20     128.195.186.5    17    57040    33468    40          1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8.146.1.7      194.85.127.69    17    53       53       64          1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3.170.62.114   132.235.156.242  6     1453     1214     192         4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243.5.160    192.129.25.10    6     80       3360     654         7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2.235.156.242  193.170.62.114   6     1214     1453     160         4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0.206.43.51    130.101.99.107   6     3226     80       96          2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6.244.141.3    128.163.62.17    6     35593    80       739         10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6.244.141.3    128.163.62.17    6     35594    80       577         6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2.33.84.160    132.235.152.47   6     1447     1214     192         4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2.235.157.187  164.58.150.166   6     1214     56938    81          2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9.1.246.97     152.94.20.214    6     4541     6346     912         10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2.235.152.47   212.33.84.160    6     1214     1447     160         4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0.237.131.52   130.101.9.20     6     1246     80       902         15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8880" y="-324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c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72720"/>
            <a:ext cx="7772400" cy="33433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cat many flow files or directories of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71280" y="202104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g1:% l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t-v05.2002-01-21.160001-0500   ft-v05.2002-01-21.170001-05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t-v05.2002-01-21.161501-0500   ft-v05.2002-01-21.171501-05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t-v05.2002-01-21.163001-0500   ft-v05.2002-01-21.173001-05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t-v05.2002-01-21.164501-0500   tmp-v05.2002-01-21.174501-050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g1:% flow-cat . | flow-prin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cIP            dstIP            prot  srcPort  dstPort  octets packet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8.26.220.46    192.5.110.20     17    62242    33456    40          1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3.105.55.23    18.123.66.15     17    41794    41794    40          1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9.15.134.66    164.107.69.33    6     1214     2222     4500        3  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2.235.170.19   152.30.96.188    6     6346     1475     128         3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merg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-merge is similar to flow-cat except it maintains relative ordering of flows when combining the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ypically used when combining flows from multiple collec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