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33440" y="1006560"/>
            <a:ext cx="5097600" cy="34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011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move the slid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0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5208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0360" y="4537800"/>
            <a:ext cx="935208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2680" y="1963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0360" y="4537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2680" y="4537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30110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2240" y="1963800"/>
            <a:ext cx="30110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84480" y="1963800"/>
            <a:ext cx="30110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0360" y="4537800"/>
            <a:ext cx="30110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2240" y="4537800"/>
            <a:ext cx="30110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84480" y="4537800"/>
            <a:ext cx="30110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60360" y="1963800"/>
            <a:ext cx="9352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80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52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45637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2680" y="1963800"/>
            <a:ext cx="45637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59968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8080" indent="-20808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680" y="1963800"/>
            <a:ext cx="45637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60360" y="4537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45637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63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2680" y="4537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63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0360" y="4537800"/>
            <a:ext cx="935208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5520" y="155520"/>
            <a:ext cx="9769680" cy="13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edit the title text forma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360" y="1963800"/>
            <a:ext cx="9352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Click to edit the outline text format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Second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2" marL="892080" indent="-21276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Third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3" marL="1719360" indent="-20808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Fourth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4" marL="2151000" indent="-20952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Fifth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5" marL="2151000" indent="-20952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Sixth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6" marL="2151000" indent="-20952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Seventh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1619280"/>
            <a:ext cx="9360000" cy="144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15880" y="1314360"/>
            <a:ext cx="8772480" cy="59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APRICOT 2008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208080" indent="-208080" algn="ctr">
              <a:lnSpc>
                <a:spcPct val="101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cccccc"/>
              </a:solidFill>
              <a:latin typeface="Utopia"/>
            </a:endParaRPr>
          </a:p>
          <a:p>
            <a:pPr marL="208080" indent="-208080" algn="ctr">
              <a:lnSpc>
                <a:spcPct val="101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Taipei, Taiwan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cccccc"/>
              </a:solidFill>
              <a:latin typeface="Utopia"/>
            </a:endParaRPr>
          </a:p>
          <a:p>
            <a:pPr marL="208080" indent="-208080" algn="ctr">
              <a:lnSpc>
                <a:spcPct val="97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February 20-24, 2008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Cisco configuration elelement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24320" y="5384880"/>
            <a:ext cx="341604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112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SNMP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5352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In config mode: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snmp-server community xxxxxxxxx RW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snmp-server community apric0t08 RO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snmp-server location Taipei, room 403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snmp-server enable traps config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snmp-server enable traps envmon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snmp-server enable traps config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snmp-server enable traps syslog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snmp-server host xxx (see cisco doc)</a:t>
            </a: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‏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112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CDP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5352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Cisco Discovery Protoco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Normally enabled by default nowaday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Otherwise, enabled with ”cdp enable”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tcpdump and tools like cdpr will show you CDP announcement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Overview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6000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Basic things that we need to make sure are configured on a Cisco router (and switch) to do proper network management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These apply to other network equipment manufacturers of course, and to servers and workstation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112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Element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5352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Hostname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hostname of the device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SH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enable secure shel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DNS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domain name lookup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NTP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time synchronization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yslog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yslog message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NMP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NMP configuration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NMP traps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and where to send trap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CDP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Cisco discovery protoco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112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Hostnam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5352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Use the FQDN preferably.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In config mode: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hostname gw|sw-XYZ[.domain.name]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112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DNS configuration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5352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Config mode:</a:t>
            </a:r>
            <a:br>
              <a:rPr sz="3000"/>
            </a:b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ip domain-name mgmt.conference.apricot.net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ip name-server 169.223.2.2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112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NTP + time configuration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53520" cy="69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In config mode: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ntp server pool.ntp.org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clock timezone CWT 8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If needed: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clock summer-time XXX recurring last Sun Mar 2:00 last Sun Oct 3:00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Verify: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show clock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112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SSH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53520" cy="68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Only crypto version of IOS/CatOS have support for SSH – there are export restrictions...  In config mode: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aaa new-model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crypto key generate rsa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username inst secret 0 xxxxxxxxx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... above is required to be allowed to enable SSH.  Verify creation with: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sh crypto key mypubkey  rsa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Use at least 768 bit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112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SSH (2)</a:t>
            </a: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‏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5352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Enforce ssh (disabling telnet) on vty lines: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host</a:t>
            </a: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# conf t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host(config)# line vty 0 4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host(config-line)# transport input ssh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^Z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host#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SH is now enabled, and the telnet disabled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112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Syslog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5352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8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In config mode: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logging noc.mgmt.conference.apricot.net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logging facility local5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logging trap debugging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   Track E0 AfNOG workshop April 23-27 2007 Abuja, Nigeria    </dc:title>
</cp:coreProperties>
</file>