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mailto:nsrc@APRICO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nsrc@APRICOT</a:t>
            </a:r>
            <a:r>
              <a:rPr b="0" i="1" lang="en-GB" sz="900" spc="-1" strike="noStrike">
                <a:solidFill>
                  <a:srgbClr val="000000"/>
                </a:solidFill>
                <a:latin typeface="Verdana"/>
              </a:rPr>
              <a:t> 2008</a:t>
            </a:r>
            <a:br>
              <a:rPr sz="900"/>
            </a:br>
            <a:r>
              <a:rPr b="0" i="1" lang="en-GB" sz="900" spc="-1" strike="noStrike">
                <a:solidFill>
                  <a:srgbClr val="000000"/>
                </a:solidFill>
                <a:latin typeface="Verdana"/>
              </a:rPr>
              <a:t>Taipei, Taiw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ackports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buntu.com/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-11160"/>
            <a:ext cx="929304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Utopia"/>
              </a:rPr>
              <a:t>Ubuntu Linux Server </a:t>
            </a:r>
            <a:r>
              <a:rPr b="1" i="1" lang="en-GB" sz="4800" spc="-1" strike="noStrike">
                <a:solidFill>
                  <a:srgbClr val="000000"/>
                </a:solidFill>
                <a:latin typeface="Utopia"/>
              </a:rPr>
              <a:t>Structure and Config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860480"/>
            <a:ext cx="860724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APRICO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Network Managemen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February 20 – Taipei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83120" y="6323040"/>
            <a:ext cx="20905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6680" y="2430360"/>
            <a:ext cx="525780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ke and GC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installed by default.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8,500+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get “apt-get install build-essentia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staller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really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nts to be on the 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our language/location choices determine which Ubuntu mirror will be used at inst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 is discouraged by default and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sudo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is used instea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 can do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apt-get dist-upgrad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 to move between major and minor rele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urces in /etc/apt/sources.list (how you install from cd/dvd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440" y="1956960"/>
            <a:ext cx="8605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fines what is available to you – i.e. where apt will look. There are four major categor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Ubuntu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Deb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42880" y="4343400"/>
            <a:ext cx="30924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mult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13360" y="4340160"/>
            <a:ext cx="3414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577440"/>
            <a:ext cx="88264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Ubuntu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re install of Ubun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lly supported by Ubun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reely redistributable and unencumbered, but may contain binar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restri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only used software, but is not licensed as completely fre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upported by Ubuntu as best as possi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s binary drivers for specific hardwa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en source versions used fir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unive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ains remaining open source software that may be available under “less open license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ilt against libraries and tools in “main”, thus it should install and be st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 guarantee of regular updates, but they are provided as made avail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multive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ains software that is “not fre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 must determine if you meet licensing requir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nsupported and updates/upgrades are not provid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“at your own risk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the Reality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“simple” servers “main” and “restricted” are enoug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servers with more complex configurations (like in this class), then “universe” is a must and “multiverse” may be needed as we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ability: you must pay attention to multiverse installed softwa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dditional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n some occasions you may need to add third-party repositories for specific software. These may move to multiverse at some poi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PT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E emulator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your author uses for testing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dditional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ack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backports.org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e careful with these. Newer software that is “backported” to run on older versions of Ubuntu (or Debian...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n cause problems if you wish to do a distribution upgra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What's Our Goal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8088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bit of Debian &amp; Ubuntu philosoph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fferences from the Red Hat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ckag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bian's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philoso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ols you may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stalling your environ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w the OS and services start/st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40640" y="3452760"/>
            <a:ext cx="152100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Repository Philosoph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0" y="19684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Ubuntu 7x vs. Deb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ndamental change in philosoph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refox, Thunderbird, OpenOffice, kernel,  proprietary binary drivers, etc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buntu repository vs. Debian for Firef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 vs. “iceweasel” now in stable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http://web.glandium.org/blog/?p=9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buntu licens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pecifying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/etc/apt/sources.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'll hand edit this file. If you use a GUI, then Synaptic can do this for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file contains a number of additional item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nderstanding the configuration is critical to understanding your confi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/etc/apt/sources.lis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800" y="1957320"/>
            <a:ext cx="8663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ocation: i.e. local mirrors, cd/dvd-rom, local server (noc in classroom or country-specific server), ftp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curity update 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rd-party 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ck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ritical Read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1957320"/>
            <a:ext cx="8663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an apt-g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an sources.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me people like aptitude. That's fine, but watch out for dependency issue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eta Packag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800" y="1957320"/>
            <a:ext cx="89438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nnoying to new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vide all packages for sub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itial documentation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https://help.ubuntu.com/community/Meta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ild-essenti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ibc, g++, gcc, mak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buntu-deskto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xorg, gnome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server-xorg-video-int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re's more..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1849320"/>
            <a:ext cx="88470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t, hopefully enough to get us started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Some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ww.ubuntu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untuforums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ww.debian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untuguid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en.wikipedia.org/wiki/Deb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en.wikipedia.org/wiki/Ubuntu_(Linux_distribution)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GIYF (Google Is Your Friend)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Packages &amp; Exercis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440" y="1849320"/>
            <a:ext cx="8847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'll reinforce some of these concepts using exercises and by installing Ubuntu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Some Practical Matter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Please do not change the root or inst passwor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stions are encouraged :-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Utopia"/>
              </a:rPr>
              <a:t>Who We Think We Are Teaching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520" y="2065320"/>
            <a:ext cx="64548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 class that has already experienced or used Linux or UNIX in the real worl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e're assuming an intermediate to advanced level of knowledg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Are we right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29560" y="3413160"/>
            <a:ext cx="324936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Some Philosoph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bian's conservative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Very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fferent from Fedora Co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leases and 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buntu's benefactor: Mark Shuttle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ktop vs. Server vs. LTS ver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connection with Deb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tricted software and Ubun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Ubuntu           Debian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800" y="1993680"/>
            <a:ext cx="41990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arty Wartho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ary Hedgeho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ezy Badg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pper Drake*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dgy Ef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isty Faw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utsy Gibb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rdy Heron**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.04</a:t>
            </a:r>
            <a:br>
              <a:rPr sz="2400"/>
            </a:br>
            <a:br>
              <a:rPr sz="24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*6.06 is “LTS”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**8.04 is “LTS”, Planned for April 2008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89080" y="1957320"/>
            <a:ext cx="3435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zz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m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n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at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od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rg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ch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nn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814320" y="1415880"/>
            <a:ext cx="8910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ease N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Ver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ease Name   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7440" y="1839960"/>
            <a:ext cx="1440" cy="487512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000" y="1838160"/>
            <a:ext cx="7658280" cy="18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The World of Ubuntu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2101680"/>
            <a:ext cx="86072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art here: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ubuntu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Gutsy Gibbon” 7.10 (18 month support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Dapper Drake“ 6.06 LTS (5 years support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Desk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Current are 6.06 LTS and 7.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ubuntu (KDE), Edubuntu (Educational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ftware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this is what we'll use)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-ca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nap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ta-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posit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artup scri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/etc/init.d/   (System V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on install services ru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ling serv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date-rc.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vconf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ccon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c-conf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