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75863" cy="7562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0728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0720" y="1260360"/>
            <a:ext cx="88185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20720" y="3866760"/>
            <a:ext cx="88185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0720" y="1260360"/>
            <a:ext cx="43034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9800" y="1260360"/>
            <a:ext cx="43034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20720" y="3866760"/>
            <a:ext cx="43034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9800" y="3866760"/>
            <a:ext cx="43034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0720" y="1260360"/>
            <a:ext cx="28393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2240" y="1260360"/>
            <a:ext cx="28393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84120" y="1260360"/>
            <a:ext cx="28393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20720" y="3866760"/>
            <a:ext cx="28393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2240" y="3866760"/>
            <a:ext cx="28393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84120" y="3866760"/>
            <a:ext cx="28393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20720" y="1260360"/>
            <a:ext cx="8818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0720" y="1260360"/>
            <a:ext cx="8818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1260360"/>
            <a:ext cx="43034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9800" y="1260360"/>
            <a:ext cx="43034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72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0720" y="1260360"/>
            <a:ext cx="43034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9800" y="1260360"/>
            <a:ext cx="43034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20720" y="3866760"/>
            <a:ext cx="43034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0720" y="1260360"/>
            <a:ext cx="43034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9800" y="1260360"/>
            <a:ext cx="43034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9800" y="3866760"/>
            <a:ext cx="43034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0720" y="1260360"/>
            <a:ext cx="43034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9800" y="1260360"/>
            <a:ext cx="43034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20720" y="3866760"/>
            <a:ext cx="88185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0360"/>
            <a:ext cx="10080720" cy="63039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72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0720" y="1260360"/>
            <a:ext cx="8818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712360" y="7236000"/>
            <a:ext cx="1476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</a:rPr>
              <a:t>nsrc@summer worksh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</a:rPr>
              <a:t>eugene, oreg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7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1484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Arial"/>
              </a:rPr>
              <a:t>UNIX</a:t>
            </a:r>
            <a:r>
              <a:rPr b="1" lang="en-GB" sz="2800" spc="-1" strike="noStrike" baseline="80000">
                <a:solidFill>
                  <a:srgbClr val="333333"/>
                </a:solidFill>
                <a:latin typeface="Arial"/>
                <a:ea typeface="Arial"/>
              </a:rPr>
              <a:t>™</a:t>
            </a:r>
            <a:r>
              <a:rPr b="1" lang="en-GB" sz="4800" spc="-1" strike="noStrike">
                <a:solidFill>
                  <a:srgbClr val="333333"/>
                </a:solidFill>
                <a:latin typeface="Arial"/>
              </a:rPr>
              <a:t>/Linux Overview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04520" y="1263240"/>
            <a:ext cx="860580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ix/IP Preparation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uly 19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ugene, Oregon, US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38040"/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ervey@nsrc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55920" y="6066000"/>
            <a:ext cx="6970680" cy="104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675640" y="7236000"/>
            <a:ext cx="1260360" cy="3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7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9576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Any questions?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9440" y="1404720"/>
            <a:ext cx="86058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920" bIns="0" anchor="ctr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7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9576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Core directory refresher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/boot, /bin, /sbin, /etc, maybe /tmp)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var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Log files, spool, maybe user m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Installed software pack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tmp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May reside under “/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228160"/>
                <a:tab algn="l" pos="8685360"/>
                <a:tab algn="l" pos="9142560"/>
                <a:tab algn="l" pos="9599760"/>
                <a:tab algn="l" pos="10056960"/>
                <a:tab algn="l" pos="1051416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't confuse the the “root account” (/root) with the “root” (“/”) part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322960"/>
            <a:ext cx="8242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urier New Bold"/>
                <a:ea typeface="Courier New Bol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576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'Default' Partition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1922400"/>
            <a:ext cx="8605800" cy="5640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n Ubuntu installation you can choose this option. It creates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ot par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this will contain everything not in another par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/bin, /sbin, /usr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user home directories under /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wap parti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virtual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boot for kernel boo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buNone/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7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9576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Partitioning Issues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/va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ay not be big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/us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 OS utilites, third-party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/ho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your own importa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If you reinstall from scratch and erase /home, you will lose your ow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thing in “/” is now more common due to RAID. Why? Val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tm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7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9576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Note...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76680" bIns="0" anchor="t">
            <a:normAutofit/>
          </a:bodyPr>
          <a:p>
            <a:pPr marL="343080" indent="0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titioning is just a logica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r hard drive dies, most likely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ll b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 want data security, then you need to set up mirroring with a separate dr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Another reason to keep your data on a separate partition, e.g. /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Remember, “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m -r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” on a mirror work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ver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, as always “Data Security” &lt;==&gt;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-41760"/>
            <a:ext cx="8605800" cy="1089000"/>
          </a:xfrm>
          <a:prstGeom prst="rect">
            <a:avLst/>
          </a:prstGeom>
          <a:noFill/>
          <a:ln w="0">
            <a:noFill/>
          </a:ln>
        </p:spPr>
        <p:txBody>
          <a:bodyPr lIns="0" rIns="0" tIns="9576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Any questions?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1303200"/>
            <a:ext cx="8769240" cy="6259680"/>
          </a:xfrm>
          <a:prstGeom prst="rect">
            <a:avLst/>
          </a:prstGeom>
          <a:noFill/>
          <a:ln w="0">
            <a:noFill/>
          </a:ln>
        </p:spPr>
        <p:txBody>
          <a:bodyPr lIns="0" rIns="0" tIns="241920" bIns="0" anchor="ctr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100742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256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What's Different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60256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ftwar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dp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ap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(this is what we'll u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apt-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ap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yna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meta-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6720" y="-58680"/>
            <a:ext cx="860292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256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What's Different cont.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60256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up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In /etc/init.d/   (System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Upon install services ru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rolling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update-rc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ysvconf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rc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rc-conf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100742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256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What's Different cont.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800" y="1959120"/>
            <a:ext cx="8602560" cy="47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ke and G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installed by default.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0,000'ish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install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apt-get install build-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7080" y="-58680"/>
            <a:ext cx="860292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256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  <a:ea typeface="ヒラギノ角ゴ ProN W6"/>
              </a:rPr>
              <a:t>What's Different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100742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256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What's Different cont.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9800" y="1959120"/>
            <a:ext cx="8602560" cy="47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use of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account is discouraged and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ud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rogram should be used to access root privileges from your own account inst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d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pt-get dist-upgra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to mov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 major and minor rel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ckage sources in /etc/apt/sources.list (how you install from cd/dvd or the networ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7080" y="-58680"/>
            <a:ext cx="860292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256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  <a:ea typeface="ヒラギノ角ゴ ProN W6"/>
              </a:rPr>
              <a:t>What's Different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7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9576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History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6520" y="1309680"/>
            <a:ext cx="9177120" cy="59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39440" y="1959120"/>
            <a:ext cx="8659800" cy="47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n apt-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n sources.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people like aptitude, partly for the full-screen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56720" y="-58680"/>
            <a:ext cx="860292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256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Important Reads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39440" y="1959120"/>
            <a:ext cx="865980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noying to new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vide all packages for sub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itial documentation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https://help.ubuntu.com/community/Meta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build-essenti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  <a:ea typeface="ヒラギノ角ゴ ProN W3"/>
              </a:rPr>
              <a:t>libc, g++, gcc, mak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ubuntu-deskto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(xorg, gn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xserver-xorg-video-in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756720" y="-58680"/>
            <a:ext cx="860292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256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Meta Packages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6720" y="-58680"/>
            <a:ext cx="860292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256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There's More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1850760"/>
            <a:ext cx="884376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, hopefully enough to get us starte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78236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om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www.ubuntu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ubuntuforum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www.debian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ubuntuguid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http://en.wikipedia.org/wiki/Deb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http://en.wikipedia.org/wiki/Ubuntu_(Linux_distribution)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  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GIYF (Google Is Your Fri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800" y="-139680"/>
            <a:ext cx="86025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256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Packages &amp; Exercises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39800" y="1851120"/>
            <a:ext cx="884376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'll reinforce some of these concepts using exercise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7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9576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Unix vs. Linux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800" y="1316160"/>
            <a:ext cx="8980560" cy="581472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marL="343080" indent="0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they the same?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, at least in terms of operating system interfac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 was developed independently from Unix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x is much older (1969 vs. 199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alability and reliabilit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scale very well and work well under heavy loa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his is an understatement    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emphasize small, interchangeabl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eability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logins rather than GUI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ripting is integ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e to modular design has a reasonable security mode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 and its applications are not without bl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4720" y="3600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4520" y="1419120"/>
            <a:ext cx="8926200" cy="5726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7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9576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The Unix System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36560" y="419040"/>
            <a:ext cx="8623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  <a:ea typeface="Arial"/>
              </a:rPr>
              <a:t>Kern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800" y="1855800"/>
            <a:ext cx="878832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e "core" of the opera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evice dri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e with your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lock devices, character devices, network devices, pseudo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ile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rganise block devices into files and dir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emory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imeslicing (multitask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Networking stacks - esp.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nforces security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7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9576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Shells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80092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and line interface for execut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DOS/Windows equivalent: command.com or command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programming languages for scrip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DOS/Windows equivalent: batch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ice of similar but slightly different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h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the "Bourne Shell". Standardised in PO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csh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the "C Shell". Not standard, but includes command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ヒラギノ角ゴ ProN W3"/>
              </a:rPr>
              <a:t>bas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the "Bourne-Again Shell". Combines POSIX standard with command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Others: ksh, tcsh, z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7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9576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User processes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grams that you choose 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equently-used programs tend to have short cryptic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"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l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" = list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"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c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" = copy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"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r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" = remove (delete)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stuff included in most ba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editors, compilers, system admin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more stuff available to install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Using the Debian/Ubuntu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7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9576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System processes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grams that run in the background; also known as "daemons" =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cr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: executes programs at certain times of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yslog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ヒラギノ角ゴ ProN W3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: takes log messages and writes them to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inet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ヒラギノ角ゴ ProN W3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: accepts incoming TCP/IP connections and starts programs for each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sh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ヒラギノ角ゴ ProN W3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: accepts incoming lo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endmai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 (other MTA daemon like Exim): accepts incoming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918040" y="2550960"/>
            <a:ext cx="685800" cy="7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7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9576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Arial"/>
              </a:rPr>
              <a:t>Security model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440" y="1963440"/>
            <a:ext cx="8769240" cy="559908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meric 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user id (uid 0 = "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ro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", the superus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group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upplementary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pped to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/etc/passwd, /etc/group (plain text 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itable security rules enfo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e.g. you cannot kill a process running as a different user, unless you are "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ro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vey Allen</cp:lastModifiedBy>
  <dcterms:modified xsi:type="dcterms:W3CDTF">2009-07-18T21:54:51Z</dcterms:modified>
  <cp:revision>83</cp:revision>
  <dc:subject/>
  <dc:title/>
</cp:coreProperties>
</file>