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10080720" cy="70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9600" y="7128000"/>
            <a:ext cx="1773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Utopia"/>
              </a:rPr>
              <a:t>nsrc@summer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Utopia"/>
              </a:rPr>
              <a:t>eugene, oreg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6160" y="414360"/>
            <a:ext cx="86076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Terminal and Console Acc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184896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topia"/>
              </a:rPr>
              <a:t>Unix/IP Preparation Cour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uly 1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ugene, Oregon,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ervey@nsr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38360" y="5568840"/>
            <a:ext cx="697068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411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ole Access using Mini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1848960"/>
            <a:ext cx="860724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 fontScale="99000"/>
          </a:bodyPr>
          <a:p>
            <a:pPr marL="3394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onfigure 9600bps, 8-n-1, no hardware flow control and use ttyS0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inic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udo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282600">
              <a:lnSpc>
                <a:spcPct val="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RL-a, z. Choose “cOnfigure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282600">
              <a:lnSpc>
                <a:spcPct val="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“Serial port set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213840">
              <a:lnSpc>
                <a:spcPct val="8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Serial Device to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dev/tty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213840">
              <a:lnSpc>
                <a:spcPct val="8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Hardware Flow Control t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282600">
              <a:lnSpc>
                <a:spcPct val="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it, then press CTRL-a, z. Choose “comm Parame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213840">
              <a:lnSpc>
                <a:spcPct val="8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Speed to 9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282600">
              <a:lnSpc>
                <a:spcPct val="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it. Exit Minicom (CTRL-a, x) and re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411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sole Access using Mini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84896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you start your device, if you need to send a BREAK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RL-a,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, to ensure access to your serial port(s) you must run Minicom using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u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as 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rtual ter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daemon buffer (if avai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y/paste between ter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OB and serial consol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rver/Switch console access (mini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Virtual) Cons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ally you have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tty[1-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tty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you back to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them using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LT-CTRL-F[1-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rtual terminal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ery usefu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If you run without a GUI, then they are you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Unix/Linux versions have optional mouse daemons in text mode (FreeBS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Virtual) Cons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Unix/Linux version these are defin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etc/default/console-set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Upst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etc/init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etc/t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boot/grub/menu.1st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O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r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etc/init.d/console-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/etc/init.d/console-screen.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y/Paste Between Cons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7704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you boot without a GUI (no gnome, KDE, etc.)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you have a mouse-daemon, the for example you c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light text in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ty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LT-CTRL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access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ty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ce mouse in anoth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 middle-mouse button to paste text from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tty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OB and Serial Console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8618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OB or “Out Of Band” a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Critical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remote management of serv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do you access a machine's BIOS remote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do you access RAID BIOS remote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618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Linux tell the boot loader to pass options to the kernel. The kernel can send output t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ttyS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18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is this useful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OB and Serial Console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serial to ethernet conve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n OOB solution connect to separate IP to view your machine's cons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boot you can see your machine's console using terminal software connecting to a separate IP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most always required as wel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Kernel load options (for instance) i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/boot/grup/menu.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OB and Serial Console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030400"/>
            <a:ext cx="86072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/boot/grub/menu.1s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entry:</a:t>
            </a:r>
            <a:br>
              <a:rPr sz="3200"/>
            </a:br>
            <a:br>
              <a:rPr sz="32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itle           Ubuntu 8.04.2, kernel 2.6.24-23-serve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t            (hd0,0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kernel          /vmlinuz-2.6.24-23-server root=UUID=96e73009-3bf7-421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-a4bc-6de1d21eaa97 ro console=ttyS0,38400n8 console=tty0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quiet splas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itrd          /initrd.img-2.6.24-23-serve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quiet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option for OOB serial console ac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sole=ttyS0,38400n8 console=tt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'll look at an example now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rver/Switch Console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030040"/>
            <a:ext cx="86072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nect serial cable from your machine to serial/aux port on switch or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1840" indent="-64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ault settings in most cas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600 bps, 8 bits, no parity, 1 stop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9600 8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re that Hardware Flow Control is off (No). Your data cable probably does not have the lines for hardware flow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serial port is probably ttyS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3:06:44Z</dcterms:created>
  <dc:creator/>
  <dc:description/>
  <dc:language>en-US</dc:language>
  <cp:lastModifiedBy>Hervey Allen</cp:lastModifiedBy>
  <cp:lastPrinted>2005-09-12T16:55:49Z</cp:lastPrinted>
  <dcterms:modified xsi:type="dcterms:W3CDTF">2009-07-19T00:24:21Z</dcterms:modified>
  <cp:revision>531</cp:revision>
  <dc:subject/>
  <dc:title/>
</cp:coreProperties>
</file>