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350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371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350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7350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371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371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350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7350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7350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3716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81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3716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350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371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7350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371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350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019920"/>
            <a:ext cx="556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80880" y="6087960"/>
            <a:ext cx="2944800" cy="5414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404040" y="6095880"/>
            <a:ext cx="228276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749600"/>
            <a:ext cx="7772400" cy="16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7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ber Optic Termin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S 399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y 1, Sess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3886200"/>
            <a:ext cx="5867280" cy="16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6920" bIns="46800" anchor="t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versity of Ore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h@uoregon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er Cable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219320" y="1281240"/>
            <a:ext cx="6553080" cy="4787640"/>
            <a:chOff x="1219320" y="1281240"/>
            <a:chExt cx="6553080" cy="478764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1219320" y="1281240"/>
              <a:ext cx="6553080" cy="47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219320" y="1281240"/>
              <a:ext cx="6553080" cy="47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er in Ferrule – Back L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66680" y="1523880"/>
            <a:ext cx="7243920" cy="4060800"/>
            <a:chOff x="1066680" y="1523880"/>
            <a:chExt cx="7243920" cy="40608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066680" y="1523880"/>
              <a:ext cx="7243920" cy="40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066680" y="1523880"/>
              <a:ext cx="7243920" cy="40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er in Ferrule – no back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69960" y="1523880"/>
            <a:ext cx="7951680" cy="4114800"/>
            <a:chOff x="669960" y="1523880"/>
            <a:chExt cx="7951680" cy="41148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669960" y="1523880"/>
              <a:ext cx="795168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69960" y="1523880"/>
              <a:ext cx="795168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8T01:00:08Z</dcterms:created>
  <dc:creator>dbarta</dc:creator>
  <dc:description/>
  <dc:language>en-US</dc:language>
  <cp:lastModifiedBy>Dale Smith</cp:lastModifiedBy>
  <dcterms:modified xsi:type="dcterms:W3CDTF">2009-07-20T20:29:20Z</dcterms:modified>
  <cp:revision>241</cp:revision>
  <dc:subject/>
  <dc:title>Slide 1</dc:title>
</cp:coreProperties>
</file>