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6C0D-5738-4255-A493-022C112D4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77E2-E54B-459B-B13D-450576CDD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4C43-D0DA-4166-B37D-B03577F93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EF8C-0B1F-4436-9471-3CF141ABE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1884-694E-4134-972C-C5ECEB92A9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C9F3-0383-47EB-849B-828C89EDD4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E5E9-8B12-4730-A130-B2F2C18D33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7036-8824-4384-B420-7D1BF0BFAB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1313-3540-4CDB-A3B7-78B7B994ED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74D7-C38C-458A-9F63-024133421B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4F2E-871E-4D8F-B788-1272BDE4B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7A22-9CD1-48A8-9608-00B8D4199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EEDE-DF63-414F-8A18-19ED48CD5A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46DB-ABE9-4FD3-BB31-D3BD5626E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9ABA-60BA-4D6C-8147-B35CAA09A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F146-F0BA-4D85-BDE3-76AC55596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E75F-991A-434D-B5A4-F1DE4DCACE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82E-C7AB-453A-9F9E-A9EBB6653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43A-626A-425C-B23F-5B2D6598CF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3BF-0DD0-41B7-8855-7BB537A8DD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999-92A0-42CF-AB3C-13B7FB7AB0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7A7-F478-4287-9F04-B1422116F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1BD6-E62E-4703-B541-DD73B99977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9C9-CEDA-410E-845D-BEEF4D0AEF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357-EE13-498B-B475-871679F186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344-7F73-40D9-8317-98A808B5D2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523-11F1-4AE1-83E7-98C2892635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224-4DD9-4CAC-93AE-8E3C7E015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141-8884-4AFB-A419-A079994520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E2A-D381-4D6C-8199-B3A205DFE6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5D0C-42BD-4B94-B472-22607CA523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23D3-544C-4A20-A5CD-D274CCA8A5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FF60-E751-4697-A4C8-904063A19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02EB-59CC-4230-BD82-3FD2D162F7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E5A7-A440-4E21-83AE-E3A9F043B2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6FC53-F20F-488E-A549-7D55ED3FBD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C892F-FAB6-40AA-98FB-26BC883CF6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6586-FF48-4F7F-99FB-602142517F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43FD0-D218-45CF-9179-C605E3E7C9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5F55B-3B3F-4CD1-863D-809BD9FE14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18BAC-DEC8-43F9-9B5C-DAE1B5E189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06B6E-DEAF-4C05-9B4B-B400E13624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1DCE-1001-462F-9ED2-BEA32716A5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0887D-6B44-420C-8A5B-AA0D3104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3CE9-61E4-4A4E-9CC8-B1E445C997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F46C-9995-4485-98B1-2765E40C60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9B03F-E619-4DBD-AA9B-849CC3945E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F475C-53CA-46E4-8C6B-9FB521CF92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20928-2AA5-4B21-8A1D-8F67284230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A1C2-B97C-42A1-B59B-29DBA8A67A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2F2F-971C-4589-9934-29EC3A5089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B259-A2F7-4A72-A437-A125EF07CA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8834-9581-4D1A-B9BF-A76034CDF5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4E2A-E30F-4FE2-8C66-FBFCA9347C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47154-1DA1-4ECA-BC20-D45C1D74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4379-1E4F-4347-901A-4C44EC8C6B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6EB3D-72D4-4117-8CC0-CB3385254F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80E-FFE5-4C21-961F-4DC98DBF15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DAE3-B1D3-4797-9067-CC53A4C238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5506-68A0-4A30-9139-9D435D407B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C5A-D569-4BD4-AF41-469A8F89AE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6155-58AE-44F1-95E9-878C36E799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896A-CB72-44BA-AC33-21E9ABD2DC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B57B-F8DA-447F-8D5D-5757C0CE15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FDE4-848B-4D6A-971D-195C1B43BE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3DC4-B676-4508-8358-A6426D4BD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EFEC-320E-47DC-88BF-40BD8A8F9E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9F0-0043-4F98-9A0E-EA2CA97A65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598-B27B-4737-8229-0FA8130726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237D-5FA3-4D05-849F-B4309E565C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B409C-4BAE-4B32-A09A-3F021FB4E9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2CC11-FC4A-45DB-9EEA-4F2BF68A1A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8A886-9374-4BDA-A4D1-BCC172DB7D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5316F-8538-4E5A-A252-29C1759818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FF72-3C48-45B2-8036-47AD93DEFD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F4970-2EAD-49FC-88EC-963A47BE5C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06436-5FBD-4C12-8370-8925A506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2804-971E-4385-9AB2-F69DBF724C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9EABC-0B79-40A5-A427-8F578BE131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A6FAB-D58A-4A1A-A7C3-F6C5227EC9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B3527-6F01-4247-A44E-D1487A839F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1EF61-8756-4EF8-A01B-47317914D9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11B59-9840-4409-9924-F55BF318B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3686-C1C0-4AC4-BE0F-C443614C0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F92B0-259B-4565-BB67-EEB6EBEDBB8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1840"/>
            <a:ext cx="223920" cy="230040"/>
            <a:chOff x="914400" y="1401840"/>
            <a:chExt cx="223920" cy="2300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DB84E-1B22-4007-A485-3FFAB4C536F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3680"/>
            <a:ext cx="223920" cy="230040"/>
            <a:chOff x="2163600" y="2803680"/>
            <a:chExt cx="223920" cy="23004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87B5-FB86-4FA7-A4D4-FB10327DBE2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8C9F5-14ED-420A-AB40-38C154C2A67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EEF03-FE49-49FC-BE00-36C72AD5936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E608D-1DBC-4247-B7DE-1866844BD9C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795920" cy="4795920"/>
            <a:chOff x="646200" y="969840"/>
            <a:chExt cx="4795920" cy="47959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5920" cy="47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4464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CFCE3-67AA-42BC-9FC0-C0582A15F0A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njamin A. Esh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shun@garnet.edu.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ly 24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3600" y="3324240"/>
            <a:ext cx="1211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3600" y="1143000"/>
            <a:ext cx="39546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Key Network features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The use of BGP implementation (with OSPF as the IGP) for optimum routing among the various campus  communities for the necessary inter-routing infor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P addressing to cater for the right number of hosts and subnets required by each institution and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Sufficient interconnection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Setting up of exchange points for internal traff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Peering with other RREN’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 clear defined routing policy will be enforced with the use of tagging and filtering at route redistribution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dditional Per-site filtering may be required for security on aggregator rou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This will ensure only allowed specific routes or traffic is shared according to pre-arranged agreements with the participating institu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 and Discussion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ground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hana Academic and Research Network (GARN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unched in 2006 AAU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idea to get VCG to act as govern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llenges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CG did not sign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ective purchase of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haring of research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aboration between researchers from different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imum human network between “member”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371600"/>
            <a:ext cx="78487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managers met at University of Legon to start the human network despite the fact that VCs had not signed the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eting to elect interim execu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P Pres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orum@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twork Startup Resource Center (NSRC) donate HP4000 managed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the Governance Structures of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ure the registration of GARNET as a legal entity in accordance with the Laws of Gh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GARNET Secretariat to manage the day- to-day activities of the Ghanaian National Research and Education Network (N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and membership of GARNET to include all other tertiary and research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of the physical connections of the various institutions in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itiate discussions with VODAPONE on how the National Backbone may be used for the purpose of creating the physical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RNET to become a Local Internet Registry (LIR), or at least get all members to subscribe to AfriNIC 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te and run at least one workshop for Campus Network Administrators in collaboration with the Network Startup Resource Center (nsr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250920"/>
            <a:ext cx="809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tate of National Backbone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60958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urce : National Communications Backbone Company 200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257800" cy="3886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734160" y="1143000"/>
            <a:ext cx="2181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On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60052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Two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51480" cy="3809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4:53:38Z</dcterms:created>
  <dc:creator>tech</dc:creator>
  <dc:description/>
  <dc:language>en-US</dc:language>
  <cp:lastModifiedBy>Bejamin Eshun</cp:lastModifiedBy>
  <dcterms:modified xsi:type="dcterms:W3CDTF">2009-07-24T21:00:17Z</dcterms:modified>
  <cp:revision>25</cp:revision>
  <dc:subject/>
  <dc:title>Update on GHARNET</dc:title>
</cp:coreProperties>
</file>