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689B-1F44-4234-B6A0-F319828EE5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914A-F8A2-4C11-A32D-AD97BBC92611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04EE-94AF-41CA-A345-65EB7156FD4B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1923-B4EF-409D-816B-FEC04B044AB5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8C7C-2530-4715-94F2-C41C9F75A9C2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A3E6-6A1A-4E2C-B8A9-5D31B10A11E3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954B-FE99-47FB-91F3-8963CEEFC1E9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4D42-9265-4C12-8D66-4E5F48E3C7FD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BA0C-1F50-4B0F-9026-5CC01DB2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AEF-DFCE-4F69-8CA9-B76D50FC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61AE-49E5-4E05-8F48-CC51E2D6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24E3-0A01-4E3B-A75B-F0F50165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5C4B-6974-4452-BDC5-E0DA6890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E359-ED2F-4128-8869-CAE2F42D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1C16-1DEA-4E52-AD9D-7BC40231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BF97-7D8D-4DD9-A1FB-0354BFC3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EC3A-D928-4359-BE0A-6D53119D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F799-F028-4E00-9C57-8AD402BA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CE1E-E7EB-46D3-A8C6-3B91F19E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AEA6-307B-4DDB-B6A3-684057B2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66CE-9DC4-41EA-9060-2887B6B2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B28A-35C5-408C-A6AB-BB0CF5B3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D55C-29B3-4CA7-83FF-F5B58037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9463-C11D-44EA-9F5A-4FED5CBC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C684-3AE5-456B-93AE-D5A10476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C1B31-4288-4663-9F6A-EAB10EAB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232C9-2DC3-4C38-A907-A7D16B71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5F95E-875C-411A-AAC0-1DAF6384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5044E-AAAC-4337-834A-212E240C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4B89B-68C7-47AE-95D7-E31FAE19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D221-A8CA-4EBE-949B-D7F0AA9C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DD899-380C-402F-94C5-C1E02F3F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D2892-B149-48AB-BDF5-27335F45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33082-21E1-4BEA-BBBF-4471F984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302D5-123A-4E6E-A075-1F660C6A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35D85-7BCE-468F-8B49-4A5EA1FD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C2D05-6058-4A75-A82B-1C6C7152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81D7D-FEE7-429C-A7D0-42496E3B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BA8B0-0DC0-4DE4-BA06-85A1EF1B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58761-EA77-48CB-A77A-A70CF5C6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601BE-ACF5-4C9C-A3F1-2FE1A68E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BAC2-263B-46D1-A7F2-22EFE933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22C71-E6FE-4896-844C-1AB11EAC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234B8-7B9D-486B-8364-3E77B1FA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D1730-7266-422D-AE6E-77402CC9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054D3-523B-4394-8C23-29C267F7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24E16-C8F2-45BC-89D0-16738982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45188-87E8-4E0F-A802-7288BE6D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952E8-1346-4C08-BF23-682C9A9E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B7F0A-9A80-4F7F-8167-BCA2A9C6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ED788-DC7F-4AF1-88DD-0ACC5492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B39D-8047-4FAB-95DD-A655DAE1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64F6-E243-408B-95CC-79DAB5FC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1A6-B469-494A-8703-188BF760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768-ED70-49E0-B0D8-E9EEE444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AF0-64B3-4D10-AD8E-60EB7C3D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D6A3-2F2C-4D0E-8577-F0F8FFA3B77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223B-84CE-4783-A3DE-38F8E999C0C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3554-E6CF-4866-9E3C-8D94AD003C8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F78C-78B4-4A2D-A96A-5E52FC8497B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-92160" y="208080"/>
            <a:ext cx="9455400" cy="3290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28600" y="4495680"/>
            <a:ext cx="876312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AURICE K. NYIRONG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LAW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5" descr="mzunilogo.GIF"/>
          <p:cNvPicPr/>
          <p:nvPr/>
        </p:nvPicPr>
        <p:blipFill>
          <a:blip r:embed="rId2"/>
          <a:stretch/>
        </p:blipFill>
        <p:spPr>
          <a:xfrm>
            <a:off x="3505320" y="228600"/>
            <a:ext cx="1430280" cy="13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ZUZU UNIVERSITY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533520" y="144792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617b"/>
                </a:solidFill>
                <a:latin typeface="Constantia"/>
              </a:rPr>
              <a:t>Mzuzu University is an institution of higher learning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617b"/>
                </a:solidFill>
                <a:latin typeface="Constantia"/>
              </a:rPr>
              <a:t>The first students were admitted in January 1999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617b"/>
                </a:solidFill>
                <a:latin typeface="Constantia"/>
              </a:rPr>
              <a:t>Since its inception, Mzuzu University has grown from one (1) Faculty and centre to seven (7) faculties and three (3) centr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617b"/>
                </a:solidFill>
                <a:latin typeface="Constantia"/>
              </a:rPr>
              <a:t>Has  student population of over 2000 full time students.</a:t>
            </a:r>
            <a:br>
              <a:rPr sz="2400"/>
            </a:br>
            <a:r>
              <a:rPr b="0" lang="en-GB" sz="2400" spc="-1" strike="noStrike">
                <a:solidFill>
                  <a:srgbClr val="04617b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URRENT NET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Library and Learning Resources Centre offers Internet connectivity and IT services to students, staff and the communit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ocal Area Network has a combination of wireless and w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ternet access is through V-SAT with a bandwidth of 1024kbps downstream, and 256kbps upstrea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Object 8"/>
          <p:cNvGraphicFramePr/>
          <p:nvPr/>
        </p:nvGraphicFramePr>
        <p:xfrm>
          <a:off x="457200" y="0"/>
          <a:ext cx="8686800" cy="67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686800" cy="67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533520" y="-65160"/>
          <a:ext cx="861048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-65160"/>
                    <a:ext cx="861048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PROBLEM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andwidth is not enoug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VSAT is expensiv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Lack of antivirus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Frequent power failur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Lack of resources. i.e. No Redundanc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ireless Network unreliabl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posed solu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mplement a full wired network with fiber backbon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7:55:59Z</dcterms:created>
  <dc:creator>Maganizo Monawe</dc:creator>
  <dc:description/>
  <dc:language>en-US</dc:language>
  <cp:lastModifiedBy>uSE</cp:lastModifiedBy>
  <dcterms:modified xsi:type="dcterms:W3CDTF">2009-07-24T21:39:30Z</dcterms:modified>
  <cp:revision>97</cp:revision>
  <dc:subject/>
  <dc:title>NETWORK DESIGN AND MANAGEMENT: MONITORING AND ANALYSING TRAFFIC ON THE LOCAL NETWORK </dc:title>
</cp:coreProperties>
</file>