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252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36520" y="763560"/>
            <a:ext cx="54993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400" y="4589640"/>
            <a:ext cx="27698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800" y="585720"/>
            <a:ext cx="860256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000" y="458964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589640"/>
            <a:ext cx="86025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585720"/>
            <a:ext cx="86025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summer workshop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agios.sourceforge.net/docs/2_0/tuning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ns.uoregon.edu/~cvicente/download/nagios-config-scripts.tar.gz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nagios.org/" TargetMode="External"/><Relationship Id="rId2" Type="http://schemas.openxmlformats.org/officeDocument/2006/relationships/hyperlink" Target="http://sourceforge.net/projects/nagiosplug" TargetMode="External"/><Relationship Id="rId3" Type="http://schemas.openxmlformats.org/officeDocument/2006/relationships/hyperlink" Target="http://www.nagiosexchange.org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agi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479600"/>
            <a:ext cx="907236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Network Design and Oper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itstream Vera Sans"/>
              </a:rPr>
              <a:t>24 July 2009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itstream Vera Sans"/>
              </a:rPr>
              <a:t>hervey@nsr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9720" y="5229360"/>
            <a:ext cx="368928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Checks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96520"/>
            <a:ext cx="907236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node/host/device consists of one or more service checks (PING, HTTP, MYSQL, SSH, etc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iodically Nagios checks each service for each node and determines if state has changed. State changes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state change you can assig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ification options (as mentioned befo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hand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Checks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361880"/>
            <a:ext cx="907236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 checking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check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um number of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iod for each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checks only happen when on services respond (assuming you've configured th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d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Checks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359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is manner it can take some time before a host change's its state to “down” as Nagios first does a service check and then a node 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Nagios does a node check 3 times before it will change the nodes state to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, of course, change all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ncept of “Parent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can have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parent of a PC connected to a switch would be the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us to specify the network dependencies that exist between machines, switches, rou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voids having Nagios send alarms when a parent does not res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de can have multiple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07680"/>
            <a:ext cx="860580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Idea of Network Viewpoi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 locate your Nagios server will determine your point of view of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ios allows for parallel Nagios boxes that run at other location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t makes sense to place your Nagios server nearer the border of your network vs. in the c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9800" y="463680"/>
            <a:ext cx="86058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Network View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5920" y="2092320"/>
            <a:ext cx="978372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260280"/>
            <a:ext cx="86058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gios Configuration Fi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60400" y="1109520"/>
            <a:ext cx="8447040" cy="57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0884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/etc/nagios3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i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gi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the web interface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mands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ands that Nagios u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t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gios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onfiguration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f.d/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configuration goes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0360" y="1993680"/>
            <a:ext cx="937908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 conf.d/*   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mple on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cts_nagios3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n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eric-host_nagios2.cf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host tem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eric-service_nagios2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service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stgroups_nagios2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rvices_nagios2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rvices to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periods_nagios2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check and wh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tif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2520" y="2030040"/>
            <a:ext cx="91281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80640" bIns="0" anchor="t">
            <a:normAutofit/>
          </a:bodyPr>
          <a:p>
            <a:pPr marL="42876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 conf.d some other possible config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st-gateway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rout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info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nod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rvicegroups.cfi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nod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lhost.cf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Nagios server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c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definition of PCs (h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switches (h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rs.c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routers (h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2920" y="1695600"/>
            <a:ext cx="907236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key measurement tool for actively monitoring availability of devices and ser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sible the most used open source network monitoring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a web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CGIs written in C for faster response and scal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support up to thousands of device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244440"/>
            <a:ext cx="90709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ugin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515600"/>
            <a:ext cx="907092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gios package in Ubuntu comes with a bunch of pre-installed plug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.cfg    breeze.cfg    dhcp.cfg    disk-smb.cfg    disk.cfg    dns.cfg    dummy.cfg    flexlm.cfg    fping.cfg    ftp.cfg    games.cfg    hppjd.cfg http.cfg   ifstatus.cfg    ldap.cfg  load.cfg    mail.cfg    mrtg.cfg mysql.cfg netware.cfg   news.cfg    nt.cfg    ntp.cfg    pgsql.cfg    ping.cfg    procs.cfg radius.cfg    real.cfg  rpc-nfs.cfg    snmp.cfg    ssh.cfg    tcp_udp.cfg telnet.cfg    users.cfg    vsz.c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in Configuration Detai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31600"/>
            <a:ext cx="9326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: /etc/nagios2/nagios.c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ys where other configuration fil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Nagios behav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7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large installations you should tune the installation via this f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7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unning Nagios for Maximum Perform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agios.sourceforge.net/docs/2_0/tuning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GI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71212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425520" indent="-320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vo: /etc/nagios3/cgi.c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change the CGI directory if you w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on and authorization for Nagios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8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ate authentication via Apache's .htpasswd mechanism, or using RADIUS or LD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8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s can be assigned rights via the following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system_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configuration_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system_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all_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all_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all_service_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86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zed_for_all_host_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me Perio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587240"/>
            <a:ext cx="9072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defines the base periods that control checks, notification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s: 24 x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adjust as needed, such as work week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adjust a new time period for “outside of regular hours”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59000" y="4211640"/>
            <a:ext cx="6629400" cy="258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'24x7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ine timeperiod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imeperiod_name 24x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lias           24 Hours A Day, 7 Days A W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unday  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onday  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uesday 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ednesday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ursday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iday  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aturday        00:00-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ing Service/Host Che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 how you are going to test a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971800"/>
            <a:ext cx="8458200" cy="1623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# 'check-host-alive' command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fine command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and_name    check-host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and_line    $USER1$/check_ping -H $HOSTADDRESS$ -w 2000.0,60% -c 5000.0,100% -p 1 -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800" y="5257800"/>
            <a:ext cx="8109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/etc/nagios-plugins/config, then adjust in /etc/nagios3/conf.d/services_nagios2.c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tification Comman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587240"/>
            <a:ext cx="90723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s you to utilize any command you wish. We'll do this for our generating tickets in 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324160"/>
            <a:ext cx="8458200" cy="2014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'notify-by-email' command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fine command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and_name    notify-by-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and_line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usr/bin/printf "%b"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"Service: $SERVICEDESC$\nHost: $HOSTNAME$\nIn: $HOSTALIAS$\nAddress: $HOSTADDRESS$\nState: $SERVICESTATE$\nInfo: $SERVICEOUTPUT$\nDate: $SHORTDATETIME$"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| /bin/mail -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'$NOTIFICATIONTYPE$: $HOSTNAME$/$SERVICEDESC$ is $SERVICESTATE$' $CONTACTEMAIL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257800"/>
            <a:ext cx="8458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606920"/>
            <a:ext cx="8458200" cy="2368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gios@nms.local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o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grupo-redes@local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bject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st DOWN alert for switch1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e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u, 29 Jun 2006 15:13:30 -0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st: switc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: Core_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te: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ddress: 111.222.333.4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te/Time: 06-29-2006 15:13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3960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3224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18440"/>
                <a:tab algn="l" pos="8675640"/>
                <a:tab algn="l" pos="9132840"/>
                <a:tab algn="l" pos="9590040"/>
                <a:tab algn="l" pos="10047240"/>
                <a:tab algn="l" pos="10504440"/>
                <a:tab algn="l" pos="10507680"/>
                <a:tab algn="l" pos="10510920"/>
                <a:tab algn="l" pos="1051416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fo: CRITICAL - Plugin timed out after 6 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odes and Services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aves lots of time avoiding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Similar to Object Orient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default templates with default parameters f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eneric Node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444680"/>
            <a:ext cx="9144000" cy="469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e hos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me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ic-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fications_enabled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ent_handler_enabled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ap_detection_enabled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s_perf_data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ain_status_information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ain_nonstatus_inform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_command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-host-a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x_check_attempts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fication_interval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fication_period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4x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fication_options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,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act_groups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gister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dividual Node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286000"/>
            <a:ext cx="8305920" cy="271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 hos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ic-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st_name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as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e_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2.168.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s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e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act_groups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_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3652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eneric Service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93680" y="1360440"/>
            <a:ext cx="7877160" cy="5045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fine servic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me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neric-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tive_checks_enabled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ssive_checks_enabled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allelize_check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sess_over_service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eck_freshness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ifications_enabled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nt_handler_enabled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lap_detection_enabled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cess_perf_data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ain_status_information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ain_nonstatus_informa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_volatile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eck_period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_check_attempts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rmal_check_interval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ry_check_interval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ification_interval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ification_period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tification_options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,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gister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09800" y="228600"/>
            <a:ext cx="8134200" cy="70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dividual Service 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640" y="1909800"/>
            <a:ext cx="8458200" cy="2543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e servic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st_name                       switc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ic-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rvice_description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eck_command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eck-host-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_check_attempts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rmal_check_interva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ification_options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,r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act_groups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witch-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intain large configurations by hand becomes tire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's better to simplify and automate using scri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s.uoregon.edu/~cvicente/download/nagios-config-scripts.tar.g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, export device (node) information from tools like Netdot, netdisco, OpenNM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eper/SMS Mess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5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's important to integrate Nagios with something available outside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occur after hours... (unfair, but tr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itical item to remember: an SMS or message system should be independent from your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utilize a modem and a telephon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kages like sendpage or qpage can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ome 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3600" y="1673280"/>
            <a:ext cx="93632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agios.or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Nagios web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sourceforge.net/projects/nagiosplu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Nagios plugins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agios. System and Network Monitoring b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lfgang Bar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 Good book onNag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nagiosexchange.or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Unofficial Nagios plugin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www.debianhelp.co.uk/nagios.ht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A Debian tutorial on Nag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www.nagios.com/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rcial Nagios support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, the O'Reilly book you received in clas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84600" y="6245280"/>
            <a:ext cx="3656160" cy="3650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70080" y="800280"/>
            <a:ext cx="3689640" cy="11016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9360" y="2308320"/>
            <a:ext cx="9996480" cy="1784160"/>
            <a:chOff x="9360" y="2308320"/>
            <a:chExt cx="9996480" cy="1784160"/>
          </a:xfrm>
        </p:grpSpPr>
        <p:sp>
          <p:nvSpPr>
            <p:cNvPr id="119" name=""/>
            <p:cNvSpPr/>
            <p:nvPr/>
          </p:nvSpPr>
          <p:spPr>
            <a:xfrm>
              <a:off x="9360" y="2308320"/>
              <a:ext cx="9996480" cy="1784160"/>
            </a:xfrm>
            <a:prstGeom prst="roundRect">
              <a:avLst>
                <a:gd name="adj" fmla="val 88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2308320"/>
              <a:ext cx="9996480" cy="17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6560" bIns="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Times New Roman"/>
                  <a:ea typeface="msmincho"/>
                </a:rPr>
                <a:t>Reference Slid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135240" y="5862600"/>
            <a:ext cx="3973680" cy="66996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Additions by Phil Regna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bhandari.dhruba@scp.com.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0240" y="4199040"/>
            <a:ext cx="50292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Dhruba Ra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Bhandari, CC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7128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Nagios – Vista General (Tactical Overview)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22212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ctr">
            <a:noAutofit/>
          </a:bodyPr>
          <a:p>
            <a:pPr lvl="1" marL="431640" indent="-215640" algn="ctr">
              <a:lnSpc>
                <a:spcPct val="93000"/>
              </a:lnSpc>
              <a:spcBef>
                <a:spcPts val="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antalla de Status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843120"/>
            <a:ext cx="10080360" cy="67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Pantalla de Servic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440" y="830160"/>
            <a:ext cx="1008036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223920"/>
            <a:ext cx="7772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Tipo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219320"/>
            <a:ext cx="7848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587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440" y="774720"/>
            <a:ext cx="10080360" cy="67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225360" y="-3240"/>
            <a:ext cx="10729800" cy="7562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06880" y="312840"/>
            <a:ext cx="5567400" cy="39672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Times New Roman"/>
                <a:ea typeface="msmincho"/>
              </a:rPr>
              <a:t>Muestra de una Mapa de Esta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ification of availability is delegated to plug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t's architecture is simple enough that writing new plugins is fairly easy in the language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many, many plugins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gios uses parallel checking and f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sion 3 of Nagions does this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0"/>
            <a:ext cx="9610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msmincho"/>
              </a:rPr>
              <a:t>Vista General de Estatus (Status  Overview)</a:t>
            </a: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440" y="762120"/>
            <a:ext cx="1008036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82640" y="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Vista Sumaria de Host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0840" y="762120"/>
            <a:ext cx="9767880" cy="66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5240" y="1006560"/>
            <a:ext cx="9837720" cy="6232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27200" y="353880"/>
            <a:ext cx="4842000" cy="48924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msmincho"/>
              </a:rPr>
              <a:t>Historia o Tendencias de H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6840" y="2606760"/>
            <a:ext cx="9891720" cy="3692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25520" y="666720"/>
            <a:ext cx="4273560" cy="671400"/>
          </a:xfrm>
          <a:prstGeom prst="roundRect">
            <a:avLst>
              <a:gd name="adj" fmla="val 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Histogram de un 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440" y="938160"/>
            <a:ext cx="10080360" cy="6621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121280" y="135000"/>
            <a:ext cx="185724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Event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5400" y="816120"/>
            <a:ext cx="9983520" cy="6743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89480" y="190440"/>
            <a:ext cx="3016080" cy="488880"/>
          </a:xfrm>
          <a:prstGeom prst="roundRect">
            <a:avLst>
              <a:gd name="adj" fmla="val 3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Quien Recibe Notificat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50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eatures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425520" indent="-320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intelligent checking capabilities. Attempts to distribute the server load of running Nagios (for larger sites) and the load placed on devices being check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figuration is done in simple, plain text files, but that can contain much detail and are based on templ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gios reads it's configuration from an entire directory. You decide how to define individual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et More Featur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92880" bIns="0" anchor="t">
            <a:normAutofit/>
          </a:bodyPr>
          <a:p>
            <a:pPr marL="425520" indent="-320760">
              <a:lnSpc>
                <a:spcPct val="7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es topology to determine depend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Nagios differentiates between what is down vs. what is not available. This way it avoids running unnecessary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Nagios allows you to define how you send notifications based on combina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Contacts and lists of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Devices and groups of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Services and groups of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Defined hours by persons or 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The state of a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nd, even mor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604120"/>
          </a:xfrm>
          <a:prstGeom prst="rect">
            <a:avLst/>
          </a:prstGeom>
          <a:noFill/>
          <a:ln w="0">
            <a:noFill/>
          </a:ln>
        </p:spPr>
        <p:txBody>
          <a:bodyPr lIns="0" rIns="0" tIns="90720" bIns="0" anchor="t">
            <a:normAutofit/>
          </a:bodyPr>
          <a:p>
            <a:pPr marL="425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ervice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configuration a service you have the following notific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WN: The service is down (not avail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REACHABLE: When the host is not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: (OK) Host is coming back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PPING: When a host first starts or stops or it's state is un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1000"/>
              </a:lnSpc>
              <a:spcAft>
                <a:spcPts val="1137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E: Don't send any no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4200" y="434880"/>
            <a:ext cx="969012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eatures, features, feat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you to acknowledge an e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user can add comments via the G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ou can define maintenance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device or a group of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tains availability stat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etect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lapp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nd suppress additional notificait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for multiple notification methods such a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-mail, pager, SMS, winpopup, audio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ff"/>
                </a:solidFill>
                <a:latin typeface="Arial"/>
              </a:rPr>
              <a:t>Allows you to define notification levels. Critical fea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24T15:56:38Z</dcterms:modified>
  <cp:revision>131</cp:revision>
  <dc:subject/>
  <dc:title/>
</cp:coreProperties>
</file>