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1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F029B-F87B-4005-96E5-E9D1A8CAB0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856560"/>
            <a:ext cx="10080720" cy="703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58200" y="7191360"/>
            <a:ext cx="1790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nsrc@summer worksh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eugene, oreg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oss.oetiker.ch/smokepin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ss.oetiker.ch/rrdtool/" TargetMode="External"/><Relationship Id="rId2" Type="http://schemas.openxmlformats.org/officeDocument/2006/relationships/hyperlink" Target="http://www.fping.com/" TargetMode="External"/><Relationship Id="rId3" Type="http://schemas.openxmlformats.org/officeDocument/2006/relationships/hyperlink" Target="http://echoping.sourceforge.net/" TargetMode="External"/><Relationship Id="rId4" Type="http://schemas.openxmlformats.org/officeDocument/2006/relationships/hyperlink" Target="http://www.daemoninc.com/SpeedyCGI/" TargetMode="External"/><Relationship Id="rId5" Type="http://schemas.openxmlformats.org/officeDocument/2006/relationships/hyperlink" Target="http://httpd.apache.org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ostname/cgi-bin/smokeping.cgi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36160"/>
            <a:ext cx="907236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asuring Delay with               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4400"/>
            </a:b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Bitstream Vera Sans"/>
              </a:rPr>
              <a:t>Network Design and Operation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4 July 2009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hervey@nsrc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599840"/>
            <a:ext cx="90723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1800" y="5313240"/>
            <a:ext cx="4942080" cy="139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32440" y="601560"/>
            <a:ext cx="221616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okeping configuration fil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local/etc/smokeping/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ocations of directories an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 of the prob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tination nodes and the format of the hierarchical Smokeping 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'+' adds a level to th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addition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/etc/smokeping/basepage.htm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llows you to change the look and feel of the initial Smokeping web p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Aler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6120" y="2239920"/>
            <a:ext cx="5838840" cy="363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Alerts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 = netmanage@localh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rom = smokealert@noc.mgmt.conference.apritc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big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ype =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in 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ttern = ==0%,==0%,==0%,==0%,&gt;0%,&gt;0%,&gt;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ent = suddenly there is packe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some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ype =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in 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ttern = &gt;0%,*12*,&gt;0%,*12*,&gt;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ent = loss 3 times  in a 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Databa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6120" y="2313000"/>
            <a:ext cx="5838840" cy="34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Database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ep     =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ings    =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consfn mrhb steps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  1  1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IN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X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X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IN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Gener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6120" y="2168640"/>
            <a:ext cx="5838840" cy="34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General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@include /etc/smokeping/config.d/path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Please edit this to suit your 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wner    = netmanage@noc.mgmt.conference.apricot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act  = netmanage@local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giurl   = http://noc/cgi-bin/smokeping.c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ilhost = localh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specify this to get syslog log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logfacility = loca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each probe is now run in its ow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disable this to revert to the old behavi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concurrentprobes =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athn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2971800"/>
            <a:ext cx="5838840" cy="2525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ndmail = /usr/sbin/send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gcache = /usr/local/smokeping/htdocs/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gurl   = 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atadir  = /usr/local/var/smoke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iddir  = /usr/local/var/smoke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giurl   = http://localhost/smokeping/cgi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mokemail = /usr/local/etc/smokeping/smok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mail = /usr/local/etc/smokeping/t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specify this to get syslog log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logfacility = loca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79360" y="1568520"/>
            <a:ext cx="70232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generally do not need to edit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f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near the t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res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49640" y="1984320"/>
            <a:ext cx="5589360" cy="441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*** Presentation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emplate = /etc/smokeping/basepage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cha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Cha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he most interesting destin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+ stdde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orter = StdDev(entries=&gt;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op Standard Devi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Std Devi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mat = Standard Deviation %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+ m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orter = Max(entries=&gt;5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op Max Roundtrip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by M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mat = Max Roundtrip Time %f seco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ro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49640" y="1623960"/>
            <a:ext cx="5589360" cy="478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*** Probes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F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sbin/f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D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d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lookup = www.uoregon.e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tep = 1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Ht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ignore_cache = y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url = 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Htt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url = 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Sm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k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Sla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49640" y="2379600"/>
            <a:ext cx="5589360" cy="1737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*** Slaves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# make sure this is not world-readabl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# secrets=/etc/smokeping/slave-secr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+slave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display_name=slave_n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color=0000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122040"/>
            <a:ext cx="90723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Targe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43440" y="1170000"/>
            <a:ext cx="3738600" cy="563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*** Targets 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F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Network Latency Grap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 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niversity of 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UO web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oregon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 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Universidad Tecnologica Equinoc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 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+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te.edu.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+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te.edu.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840" y="1338120"/>
            <a:ext cx="41209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look at a s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file that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or the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src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Default Probe: P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bing for delay and jitter (ping)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formance and availability probe of a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+ Local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 = N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 = The NOC@netman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s = startloss,someloss,bigloss,rttdetect,host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69704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RRDTool (the same auth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s ICMP delay and can measure status of services such as HTTP, DNS, SMTP, SSH, LDAP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you to define ranges on statistics and generat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ten in Perl for 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vely easy to install. In Debian it's very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nother Type of Prob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9800" y="1994040"/>
            <a:ext cx="90900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rformance and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 NOCsqu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nu = Squid on the N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tle = www-cache / HTTP fo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noc@mgmt.conference.apricot.n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rt = 80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rl = http://localhos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More Types of Pro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97084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information available here: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oss.oetiker.ch/smokeping/probe/index.en.htm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ew more prob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scoRTTMonD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adi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(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scoRTTMonTcpC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ac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Ping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ebProxyFil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WW-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okeping websit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oss.oetiker.ch/smokepin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fushizen.net/cgi-bin/smokeping.c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examples: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http://oss.oetiker.ch/smokeping/doc/smokeping_examples.e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okeping sends multiples tests (pings), makes note of RTT, orders these and selects the med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fferent values of RTT are shown graphically as lighter and darkers shades of grey (the “smoke”). This conveys the idea of variable round trip times o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jit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umber of lost packets (if any) changes the color of the horizontal line across th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to Read Smokeping Graph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7760" y="1527120"/>
            <a:ext cx="7958160" cy="5172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“Smoke” and the “Pings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482400"/>
            <a:ext cx="8605800" cy="6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noth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9880" y="1751040"/>
            <a:ext cx="9050400" cy="48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ollowing packages are needed or recommen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rdtool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oss.oetiker.ch/rrdtoo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p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ping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chop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choping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yCGI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daemoninc.com/SpeedyCG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ache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httpd.apach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1993680"/>
            <a:ext cx="8761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BS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rtinstall -PP smok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gu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smokeping/config.d/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Smokeping's appearance he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smokeping/basepage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art the serv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init.d/smokeping re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init.d/smokepring re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1993680"/>
            <a:ext cx="8761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ian/Ubun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t-get install smok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gu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smokeping/config.d/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Smokeping's appearance he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smokeping/basepage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art the serv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init.d/smokeping re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init.d/smokepring re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will find Smokeping running 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spcAft>
                <a:spcPts val="850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urier New"/>
                <a:ea typeface="Arial"/>
                <a:hlinkClick r:id="rId1"/>
              </a:rPr>
              <a:t>http://hostname/cgi-bin/smokeping.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6000"/>
              </a:lnSpc>
              <a:spcAft>
                <a:spcPts val="850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dcterms:modified xsi:type="dcterms:W3CDTF">2009-07-24T14:39:29Z</dcterms:modified>
  <cp:revision>71</cp:revision>
  <dc:subject/>
  <dc:title/>
</cp:coreProperties>
</file>