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7128000"/>
            <a:ext cx="1773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Utopia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Utopia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6160" y="414360"/>
            <a:ext cx="86076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Editing, vi and Configuration Fi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84896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Unix/IP Preparation Cour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uly 1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gene, Oregon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38360" y="5568840"/>
            <a:ext cx="697068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447480"/>
            <a:ext cx="86072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peed things up some mo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0520" y="181296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6012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vi press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e key to verify you are i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o directly to a specific li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press &lt;ENTER&gt;. If NN=100, go to line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o to start/end of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pr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your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o to top/bottom of a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trl-H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pr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trl-E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your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Undo the last change you made (in command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s “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diting configuration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7704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patterns to how configuration files 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most common comment character is “#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fter that you'll see “/* .... */” or “//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a few others, but they are less comm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diting configuration file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60724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9000"/>
          </a:bodyPr>
          <a:p>
            <a:pPr marL="3394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me configuration files have lots of comments and few directives. Others are the oppos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locks of configuration may be indicated in a programmatic manner, i.e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&lt;VirtualHost 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5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&lt;SubSe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28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28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5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&lt;/SubSe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&lt;/VirtualHo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diting configuration file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60724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other standard is to do the follow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##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##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# default setting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hange the default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msmincho"/>
              </a:rPr>
              <a:t>default setting=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diting configuration file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60724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to watch ou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es and single quotes: “directive” or 'directive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s or CamelCas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host=”myho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Host=”myho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 end indicator (: or 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-line or continuation character “\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60724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's most confusing feature is that it works in two modes and you must switch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ble to edit a file using 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some of vi's more advanc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 to understand the “language” of configura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lternate editors: ee, joe, pico, emacs, xemacs, gedi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of our philosophy about 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's avail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it, what was that? Oh yeah, it's avail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's has some very powerfu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's ubiquitous in Unix (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visudo, vipw, vigr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that hard to learn after initial learning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ess your friends and family with your arcane knowledge of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is vi “so hard to use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all things it's not really – once you are used to how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ritical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vi conce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 has two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modes are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's see how we use thes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i command and insert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440" y="1994040"/>
            <a:ext cx="900576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7704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wapping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you open a file in vi you are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mmand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wish to edit the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ou need to switch to insert mode fir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i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sert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ess the ESCap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get used to this concept you are halfway done to becoming a competent vi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i insert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mmon ways to enter insert mode upon opening a fil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the “i” key to start entering text directly after your cur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the “o” key to add a new lin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ou cursor and to start adding text on the new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, to exi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sert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ess the ESCape key at any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447480"/>
            <a:ext cx="86072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i comman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9440" y="1562040"/>
            <a:ext cx="92692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, many commands in vi, but some of the most common and useful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“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to delete a character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“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quickly to press the line you ar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“/”, and text to search for and press &lt;ENTER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“n” to find the next occurrence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 “N” to find previous occurrences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447480"/>
            <a:ext cx="86072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ving a file or “How to exit vi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0520" y="192240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6012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vi press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e key to verify you are in command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ing on what you want to do p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write the file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wq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write the file to disk, then 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quit the file (only works if no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q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quit and lose any change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w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override r/o file permission if you are owner 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root and write the file to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w!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override r/o file permission if you are owner 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root and write the file to disk and q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447480"/>
            <a:ext cx="86072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peed-Up your Config File Edit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0520" y="1812600"/>
            <a:ext cx="909000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6012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vi press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e key to verify you are in command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arch for the first occurrence of somet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str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→ press &lt;EN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”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press “n” for each following oc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press “N” for each previous occurre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plac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currences of a string in a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%s/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old_strin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ew_strin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plac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currences of a string in a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%s/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old_strin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ew_strin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3:06:44Z</dcterms:created>
  <dc:creator/>
  <dc:description/>
  <dc:language>en-US</dc:language>
  <cp:lastModifiedBy>Hervey Allen</cp:lastModifiedBy>
  <cp:lastPrinted>2005-09-12T16:55:49Z</cp:lastPrinted>
  <dcterms:modified xsi:type="dcterms:W3CDTF">2009-07-18T23:52:18Z</dcterms:modified>
  <cp:revision>496</cp:revision>
  <dc:subject/>
  <dc:title/>
</cp:coreProperties>
</file>