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069181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8512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91880" y="4512600"/>
            <a:ext cx="8512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4153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3640" y="2262240"/>
            <a:ext cx="4153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1880" y="4512600"/>
            <a:ext cx="4153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3640" y="4512600"/>
            <a:ext cx="4153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2740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080" y="2262240"/>
            <a:ext cx="2740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47920" y="2262240"/>
            <a:ext cx="2740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91880" y="4512600"/>
            <a:ext cx="2740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080" y="4512600"/>
            <a:ext cx="2740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47920" y="4512600"/>
            <a:ext cx="2740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91880" y="2262240"/>
            <a:ext cx="85122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85122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41536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3640" y="2262240"/>
            <a:ext cx="41536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000" y="252360"/>
            <a:ext cx="99680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4153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3640" y="2262240"/>
            <a:ext cx="41536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91880" y="4512600"/>
            <a:ext cx="4153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41536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3640" y="2262240"/>
            <a:ext cx="4153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3640" y="4512600"/>
            <a:ext cx="4153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4153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3640" y="2262240"/>
            <a:ext cx="4153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91880" y="4512600"/>
            <a:ext cx="8512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8000" y="1260360"/>
            <a:ext cx="10439280" cy="6120000"/>
          </a:xfrm>
          <a:prstGeom prst="roundRect">
            <a:avLst>
              <a:gd name="adj" fmla="val 23"/>
            </a:avLst>
          </a:prstGeom>
          <a:solidFill>
            <a:srgbClr val="e6e6e6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0"/>
            <a:ext cx="10439280" cy="1260360"/>
          </a:xfrm>
          <a:prstGeom prst="rect">
            <a:avLst/>
          </a:prstGeom>
          <a:solidFill>
            <a:srgbClr val="47b8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1880" y="2262240"/>
            <a:ext cx="85122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036000" y="6983280"/>
            <a:ext cx="15112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en-GB" sz="900" spc="-1" strike="noStrike">
                <a:solidFill>
                  <a:srgbClr val="666666"/>
                </a:solidFill>
                <a:latin typeface="Arial"/>
              </a:rPr>
              <a:t>nsrc@summer worksh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en-GB" sz="900" spc="-1" strike="noStrike">
                <a:solidFill>
                  <a:srgbClr val="666666"/>
                </a:solidFill>
                <a:latin typeface="Arial"/>
              </a:rPr>
              <a:t>eugene, oreg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P Basic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36160" y="1584000"/>
            <a:ext cx="86058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ix/IP Preparation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uly 19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ugene, Oregon, US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ervey@nsrc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5892840"/>
            <a:ext cx="6971040" cy="10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8513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ing is a problem approached in 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OSI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TCP/IP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layer adds headers to the packet of the previous layer as the data leaves the machine (encapsulation) and the reverse occurs on the receiving host (decapsu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o what is an IPv4 address anyway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91880" y="2136600"/>
            <a:ext cx="86756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2 bit number (4 octet number) can be represented in lots of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595520" y="3117960"/>
            <a:ext cx="1484280" cy="468360"/>
            <a:chOff x="1595520" y="3117960"/>
            <a:chExt cx="1484280" cy="468360"/>
          </a:xfrm>
        </p:grpSpPr>
        <p:sp>
          <p:nvSpPr>
            <p:cNvPr id="137" name=""/>
            <p:cNvSpPr/>
            <p:nvPr/>
          </p:nvSpPr>
          <p:spPr>
            <a:xfrm>
              <a:off x="1595520" y="3117960"/>
              <a:ext cx="1484280" cy="46836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95520" y="3121200"/>
              <a:ext cx="1484280" cy="46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081240" y="3117960"/>
            <a:ext cx="1482840" cy="468360"/>
            <a:chOff x="3081240" y="3117960"/>
            <a:chExt cx="1482840" cy="468360"/>
          </a:xfrm>
        </p:grpSpPr>
        <p:sp>
          <p:nvSpPr>
            <p:cNvPr id="140" name=""/>
            <p:cNvSpPr/>
            <p:nvPr/>
          </p:nvSpPr>
          <p:spPr>
            <a:xfrm>
              <a:off x="3081240" y="3117960"/>
              <a:ext cx="1482840" cy="46836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1240" y="3121200"/>
              <a:ext cx="1482840" cy="46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565520" y="3117960"/>
            <a:ext cx="1484280" cy="468360"/>
            <a:chOff x="4565520" y="3117960"/>
            <a:chExt cx="1484280" cy="468360"/>
          </a:xfrm>
        </p:grpSpPr>
        <p:sp>
          <p:nvSpPr>
            <p:cNvPr id="143" name=""/>
            <p:cNvSpPr/>
            <p:nvPr/>
          </p:nvSpPr>
          <p:spPr>
            <a:xfrm>
              <a:off x="4565520" y="3117960"/>
              <a:ext cx="1484280" cy="46836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65520" y="3121200"/>
              <a:ext cx="1484280" cy="46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6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051600" y="3117960"/>
            <a:ext cx="1484280" cy="468360"/>
            <a:chOff x="6051600" y="3117960"/>
            <a:chExt cx="1484280" cy="468360"/>
          </a:xfrm>
        </p:grpSpPr>
        <p:sp>
          <p:nvSpPr>
            <p:cNvPr id="146" name=""/>
            <p:cNvSpPr/>
            <p:nvPr/>
          </p:nvSpPr>
          <p:spPr>
            <a:xfrm>
              <a:off x="6051600" y="3117960"/>
              <a:ext cx="1484280" cy="46836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51600" y="3121200"/>
              <a:ext cx="1484280" cy="46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595520" y="4260960"/>
            <a:ext cx="1484280" cy="468360"/>
            <a:chOff x="1595520" y="4260960"/>
            <a:chExt cx="1484280" cy="468360"/>
          </a:xfrm>
        </p:grpSpPr>
        <p:sp>
          <p:nvSpPr>
            <p:cNvPr id="149" name=""/>
            <p:cNvSpPr/>
            <p:nvPr/>
          </p:nvSpPr>
          <p:spPr>
            <a:xfrm>
              <a:off x="1595520" y="4260960"/>
              <a:ext cx="1484280" cy="46836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95520" y="4264200"/>
              <a:ext cx="1484280" cy="46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000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081240" y="4260960"/>
            <a:ext cx="1482840" cy="468360"/>
            <a:chOff x="3081240" y="4260960"/>
            <a:chExt cx="1482840" cy="468360"/>
          </a:xfrm>
        </p:grpSpPr>
        <p:sp>
          <p:nvSpPr>
            <p:cNvPr id="152" name=""/>
            <p:cNvSpPr/>
            <p:nvPr/>
          </p:nvSpPr>
          <p:spPr>
            <a:xfrm>
              <a:off x="3081240" y="4260960"/>
              <a:ext cx="1482840" cy="46836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81240" y="4264200"/>
              <a:ext cx="1482840" cy="46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0011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565520" y="4260960"/>
            <a:ext cx="1484280" cy="468360"/>
            <a:chOff x="4565520" y="4260960"/>
            <a:chExt cx="1484280" cy="468360"/>
          </a:xfrm>
        </p:grpSpPr>
        <p:sp>
          <p:nvSpPr>
            <p:cNvPr id="155" name=""/>
            <p:cNvSpPr/>
            <p:nvPr/>
          </p:nvSpPr>
          <p:spPr>
            <a:xfrm>
              <a:off x="4565520" y="4260960"/>
              <a:ext cx="1484280" cy="46836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5520" y="4264200"/>
              <a:ext cx="1484280" cy="46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100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051600" y="4260960"/>
            <a:ext cx="1484280" cy="468360"/>
            <a:chOff x="6051600" y="4260960"/>
            <a:chExt cx="1484280" cy="468360"/>
          </a:xfrm>
        </p:grpSpPr>
        <p:sp>
          <p:nvSpPr>
            <p:cNvPr id="158" name=""/>
            <p:cNvSpPr/>
            <p:nvPr/>
          </p:nvSpPr>
          <p:spPr>
            <a:xfrm>
              <a:off x="6051600" y="4260960"/>
              <a:ext cx="1484280" cy="46836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51600" y="4264200"/>
              <a:ext cx="1484280" cy="46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1111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595520" y="5568840"/>
            <a:ext cx="1484280" cy="468360"/>
            <a:chOff x="1595520" y="5568840"/>
            <a:chExt cx="1484280" cy="468360"/>
          </a:xfrm>
        </p:grpSpPr>
        <p:sp>
          <p:nvSpPr>
            <p:cNvPr id="161" name=""/>
            <p:cNvSpPr/>
            <p:nvPr/>
          </p:nvSpPr>
          <p:spPr>
            <a:xfrm>
              <a:off x="1595520" y="5568840"/>
              <a:ext cx="1484280" cy="46836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95520" y="5572080"/>
              <a:ext cx="1484280" cy="46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081240" y="5568840"/>
            <a:ext cx="1482840" cy="468360"/>
            <a:chOff x="3081240" y="5568840"/>
            <a:chExt cx="1482840" cy="468360"/>
          </a:xfrm>
        </p:grpSpPr>
        <p:sp>
          <p:nvSpPr>
            <p:cNvPr id="164" name=""/>
            <p:cNvSpPr/>
            <p:nvPr/>
          </p:nvSpPr>
          <p:spPr>
            <a:xfrm>
              <a:off x="3081240" y="5568840"/>
              <a:ext cx="1482840" cy="46836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81240" y="5572080"/>
              <a:ext cx="1482840" cy="46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565520" y="5568840"/>
            <a:ext cx="1484280" cy="468360"/>
            <a:chOff x="4565520" y="5568840"/>
            <a:chExt cx="1484280" cy="468360"/>
          </a:xfrm>
        </p:grpSpPr>
        <p:sp>
          <p:nvSpPr>
            <p:cNvPr id="167" name=""/>
            <p:cNvSpPr/>
            <p:nvPr/>
          </p:nvSpPr>
          <p:spPr>
            <a:xfrm>
              <a:off x="4565520" y="5568840"/>
              <a:ext cx="1484280" cy="46836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65520" y="5572080"/>
              <a:ext cx="1484280" cy="46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051600" y="5568840"/>
            <a:ext cx="1484280" cy="468360"/>
            <a:chOff x="6051600" y="5568840"/>
            <a:chExt cx="1484280" cy="468360"/>
          </a:xfrm>
        </p:grpSpPr>
        <p:sp>
          <p:nvSpPr>
            <p:cNvPr id="170" name=""/>
            <p:cNvSpPr/>
            <p:nvPr/>
          </p:nvSpPr>
          <p:spPr>
            <a:xfrm>
              <a:off x="6051600" y="5568840"/>
              <a:ext cx="1484280" cy="46836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51600" y="5572080"/>
              <a:ext cx="1484280" cy="46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7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re to the structu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91880" y="2423880"/>
            <a:ext cx="86756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Division in IP Add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Network Part (Pref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describes which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Host Part (Host Add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describes which host on that network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Boundary can be an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used to be a multiple of 8 (/8, /16/, /24), but not usual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39880" y="4525920"/>
            <a:ext cx="6423120" cy="901800"/>
          </a:xfrm>
          <a:prstGeom prst="roundRect">
            <a:avLst>
              <a:gd name="adj" fmla="val 176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9360" y="4525920"/>
            <a:ext cx="1800" cy="901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18040" y="5357880"/>
            <a:ext cx="1247760" cy="45396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65520" bIns="44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84840" y="5357880"/>
            <a:ext cx="757440" cy="45396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65520" bIns="44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12920" y="4581360"/>
            <a:ext cx="2697120" cy="4543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65520" bIns="44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    .    154    .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16680" y="4505400"/>
            <a:ext cx="333360" cy="453960"/>
          </a:xfrm>
          <a:custGeom>
            <a:avLst/>
            <a:gdLst>
              <a:gd name="textAreaLeft" fmla="*/ 360 w 333360"/>
              <a:gd name="textAreaRight" fmla="*/ 333000 w 333360"/>
              <a:gd name="textAreaTop" fmla="*/ 360 h 453960"/>
              <a:gd name="textAreaBottom" fmla="*/ 453600 h 453960"/>
            </a:gdLst>
            <a:ahLst/>
            <a:rect l="textAreaLeft" t="textAreaTop" r="textAreaRight" b="textAreaBottom"/>
            <a:pathLst>
              <a:path w="21600" h="29406">
                <a:moveTo>
                  <a:pt x="102" y="0"/>
                </a:moveTo>
                <a:arcTo wR="102" hR="102" stAng="16200000" swAng="-5400000"/>
                <a:lnTo>
                  <a:pt x="0" y="29304"/>
                </a:lnTo>
                <a:arcTo wR="102" hR="102" stAng="10800000" swAng="-5400000"/>
                <a:lnTo>
                  <a:pt x="21498" y="2940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65520" bIns="44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39880" y="4976640"/>
            <a:ext cx="642312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82800" y="5084640"/>
            <a:ext cx="6280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61920" bIns="44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001101   10011010   00001000               0000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59360" y="4518000"/>
            <a:ext cx="1800" cy="914400"/>
          </a:xfrm>
          <a:prstGeom prst="line">
            <a:avLst/>
          </a:prstGeom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60840" y="5430960"/>
            <a:ext cx="757440" cy="45396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65520" bIns="44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M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Network Mask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8513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Network M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elp define which bits are used to describe the </a:t>
            </a: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Network Pa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which for </a:t>
            </a: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 Represent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decimal dot notation: 255.255.224.0    (128+64+32 in byte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binary: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msmincho"/>
              </a:rPr>
              <a:t>11111111 11111111 111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00000 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hexadecimal: 0xFFFFE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number of network bits: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msmincho"/>
              </a:rPr>
              <a:t>/1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  (8 + 8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nary AND of 32 bit IP address with 32 bit </a:t>
            </a: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netmas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yields network part of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ample Netmask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20600"/>
            <a:ext cx="8369280" cy="5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72360" bIns="44280" anchor="t">
            <a:normAutofit fontScale="95000"/>
          </a:bodyPr>
          <a:p>
            <a:pPr marL="32580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998640"/>
                <a:tab algn="l" pos="1913040"/>
                <a:tab algn="l" pos="2827440"/>
                <a:tab algn="l" pos="3741840"/>
                <a:tab algn="l" pos="4656240"/>
                <a:tab algn="l" pos="5570640"/>
                <a:tab algn="l" pos="6485040"/>
                <a:tab algn="l" pos="7399440"/>
                <a:tab algn="l" pos="8313840"/>
                <a:tab algn="l" pos="9228240"/>
                <a:tab algn="l" pos="10142640"/>
                <a:tab algn="l" pos="10145880"/>
                <a:tab algn="l" pos="10603080"/>
                <a:tab algn="l" pos="1060596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37.158.128.0/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7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etmask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55.255.128.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530440" y="2897280"/>
            <a:ext cx="1655640" cy="461880"/>
            <a:chOff x="2530440" y="2897280"/>
            <a:chExt cx="1655640" cy="461880"/>
          </a:xfrm>
        </p:grpSpPr>
        <p:sp>
          <p:nvSpPr>
            <p:cNvPr id="189" name=""/>
            <p:cNvSpPr/>
            <p:nvPr/>
          </p:nvSpPr>
          <p:spPr>
            <a:xfrm>
              <a:off x="2530440" y="2897280"/>
              <a:ext cx="1655640" cy="45396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30440" y="2897280"/>
              <a:ext cx="16556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00 100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191120" y="2897280"/>
            <a:ext cx="1655640" cy="461880"/>
            <a:chOff x="4191120" y="2897280"/>
            <a:chExt cx="1655640" cy="461880"/>
          </a:xfrm>
        </p:grpSpPr>
        <p:sp>
          <p:nvSpPr>
            <p:cNvPr id="192" name=""/>
            <p:cNvSpPr/>
            <p:nvPr/>
          </p:nvSpPr>
          <p:spPr>
            <a:xfrm>
              <a:off x="4191120" y="2897280"/>
              <a:ext cx="1655640" cy="45396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91120" y="2897280"/>
              <a:ext cx="16556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01 111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850000" y="2897280"/>
            <a:ext cx="1655640" cy="461880"/>
            <a:chOff x="5850000" y="2897280"/>
            <a:chExt cx="1655640" cy="461880"/>
          </a:xfrm>
        </p:grpSpPr>
        <p:sp>
          <p:nvSpPr>
            <p:cNvPr id="195" name=""/>
            <p:cNvSpPr/>
            <p:nvPr/>
          </p:nvSpPr>
          <p:spPr>
            <a:xfrm>
              <a:off x="5850000" y="2897280"/>
              <a:ext cx="1655640" cy="45396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50000" y="2897280"/>
              <a:ext cx="16556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  000 000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508880" y="2897280"/>
            <a:ext cx="1655640" cy="461880"/>
            <a:chOff x="7508880" y="2897280"/>
            <a:chExt cx="1655640" cy="461880"/>
          </a:xfrm>
        </p:grpSpPr>
        <p:sp>
          <p:nvSpPr>
            <p:cNvPr id="198" name=""/>
            <p:cNvSpPr/>
            <p:nvPr/>
          </p:nvSpPr>
          <p:spPr>
            <a:xfrm>
              <a:off x="7508880" y="2897280"/>
              <a:ext cx="1655640" cy="45396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08880" y="2897280"/>
              <a:ext cx="16556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000 000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530440" y="2440080"/>
            <a:ext cx="165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111 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2440080"/>
            <a:ext cx="165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111 11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50000" y="2440080"/>
            <a:ext cx="165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  000 0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08880" y="2440080"/>
            <a:ext cx="165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000 0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440080"/>
            <a:ext cx="1440" cy="914400"/>
          </a:xfrm>
          <a:prstGeom prst="line">
            <a:avLst/>
          </a:prstGeom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530440" y="4464000"/>
            <a:ext cx="1655640" cy="461880"/>
            <a:chOff x="2530440" y="4464000"/>
            <a:chExt cx="1655640" cy="461880"/>
          </a:xfrm>
        </p:grpSpPr>
        <p:sp>
          <p:nvSpPr>
            <p:cNvPr id="206" name=""/>
            <p:cNvSpPr/>
            <p:nvPr/>
          </p:nvSpPr>
          <p:spPr>
            <a:xfrm>
              <a:off x="2530440" y="4464000"/>
              <a:ext cx="1655640" cy="45396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30440" y="4464000"/>
              <a:ext cx="16556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100 011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191120" y="4464000"/>
            <a:ext cx="1655640" cy="461880"/>
            <a:chOff x="4191120" y="4464000"/>
            <a:chExt cx="1655640" cy="461880"/>
          </a:xfrm>
        </p:grpSpPr>
        <p:sp>
          <p:nvSpPr>
            <p:cNvPr id="209" name=""/>
            <p:cNvSpPr/>
            <p:nvPr/>
          </p:nvSpPr>
          <p:spPr>
            <a:xfrm>
              <a:off x="4191120" y="4464000"/>
              <a:ext cx="1655640" cy="45396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91120" y="4464000"/>
              <a:ext cx="16556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00 011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850000" y="4464000"/>
            <a:ext cx="1655640" cy="461880"/>
            <a:chOff x="5850000" y="4464000"/>
            <a:chExt cx="1655640" cy="461880"/>
          </a:xfrm>
        </p:grpSpPr>
        <p:sp>
          <p:nvSpPr>
            <p:cNvPr id="212" name=""/>
            <p:cNvSpPr/>
            <p:nvPr/>
          </p:nvSpPr>
          <p:spPr>
            <a:xfrm>
              <a:off x="5850000" y="4464000"/>
              <a:ext cx="1655640" cy="45396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50000" y="4464000"/>
              <a:ext cx="16556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000 000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7508880" y="4464000"/>
            <a:ext cx="1655640" cy="461880"/>
            <a:chOff x="7508880" y="4464000"/>
            <a:chExt cx="1655640" cy="461880"/>
          </a:xfrm>
        </p:grpSpPr>
        <p:sp>
          <p:nvSpPr>
            <p:cNvPr id="215" name=""/>
            <p:cNvSpPr/>
            <p:nvPr/>
          </p:nvSpPr>
          <p:spPr>
            <a:xfrm>
              <a:off x="7508880" y="4464000"/>
              <a:ext cx="1655640" cy="45396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08880" y="4464000"/>
              <a:ext cx="16556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000 000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530440" y="4006800"/>
            <a:ext cx="165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111 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4006800"/>
            <a:ext cx="165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111 11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50000" y="4006800"/>
            <a:ext cx="165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000 0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08880" y="4006800"/>
            <a:ext cx="165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000 0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50000" y="4006800"/>
            <a:ext cx="1440" cy="914400"/>
          </a:xfrm>
          <a:prstGeom prst="line">
            <a:avLst/>
          </a:prstGeom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530440" y="6022800"/>
            <a:ext cx="1655640" cy="462240"/>
            <a:chOff x="2530440" y="6022800"/>
            <a:chExt cx="1655640" cy="462240"/>
          </a:xfrm>
        </p:grpSpPr>
        <p:sp>
          <p:nvSpPr>
            <p:cNvPr id="223" name=""/>
            <p:cNvSpPr/>
            <p:nvPr/>
          </p:nvSpPr>
          <p:spPr>
            <a:xfrm>
              <a:off x="2530440" y="6022800"/>
              <a:ext cx="1655640" cy="45432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30440" y="6022800"/>
              <a:ext cx="165564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100 110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191120" y="6022800"/>
            <a:ext cx="1655640" cy="462240"/>
            <a:chOff x="4191120" y="6022800"/>
            <a:chExt cx="1655640" cy="462240"/>
          </a:xfrm>
        </p:grpSpPr>
        <p:sp>
          <p:nvSpPr>
            <p:cNvPr id="226" name=""/>
            <p:cNvSpPr/>
            <p:nvPr/>
          </p:nvSpPr>
          <p:spPr>
            <a:xfrm>
              <a:off x="4191120" y="6022800"/>
              <a:ext cx="1655640" cy="45432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91120" y="6022800"/>
              <a:ext cx="165564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010 010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50000" y="6022800"/>
            <a:ext cx="1657440" cy="462240"/>
            <a:chOff x="5850000" y="6022800"/>
            <a:chExt cx="1657440" cy="462240"/>
          </a:xfrm>
        </p:grpSpPr>
        <p:sp>
          <p:nvSpPr>
            <p:cNvPr id="229" name=""/>
            <p:cNvSpPr/>
            <p:nvPr/>
          </p:nvSpPr>
          <p:spPr>
            <a:xfrm>
              <a:off x="5850000" y="6022800"/>
              <a:ext cx="1657440" cy="45576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0000" y="6022800"/>
              <a:ext cx="165744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100 0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08880" y="6022800"/>
            <a:ext cx="1655640" cy="462240"/>
            <a:chOff x="7508880" y="6022800"/>
            <a:chExt cx="1655640" cy="462240"/>
          </a:xfrm>
        </p:grpSpPr>
        <p:sp>
          <p:nvSpPr>
            <p:cNvPr id="232" name=""/>
            <p:cNvSpPr/>
            <p:nvPr/>
          </p:nvSpPr>
          <p:spPr>
            <a:xfrm>
              <a:off x="7508880" y="6022800"/>
              <a:ext cx="1655640" cy="45432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08880" y="6022800"/>
              <a:ext cx="165564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  00 000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530440" y="5565600"/>
            <a:ext cx="165888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111 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5565600"/>
            <a:ext cx="165888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111 11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50000" y="5565600"/>
            <a:ext cx="165888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111 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08880" y="5565600"/>
            <a:ext cx="165888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1  00 0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77240" y="5565600"/>
            <a:ext cx="1440" cy="914400"/>
          </a:xfrm>
          <a:prstGeom prst="line">
            <a:avLst/>
          </a:prstGeom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39760" y="3463920"/>
            <a:ext cx="836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72360" bIns="44280" anchor="t">
            <a:noAutofit/>
          </a:bodyPr>
          <a:p>
            <a:pPr>
              <a:lnSpc>
                <a:spcPct val="93000"/>
              </a:lnSpc>
              <a:spcBef>
                <a:spcPts val="774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3720"/>
                <a:tab algn="l" pos="10510920"/>
                <a:tab algn="l" pos="1051416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8.134.0.0/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etmask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55.255.0.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39760" y="5081760"/>
            <a:ext cx="8399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72360" bIns="44280" anchor="t">
            <a:no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05.37.193.128/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etmask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55.255.255.19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llocating IP address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85136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bnet mask is used to define size of a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a subnet mask of 255.255.255.0 or /24 implies 32-24=8 host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mincho"/>
              </a:rPr>
              <a:t>2^8 minus 2 = 254 possible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ly a subnet mask of 255.255.255.224 or /27 implies 32-27=5 host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mincho"/>
              </a:rPr>
              <a:t>2^5 minus 2 = 30 possible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pecial IP Address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71640" y="1439640"/>
            <a:ext cx="90360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0’s in host part:  Represents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2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e.g. 193.0.0.0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2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e.g. 138.37.128.0/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2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e.g. 192.168.2.128/2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                                (WHY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2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1’s in host part: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Broadca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all hosts on 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2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e.g. 137.156.255.255 (137.156.0.0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2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e.g. 134.132.100.255 (134.132.100.0/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2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e.g. 192.168.2.127/25 (192.168.2.0/25)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2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7.0.0.0/8: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Loopbac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ddress (127.0.0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2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0.0.0.0: Various special purposes (DHCP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Networks – super- and subnetti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392436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8000" y="48610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08360" y="201780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4720" y="39988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619280" y="3236400"/>
            <a:ext cx="179280" cy="723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19280" y="4319640"/>
            <a:ext cx="179280" cy="720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340000" y="2698560"/>
            <a:ext cx="179280" cy="363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40000" y="3419640"/>
            <a:ext cx="17928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340000" y="4678200"/>
            <a:ext cx="179280" cy="182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40000" y="5219640"/>
            <a:ext cx="179280" cy="179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060720" y="2157480"/>
            <a:ext cx="539640" cy="36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60720" y="2879640"/>
            <a:ext cx="5396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060720" y="3419280"/>
            <a:ext cx="539640" cy="182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60720" y="3780000"/>
            <a:ext cx="5396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060720" y="4498560"/>
            <a:ext cx="539640" cy="182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60720" y="4859280"/>
            <a:ext cx="539640" cy="179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60720" y="5580000"/>
            <a:ext cx="5396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60720" y="5759280"/>
            <a:ext cx="5396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96000" y="1479600"/>
            <a:ext cx="50958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312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adding one bit to the netmas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subdivide the network into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maller networks.  This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ubne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.e.: If one has a /26 network (32 – 26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 =&gt; 2^6 =&gt; 64 addresses),  tha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subdivided into two subnets,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/27 netmask, where the state of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t will determine which network w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ressing (32 – 27 = 5 =&gt; 2^5 =&gt;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resses).  This can be done recurs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/27 =&gt; 2 x /28 or 4 x /29, etc..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: 192.168.10.0/25 (.0 - .127)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subnetted into 192.168.10.0 / 26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92.168.10.64 /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08360" y="270180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32068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08360" y="392760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432432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08360" y="486396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08360" y="536904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08360" y="605304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92360" y="540540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97040" y="455760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7040" y="358632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97040" y="250524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8000" y="298944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60000" y="326520"/>
            <a:ext cx="9969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Networks – super- and subnetti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64000" y="4068720"/>
            <a:ext cx="3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08000" y="306072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08000" y="48610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619280" y="3417840"/>
            <a:ext cx="179280" cy="36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40000" y="3419640"/>
            <a:ext cx="360360" cy="539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655640" y="5146560"/>
            <a:ext cx="179640" cy="36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1618920" y="4822920"/>
            <a:ext cx="182520" cy="218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64000" y="1479600"/>
            <a:ext cx="53895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versely, if two networks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ined” together under the same netmas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encompasses both networks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ar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upernett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s 10.254.4.0/24 and 10.254.5.0/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“joined” together into 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ressed: 10.254.4.0/2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: for this to be possible, the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st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ntigu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i.e. it is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supernet 10.254.5.0/24 and 10.254.6.0/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52360" y="252252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340000" y="4425480"/>
            <a:ext cx="360360" cy="615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618920" y="2878200"/>
            <a:ext cx="182520" cy="218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52360" y="371016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52360" y="450216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52360" y="547524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Numbering Rul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8513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ivate IP address ranges (RFC 191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10/8 (10.0.0.0 – 10.255.255.2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192.168/16 (192.168.0.0 – 192.168.255.2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172.16/12 (172.16.0.0 – 172.31.255.2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ublic Address space available from Afri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oose a small block from whatever range you have, and subnet your networks (to avoid problems with broadcasts, and implement segmentation policies – DMZ, internal, etc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ayer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91880" y="1452240"/>
            <a:ext cx="867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lex problems can be solved using the common divide and conquer principle. In this case the internals of the Internet are divided into separate 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Makes it easier to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Developments in one layer need not require changes in another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Easy formation (and quick testing of conformation to)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main models of layers are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OSI (Open Systems Interconn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inux IP related setting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20360" y="1800360"/>
            <a:ext cx="9180360" cy="48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8000"/>
          </a:bodyPr>
          <a:p>
            <a:pPr marL="3358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File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/etc/network/interf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/etc/h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/etc/hostname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GB" sz="3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000"/>
            </a:b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ommand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ifconfig eth0 196.200.218.x/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route add default gw 192.200.218.25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hostname pc1.cs.uoregon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outi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8513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host on the internet needs a way to get packets to other hosts outside its local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requires special host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out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at can move packets between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ckets may pass through many routers before they reach their desti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route tabl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91880" y="2136600"/>
            <a:ext cx="86756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hosts (including routers) have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oute tab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at specifies which networks it is connected to, and how to forward packets to a gateway router that can talk to other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imple route table (as might be shown by </a:t>
            </a:r>
            <a:r>
              <a:rPr b="0" lang="en-GB" sz="3200" spc="-1" strike="noStrike">
                <a:solidFill>
                  <a:srgbClr val="000000"/>
                </a:solidFill>
                <a:latin typeface="Courier 10 Pitch"/>
              </a:rPr>
              <a:t>route -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Destination   Gateway       Genmask       Flags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128.223.142.0 0.0.0.0       255.255.254.0 U 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0.0.0.0       128.223.142.1 0.0.0.0       UG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at do route table entries mean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851364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10 Pitch"/>
              </a:rPr>
              <a:t>Destination   Gateway       Genmask       Flags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128.223.142.0 0.0.0.0       255.255.254.0 U 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0.0.0.0       128.223.142.1 0.0.0.0       UG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stin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a network ad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atewa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an IP address of a router that can forward packets (or 0.0.0.0, if the packet doesn't need to be forward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enmas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a netm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dicate the type of rou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network interface that is connected to that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How the route table is use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85136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cket that needs to be sent has a destination IP ad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entry in the route table (starting with the firs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Compute the logical AND of the destination IP and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genmas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 e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Compare that with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destin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 e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If those match, send the packet out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interfa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, and we're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If not, move on to the next entry in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aching the local network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8513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se we want to send a packet to 128.223.143.42 using this rout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Destination   Gateway       Genmask       Flags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128.223.142.0 0.0.0.0       255.255.254.0 U 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0.0.0.0       128.223.142.1 0.0.0.0       UG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In the first e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128.223.143.42 AND 255.255.254.0 = 128.223.14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This matches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destin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 of the first routing table entry, so send the packet ou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interfa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 eth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first entry is called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twork rou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aching other network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85136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se we want to send a packet to 72.14.213.99 using this rout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Destination   Gateway       Genmask       Flags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128.223.142.0 0.0.0.0       255.255.254.0 U 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0.0.0.0       128.223.142.1 0.0.0.0       UG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72.14.213.99 AND 255.255.254.0 = 72.14.21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This does not match the first entry, so move on to the next e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72.14.213.99 AND 0.0.0.0 = 0.0.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This does match the second entry, so forward the packet to 128.223.142.1 via eth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default rout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8513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hat this route table en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Destination   Gateway       Genmask       Flags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0.0.0.0       128.223.142.1 0.0.0.0       UG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ches every possible destination IP address.  This is called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fault rou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 The gateway has to be a router capable of forwarding traf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re complex routi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851364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der this route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Destination   Gateway       Genmask       Flags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192.168.0.0   0.0.0.0       255.255.255.0 U 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192.168.1.0   0.0.0.0       255.255.255.0 U     e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192.168.2.0   0.0.0.0       255.255.254.0 U     eth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192.168.4.0   0.0.0.0       255.255.252.0 U     eth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0.0.0.0       192.168.1.1   0.0.0.0       UG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what a router's routing table might look like.  Note that there are multiple interfaces for multiple local networks, and a gateway that can reach other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Forwarding packe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79280" y="2168280"/>
            <a:ext cx="85136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 marL="3222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UNIX-like (and other) operating system can function as gateway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53856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Linux in /etc/sysctl.conf set:</a:t>
            </a:r>
            <a:br>
              <a:rPr sz="3200"/>
            </a:br>
            <a:br>
              <a:rPr sz="3200"/>
            </a:b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net.ipv4.ip_forward=1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out forwarding enabled, the box will not forward packets from one interface to another: it is simply a host with multiple interf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OSI Model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1330200"/>
            <a:ext cx="7558200" cy="58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OSI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425240"/>
            <a:ext cx="9537840" cy="59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ptual model composed of seven layers, developed by the International Organization for Standardization (ISO) in 198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Layer 7 – Application  (servers and clients etc web browsers, http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Layer 6 – Presentation (file formats e.g pdf, ASCII, jpeg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Layer 5 – Session (conversation initialisation,  termination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Layer 4 – Transport (inter host comm – error correction, Q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Layer 3 – Network (routing – path determination, IP[x] addresse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Layer 2 – Data link (switching – media acces, MAC addresse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Layer 1 – Physical (signalling – representation of binary dig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ronym: All People Seem To Need Dat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CP/IP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8960" y="1649160"/>
            <a:ext cx="8513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ly, TCP/IP (Transmission Control Protocol/Internet Protocol) is described using three to five functional layers. We have chosen the common DoD reference model, which is also known as the Internet referenc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Process/Application Layer consists of applications and processes that use the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Host-to-host transport layer provides end-to-end data delivery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Internetwork layer defines the datagram and handles the routing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Network access layer consists of routines for accessing physic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flipV="1">
            <a:off x="2195640" y="4823280"/>
            <a:ext cx="6659280" cy="2195640"/>
          </a:xfrm>
          <a:custGeom>
            <a:avLst/>
            <a:gdLst>
              <a:gd name="textAreaLeft" fmla="*/ 1464480 w 6659280"/>
              <a:gd name="textAreaRight" fmla="*/ 5194800 w 6659280"/>
              <a:gd name="textAreaTop" fmla="*/ 482760 h 2195640"/>
              <a:gd name="textAreaBottom" fmla="*/ 1712880 h 21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16000" y="1800360"/>
            <a:ext cx="6840720" cy="2879640"/>
          </a:xfrm>
          <a:custGeom>
            <a:avLst/>
            <a:gdLst>
              <a:gd name="textAreaLeft" fmla="*/ 1504080 w 6840720"/>
              <a:gd name="textAreaRight" fmla="*/ 5336640 w 6840720"/>
              <a:gd name="textAreaTop" fmla="*/ 633240 h 2879640"/>
              <a:gd name="textAreaBottom" fmla="*/ 224640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1880" y="218880"/>
            <a:ext cx="851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CP/IP model – the “hourglass”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76360" y="1800360"/>
            <a:ext cx="1079640" cy="720720"/>
          </a:xfrm>
          <a:prstGeom prst="roundRect">
            <a:avLst>
              <a:gd name="adj" fmla="val 218"/>
            </a:avLst>
          </a:pr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72000" y="1800360"/>
            <a:ext cx="1079280" cy="720720"/>
          </a:xfrm>
          <a:prstGeom prst="roundRect">
            <a:avLst>
              <a:gd name="adj" fmla="val 218"/>
            </a:avLst>
          </a:pr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76360" y="2700360"/>
            <a:ext cx="1079640" cy="720720"/>
          </a:xfrm>
          <a:prstGeom prst="roundRect">
            <a:avLst>
              <a:gd name="adj" fmla="val 218"/>
            </a:avLst>
          </a:pr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2000" y="2700360"/>
            <a:ext cx="1079280" cy="720720"/>
          </a:xfrm>
          <a:prstGeom prst="roundRect">
            <a:avLst>
              <a:gd name="adj" fmla="val 218"/>
            </a:avLst>
          </a:pr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95640" y="3600360"/>
            <a:ext cx="1079640" cy="720720"/>
          </a:xfrm>
          <a:prstGeom prst="roundRect">
            <a:avLst>
              <a:gd name="adj" fmla="val 218"/>
            </a:avLst>
          </a:pr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59640" y="3600360"/>
            <a:ext cx="1079280" cy="720720"/>
          </a:xfrm>
          <a:prstGeom prst="roundRect">
            <a:avLst>
              <a:gd name="adj" fmla="val 218"/>
            </a:avLst>
          </a:pr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48360" y="2700360"/>
            <a:ext cx="1079640" cy="720720"/>
          </a:xfrm>
          <a:prstGeom prst="roundRect">
            <a:avLst>
              <a:gd name="adj" fmla="val 218"/>
            </a:avLst>
          </a:pr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80360" y="2700360"/>
            <a:ext cx="1079280" cy="720720"/>
          </a:xfrm>
          <a:prstGeom prst="roundRect">
            <a:avLst>
              <a:gd name="adj" fmla="val 218"/>
            </a:avLst>
          </a:pr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T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15280" y="1800360"/>
            <a:ext cx="1044360" cy="684000"/>
          </a:xfrm>
          <a:prstGeom prst="roundRect">
            <a:avLst>
              <a:gd name="adj" fmla="val 231"/>
            </a:avLst>
          </a:pr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3600360"/>
            <a:ext cx="1079640" cy="720720"/>
          </a:xfrm>
          <a:prstGeom prst="roundRect">
            <a:avLst>
              <a:gd name="adj" fmla="val 218"/>
            </a:avLst>
          </a:pr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1800360"/>
            <a:ext cx="1079640" cy="720720"/>
          </a:xfrm>
          <a:prstGeom prst="roundRect">
            <a:avLst>
              <a:gd name="adj" fmla="val 218"/>
            </a:avLst>
          </a:pr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4500720"/>
            <a:ext cx="1079640" cy="720720"/>
          </a:xfrm>
          <a:prstGeom prst="roundRect">
            <a:avLst>
              <a:gd name="adj" fmla="val 218"/>
            </a:avLst>
          </a:pr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19640" y="5400720"/>
            <a:ext cx="1079280" cy="720720"/>
          </a:xfrm>
          <a:prstGeom prst="roundRect">
            <a:avLst>
              <a:gd name="adj" fmla="val 218"/>
            </a:avLst>
          </a:pr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96000" y="5400720"/>
            <a:ext cx="1079280" cy="720720"/>
          </a:xfrm>
          <a:prstGeom prst="roundRect">
            <a:avLst>
              <a:gd name="adj" fmla="val 218"/>
            </a:avLst>
          </a:pr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64360" y="5400720"/>
            <a:ext cx="1079280" cy="720720"/>
          </a:xfrm>
          <a:prstGeom prst="roundRect">
            <a:avLst>
              <a:gd name="adj" fmla="val 218"/>
            </a:avLst>
          </a:pr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11640" y="6300720"/>
            <a:ext cx="1079640" cy="720720"/>
          </a:xfrm>
          <a:prstGeom prst="roundRect">
            <a:avLst>
              <a:gd name="adj" fmla="val 218"/>
            </a:avLst>
          </a:pr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43640" y="6300720"/>
            <a:ext cx="1079280" cy="720720"/>
          </a:xfrm>
          <a:prstGeom prst="roundRect">
            <a:avLst>
              <a:gd name="adj" fmla="val 218"/>
            </a:avLst>
          </a:pr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40360" y="6300720"/>
            <a:ext cx="1079640" cy="720720"/>
          </a:xfrm>
          <a:prstGeom prst="roundRect">
            <a:avLst>
              <a:gd name="adj" fmla="val 218"/>
            </a:avLst>
          </a:pr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ige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79640" y="6300720"/>
            <a:ext cx="1079640" cy="720720"/>
          </a:xfrm>
          <a:prstGeom prst="roundRect">
            <a:avLst>
              <a:gd name="adj" fmla="val 218"/>
            </a:avLst>
          </a:prstGeom>
          <a:solidFill>
            <a:srgbClr val="99ccff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: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OSI and TCP/IP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30480" y="1922400"/>
            <a:ext cx="825480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ncapsulation &amp; Decapsul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1880" y="1631880"/>
            <a:ext cx="86756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er layers add headers (and sometimes trailers) to upper layers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7200" y="2746440"/>
            <a:ext cx="1601640" cy="45396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65520" bIns="44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7200" y="3643200"/>
            <a:ext cx="1401480" cy="45396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65520" bIns="44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4467240"/>
            <a:ext cx="1212840" cy="45396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65520" bIns="44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0720" y="5568840"/>
            <a:ext cx="1407960" cy="45396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65520" bIns="44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807160" y="2798640"/>
            <a:ext cx="2824200" cy="463680"/>
            <a:chOff x="5807160" y="2798640"/>
            <a:chExt cx="2824200" cy="463680"/>
          </a:xfrm>
        </p:grpSpPr>
        <p:sp>
          <p:nvSpPr>
            <p:cNvPr id="83" name=""/>
            <p:cNvSpPr/>
            <p:nvPr/>
          </p:nvSpPr>
          <p:spPr>
            <a:xfrm>
              <a:off x="5807160" y="2854440"/>
              <a:ext cx="2824200" cy="407880"/>
            </a:xfrm>
            <a:prstGeom prst="roundRect">
              <a:avLst>
                <a:gd name="adj" fmla="val 389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07160" y="2798640"/>
              <a:ext cx="282420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b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807160" y="3597120"/>
            <a:ext cx="2824200" cy="470160"/>
            <a:chOff x="5807160" y="3597120"/>
            <a:chExt cx="2824200" cy="470160"/>
          </a:xfrm>
        </p:grpSpPr>
        <p:sp>
          <p:nvSpPr>
            <p:cNvPr id="86" name=""/>
            <p:cNvSpPr/>
            <p:nvPr/>
          </p:nvSpPr>
          <p:spPr>
            <a:xfrm>
              <a:off x="5807160" y="3659040"/>
              <a:ext cx="2824200" cy="408240"/>
            </a:xfrm>
            <a:prstGeom prst="roundRect">
              <a:avLst>
                <a:gd name="adj" fmla="val 389"/>
              </a:avLst>
            </a:prstGeom>
            <a:solidFill>
              <a:srgbClr val="f57b49">
                <a:alpha val="25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07160" y="3597120"/>
              <a:ext cx="282420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b" anchorCtr="1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768920" y="3600360"/>
            <a:ext cx="990360" cy="466920"/>
            <a:chOff x="4768920" y="3600360"/>
            <a:chExt cx="990360" cy="466920"/>
          </a:xfrm>
        </p:grpSpPr>
        <p:sp>
          <p:nvSpPr>
            <p:cNvPr id="89" name=""/>
            <p:cNvSpPr/>
            <p:nvPr/>
          </p:nvSpPr>
          <p:spPr>
            <a:xfrm>
              <a:off x="4768920" y="3649680"/>
              <a:ext cx="990360" cy="417600"/>
            </a:xfrm>
            <a:prstGeom prst="roundRect">
              <a:avLst>
                <a:gd name="adj" fmla="val 380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68920" y="3600360"/>
              <a:ext cx="99036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b" anchorCtr="1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768920" y="4262400"/>
            <a:ext cx="3862440" cy="468360"/>
            <a:chOff x="4768920" y="4262400"/>
            <a:chExt cx="3862440" cy="468360"/>
          </a:xfrm>
        </p:grpSpPr>
        <p:sp>
          <p:nvSpPr>
            <p:cNvPr id="92" name=""/>
            <p:cNvSpPr/>
            <p:nvPr/>
          </p:nvSpPr>
          <p:spPr>
            <a:xfrm>
              <a:off x="4768920" y="4322880"/>
              <a:ext cx="3862440" cy="407880"/>
            </a:xfrm>
            <a:prstGeom prst="roundRect">
              <a:avLst>
                <a:gd name="adj" fmla="val 389"/>
              </a:avLst>
            </a:prstGeom>
            <a:solidFill>
              <a:srgbClr val="f57b49">
                <a:alpha val="25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68920" y="4262400"/>
              <a:ext cx="386244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b" anchorCtr="1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ransport 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730680" y="4268880"/>
            <a:ext cx="1036440" cy="461880"/>
            <a:chOff x="3730680" y="4268880"/>
            <a:chExt cx="1036440" cy="461880"/>
          </a:xfrm>
        </p:grpSpPr>
        <p:sp>
          <p:nvSpPr>
            <p:cNvPr id="95" name=""/>
            <p:cNvSpPr/>
            <p:nvPr/>
          </p:nvSpPr>
          <p:spPr>
            <a:xfrm>
              <a:off x="3730680" y="4322880"/>
              <a:ext cx="1036440" cy="407880"/>
            </a:xfrm>
            <a:prstGeom prst="roundRect">
              <a:avLst>
                <a:gd name="adj" fmla="val 389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30680" y="4268880"/>
              <a:ext cx="10364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b" anchorCtr="1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807160" y="4708440"/>
            <a:ext cx="2824200" cy="470160"/>
            <a:chOff x="5807160" y="4708440"/>
            <a:chExt cx="2824200" cy="470160"/>
          </a:xfrm>
        </p:grpSpPr>
        <p:sp>
          <p:nvSpPr>
            <p:cNvPr id="98" name=""/>
            <p:cNvSpPr/>
            <p:nvPr/>
          </p:nvSpPr>
          <p:spPr>
            <a:xfrm>
              <a:off x="5807160" y="4770360"/>
              <a:ext cx="2824200" cy="408240"/>
            </a:xfrm>
            <a:prstGeom prst="roundRect">
              <a:avLst>
                <a:gd name="adj" fmla="val 389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07160" y="4708440"/>
              <a:ext cx="282420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b" anchorCtr="1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768920" y="4716360"/>
            <a:ext cx="1036440" cy="462240"/>
            <a:chOff x="4768920" y="4716360"/>
            <a:chExt cx="1036440" cy="462240"/>
          </a:xfrm>
        </p:grpSpPr>
        <p:sp>
          <p:nvSpPr>
            <p:cNvPr id="101" name=""/>
            <p:cNvSpPr/>
            <p:nvPr/>
          </p:nvSpPr>
          <p:spPr>
            <a:xfrm>
              <a:off x="4768920" y="4770360"/>
              <a:ext cx="1036440" cy="408240"/>
            </a:xfrm>
            <a:prstGeom prst="roundRect">
              <a:avLst>
                <a:gd name="adj" fmla="val 389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68920" y="4716360"/>
              <a:ext cx="103644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b" anchorCtr="1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730680" y="4716360"/>
            <a:ext cx="1036440" cy="462240"/>
            <a:chOff x="3730680" y="4716360"/>
            <a:chExt cx="1036440" cy="462240"/>
          </a:xfrm>
        </p:grpSpPr>
        <p:sp>
          <p:nvSpPr>
            <p:cNvPr id="104" name=""/>
            <p:cNvSpPr/>
            <p:nvPr/>
          </p:nvSpPr>
          <p:spPr>
            <a:xfrm>
              <a:off x="3730680" y="4770360"/>
              <a:ext cx="1036440" cy="408240"/>
            </a:xfrm>
            <a:prstGeom prst="roundRect">
              <a:avLst>
                <a:gd name="adj" fmla="val 389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30680" y="4716360"/>
              <a:ext cx="103644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b" anchorCtr="1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730680" y="5342040"/>
            <a:ext cx="4900680" cy="461880"/>
            <a:chOff x="3730680" y="5342040"/>
            <a:chExt cx="4900680" cy="461880"/>
          </a:xfrm>
        </p:grpSpPr>
        <p:sp>
          <p:nvSpPr>
            <p:cNvPr id="107" name=""/>
            <p:cNvSpPr/>
            <p:nvPr/>
          </p:nvSpPr>
          <p:spPr>
            <a:xfrm>
              <a:off x="3730680" y="5396040"/>
              <a:ext cx="4900680" cy="407880"/>
            </a:xfrm>
            <a:prstGeom prst="roundRect">
              <a:avLst>
                <a:gd name="adj" fmla="val 389"/>
              </a:avLst>
            </a:prstGeom>
            <a:solidFill>
              <a:srgbClr val="f57b49">
                <a:alpha val="25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30680" y="5342040"/>
              <a:ext cx="49006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b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etwork 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807160" y="5788080"/>
            <a:ext cx="2824200" cy="463320"/>
            <a:chOff x="5807160" y="5788080"/>
            <a:chExt cx="2824200" cy="463320"/>
          </a:xfrm>
        </p:grpSpPr>
        <p:sp>
          <p:nvSpPr>
            <p:cNvPr id="110" name=""/>
            <p:cNvSpPr/>
            <p:nvPr/>
          </p:nvSpPr>
          <p:spPr>
            <a:xfrm>
              <a:off x="5807160" y="5843520"/>
              <a:ext cx="2824200" cy="407880"/>
            </a:xfrm>
            <a:prstGeom prst="roundRect">
              <a:avLst>
                <a:gd name="adj" fmla="val 389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07160" y="5788080"/>
              <a:ext cx="28242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b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768920" y="5788080"/>
            <a:ext cx="1036440" cy="463320"/>
            <a:chOff x="4768920" y="5788080"/>
            <a:chExt cx="1036440" cy="463320"/>
          </a:xfrm>
        </p:grpSpPr>
        <p:sp>
          <p:nvSpPr>
            <p:cNvPr id="113" name=""/>
            <p:cNvSpPr/>
            <p:nvPr/>
          </p:nvSpPr>
          <p:spPr>
            <a:xfrm>
              <a:off x="4768920" y="5843520"/>
              <a:ext cx="1036440" cy="407880"/>
            </a:xfrm>
            <a:prstGeom prst="roundRect">
              <a:avLst>
                <a:gd name="adj" fmla="val 389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68920" y="5788080"/>
              <a:ext cx="10364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b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730680" y="5788080"/>
            <a:ext cx="1036440" cy="463320"/>
            <a:chOff x="3730680" y="5788080"/>
            <a:chExt cx="1036440" cy="463320"/>
          </a:xfrm>
        </p:grpSpPr>
        <p:sp>
          <p:nvSpPr>
            <p:cNvPr id="116" name=""/>
            <p:cNvSpPr/>
            <p:nvPr/>
          </p:nvSpPr>
          <p:spPr>
            <a:xfrm>
              <a:off x="3730680" y="5843520"/>
              <a:ext cx="1036440" cy="407880"/>
            </a:xfrm>
            <a:prstGeom prst="roundRect">
              <a:avLst>
                <a:gd name="adj" fmla="val 389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30680" y="5788080"/>
              <a:ext cx="10364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b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692440" y="5342040"/>
            <a:ext cx="1036440" cy="461880"/>
            <a:chOff x="2692440" y="5342040"/>
            <a:chExt cx="1036440" cy="461880"/>
          </a:xfrm>
        </p:grpSpPr>
        <p:sp>
          <p:nvSpPr>
            <p:cNvPr id="119" name=""/>
            <p:cNvSpPr/>
            <p:nvPr/>
          </p:nvSpPr>
          <p:spPr>
            <a:xfrm>
              <a:off x="2692440" y="5396040"/>
              <a:ext cx="1036440" cy="407880"/>
            </a:xfrm>
            <a:prstGeom prst="roundRect">
              <a:avLst>
                <a:gd name="adj" fmla="val 389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92440" y="5342040"/>
              <a:ext cx="10364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b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692440" y="5788080"/>
            <a:ext cx="1036440" cy="463320"/>
            <a:chOff x="2692440" y="5788080"/>
            <a:chExt cx="1036440" cy="463320"/>
          </a:xfrm>
        </p:grpSpPr>
        <p:sp>
          <p:nvSpPr>
            <p:cNvPr id="122" name=""/>
            <p:cNvSpPr/>
            <p:nvPr/>
          </p:nvSpPr>
          <p:spPr>
            <a:xfrm>
              <a:off x="2692440" y="5843520"/>
              <a:ext cx="1036440" cy="407880"/>
            </a:xfrm>
            <a:prstGeom prst="roundRect">
              <a:avLst>
                <a:gd name="adj" fmla="val 389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92440" y="5788080"/>
              <a:ext cx="10364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b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8632800" y="5337000"/>
            <a:ext cx="1036800" cy="462240"/>
            <a:chOff x="8632800" y="5337000"/>
            <a:chExt cx="1036800" cy="462240"/>
          </a:xfrm>
        </p:grpSpPr>
        <p:sp>
          <p:nvSpPr>
            <p:cNvPr id="125" name=""/>
            <p:cNvSpPr/>
            <p:nvPr/>
          </p:nvSpPr>
          <p:spPr>
            <a:xfrm>
              <a:off x="8632800" y="5391000"/>
              <a:ext cx="1036800" cy="408240"/>
            </a:xfrm>
            <a:prstGeom prst="roundRect">
              <a:avLst>
                <a:gd name="adj" fmla="val 389"/>
              </a:avLst>
            </a:pr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32800" y="5337000"/>
              <a:ext cx="103680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b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rai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8632800" y="5788080"/>
            <a:ext cx="1036800" cy="463320"/>
            <a:chOff x="8632800" y="5788080"/>
            <a:chExt cx="1036800" cy="463320"/>
          </a:xfrm>
        </p:grpSpPr>
        <p:sp>
          <p:nvSpPr>
            <p:cNvPr id="128" name=""/>
            <p:cNvSpPr/>
            <p:nvPr/>
          </p:nvSpPr>
          <p:spPr>
            <a:xfrm>
              <a:off x="8632800" y="5843520"/>
              <a:ext cx="1036800" cy="407880"/>
            </a:xfrm>
            <a:prstGeom prst="roundRect">
              <a:avLst>
                <a:gd name="adj" fmla="val 389"/>
              </a:avLst>
            </a:pr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32800" y="5788080"/>
              <a:ext cx="10368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b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rai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Frame, Datagram, Segment, Packe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8513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names for packets at different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Ethernet (link layer)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IP (network layer) dat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TCP (transport layer)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rminology is not strictly fo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we often just use the term “packet” at any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18:05:44Z</dcterms:created>
  <dc:creator/>
  <dc:description/>
  <dc:language>en-US</dc:language>
  <cp:lastModifiedBy>Hervey Allen</cp:lastModifiedBy>
  <cp:lastPrinted>2008-05-25T18:08:20Z</cp:lastPrinted>
  <dcterms:modified xsi:type="dcterms:W3CDTF">2009-07-18T21:45:17Z</dcterms:modified>
  <cp:revision>98</cp:revision>
  <dc:subject/>
  <dc:title/>
</cp:coreProperties>
</file>