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480" y="812520"/>
            <a:ext cx="53118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20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3247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9" name=""/>
          <p:cNvSpPr/>
          <p:nvPr/>
        </p:nvSpPr>
        <p:spPr>
          <a:xfrm>
            <a:off x="4276800" y="0"/>
            <a:ext cx="3247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2"/>
          </p:nvPr>
        </p:nvSpPr>
        <p:spPr>
          <a:xfrm>
            <a:off x="4276800" y="10158480"/>
            <a:ext cx="324648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C68A7-9EF7-4593-9C56-87FCC6F83EDB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9213F-00F2-4CEA-99CB-BC32BEA8D718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1104840" y="81288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04840" y="812880"/>
            <a:ext cx="53355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FCCF8-05B8-4CFD-8CA7-F84351488348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FCDB4-BAE5-4FB7-AE9C-82E437CBE0D2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8" name=""/>
          <p:cNvSpPr/>
          <p:nvPr/>
        </p:nvSpPr>
        <p:spPr>
          <a:xfrm>
            <a:off x="1092240" y="812880"/>
            <a:ext cx="534024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7550D-D321-4804-9E18-48E6782CFB3D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046A0-DF7D-4EE7-A04E-CD8BEFDC9554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0" name=""/>
          <p:cNvSpPr/>
          <p:nvPr/>
        </p:nvSpPr>
        <p:spPr>
          <a:xfrm>
            <a:off x="1092240" y="812880"/>
            <a:ext cx="534024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AB7B1-61BF-4D92-A14A-8CCC7820D9F9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5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04840" y="812880"/>
            <a:ext cx="53420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4D40D-F9E7-43BC-A96D-BA602918E49B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F95B7-F96F-4A3F-827B-EE0B83CD01C7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A63E9-1488-4CF0-8B60-0BA15ABC11BF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1104840" y="812880"/>
            <a:ext cx="53355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E3DE4-021B-4451-B4DB-802548F8E7D5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7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126E7-6072-43D7-B8F8-3198308FE58A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0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9C6C6-A883-41B2-8161-24F59A7F2790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3" name=""/>
          <p:cNvSpPr/>
          <p:nvPr/>
        </p:nvSpPr>
        <p:spPr>
          <a:xfrm>
            <a:off x="1104840" y="812880"/>
            <a:ext cx="5329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66C25-A32D-43EF-8CB8-8F3E2F4AFFDB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6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A4AA-BC85-479F-AC4B-00D078300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720" y="443304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D73A-9108-4EBF-8D87-1584ACFC5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13828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8033-70BC-431F-8D51-3F19FA255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6184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1932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72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56184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61932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232B-1483-448D-B570-FB1F63483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F368-B57B-4B6E-B517-093B8054F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A325-D499-4B33-8A7E-EBB24C6F1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62E0-F3AC-464D-A5BE-4582AB9CC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387E-39C8-4AE3-A791-374DBA909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04360" y="135000"/>
            <a:ext cx="8285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62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11D2-E019-453A-B47E-039D9F83B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AC98-81D5-4547-BBE1-A301AAF8F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13828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247E-C756-4C8E-AD14-2F327B00F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B770-EE83-4864-8A61-67AE34C83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78960" y="168120"/>
            <a:ext cx="1440" cy="16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6888240"/>
            <a:ext cx="2322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3444840" y="6888240"/>
            <a:ext cx="3162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24480" y="6887880"/>
            <a:ext cx="2322360" cy="484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100" spc="-1" strike="noStrike">
                <a:solidFill>
                  <a:srgbClr val="000000"/>
                </a:solidFill>
                <a:latin typeface="Arial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2F1C6-9CFD-4304-90AD-9B2AC160E9E4}" type="slidenum">
              <a:rPr b="0" lang="en-GB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988480" y="168120"/>
            <a:ext cx="871560" cy="1425600"/>
            <a:chOff x="8988480" y="168120"/>
            <a:chExt cx="871560" cy="1425600"/>
          </a:xfrm>
        </p:grpSpPr>
        <p:sp>
          <p:nvSpPr>
            <p:cNvPr id="7" name=""/>
            <p:cNvSpPr/>
            <p:nvPr/>
          </p:nvSpPr>
          <p:spPr>
            <a:xfrm>
              <a:off x="898848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17424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5676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8848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7424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35676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542520" y="35244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88480" y="53820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74240" y="53820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56760" y="53820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542520" y="53820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28280" y="538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88480" y="72396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74240" y="72396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56760" y="72396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542520" y="72396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988480" y="90648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74240" y="90648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56760" y="90648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542520" y="90648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728280" y="90648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88480" y="109224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174240" y="109224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356760" y="109224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542520" y="109224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988480" y="1276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74240" y="1276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356760" y="127620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542520" y="127620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74240" y="146196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9542520" y="146196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053560" y="473040"/>
            <a:ext cx="649080" cy="1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550800"/>
            <a:ext cx="907272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300" spc="-1" strike="noStrike">
                <a:solidFill>
                  <a:srgbClr val="330066"/>
                </a:solidFill>
                <a:latin typeface="Arial"/>
              </a:rPr>
              <a:t>KENET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330066"/>
                </a:solidFill>
                <a:uFillTx/>
                <a:latin typeface="Arial"/>
              </a:rPr>
              <a:t>Kenya Education Network 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National Research and Education Network for Keny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200" spc="-1" strike="noStrike">
                <a:solidFill>
                  <a:srgbClr val="330066"/>
                </a:solidFill>
                <a:latin typeface="Arial"/>
              </a:rPr>
              <a:t>Kevin G. Chege</a:t>
            </a:r>
            <a:br>
              <a:rPr sz="2200"/>
            </a:br>
            <a:r>
              <a:rPr b="1" lang="en-GB" sz="2200" spc="-1" strike="noStrike">
                <a:solidFill>
                  <a:srgbClr val="330066"/>
                </a:solidFill>
                <a:latin typeface="Arial"/>
              </a:rPr>
              <a:t>kchege@kenet.or.ke</a:t>
            </a: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008000" y="3822840"/>
            <a:ext cx="9072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360" y="179280"/>
            <a:ext cx="830916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Previous Bandwidth capacity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6624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Uplink - 1Mb via Intelsat and 3Mb via Jambonet (Local Telco)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Downlink – 3Mb via Jambonet and 1.8Mb via Intelsat burstible to 2.4M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Larger Universities have their own VSAT downlinks via Intels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7Mb downlink shared from Intelsat to different geographic locations – Nairobi, Eldoret, Nak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hose outside Nairobi uplink via Jambo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he dedicated Intelsat bandwidth is 5.7Mb and the rest is a shared bu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830592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Old Bandwidth Costs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360" y="1895400"/>
            <a:ext cx="90630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SAT – Intelsat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Bandwidth costs about $1 for 2.3Kbps or $2,330 for 1Mb/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Commercial rate for that would be $3,000 for 1Mb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Lease line via Jambonet– Approximately $6 per kilobit or $1 for 170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Negotiated from commercial rate of $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Not 1:1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Bandwidth savings all gained by member instit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Early problems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063000" cy="62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policy both at KENET and at member institutions to govern I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own infrastructure hence relying on other provi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qualified technical staff at several member institu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gh cost of bandwidth and bandwidth mis-manag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a result of lack of trained staff some networks were/are poorly set up eg no proxy server for 20+ machines and IP addresses sometimes get black listed for spamming,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2005-2006, complaints were made to KENET concerning poor service. The already low capacity bandwidth were unusable for most institutions due to clogged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eck out case study solutions at: http://wiki.bwmo.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4720" y="13500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KENET Membership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2040" y="1112760"/>
          <a:ext cx="8820360" cy="6091200"/>
        </p:xfrm>
        <a:graphic>
          <a:graphicData uri="http://schemas.openxmlformats.org/drawingml/2006/table">
            <a:tbl>
              <a:tblPr/>
              <a:tblGrid>
                <a:gridCol w="3529080"/>
                <a:gridCol w="880920"/>
                <a:gridCol w="2814840"/>
                <a:gridCol w="1595520"/>
              </a:tblGrid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itution 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ership 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 enrollm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Univers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members and 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Univers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technic University Colle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egree Tertiary Colle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and International research institu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ctive full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members but in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member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 of KE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ET consortium 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2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4720" y="135000"/>
            <a:ext cx="8288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940040"/>
            <a:ext cx="904572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10079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71400" y="1857240"/>
            <a:ext cx="4705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Google partnership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7224840" y="6888240"/>
            <a:ext cx="2323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EB64D-B30C-4E5E-841D-0A447C88A1D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2960" y="1440000"/>
            <a:ext cx="9239400" cy="54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64880" y="1427040"/>
            <a:ext cx="336924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itstream Vera Sans"/>
              </a:rPr>
              <a:t>KENET / Google Partnership</a:t>
            </a: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8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T Directors Forum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9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F8790-2019-4925-B419-4FDD8889A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Value Proposition of KENET</a:t>
            </a:r>
            <a:endParaRPr b="0" lang="en-US" sz="4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595520"/>
            <a:ext cx="898848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7760" indent="-347760">
              <a:lnSpc>
                <a:spcPct val="62000"/>
              </a:lnSpc>
              <a:spcBef>
                <a:spcPts val="700"/>
              </a:spcBef>
              <a:spcAft>
                <a:spcPts val="2276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p Bandwidth and leased lines? </a:t>
            </a:r>
            <a:endParaRPr b="0" lang="en-US" sz="28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499"/>
              </a:spcBef>
              <a:spcAft>
                <a:spcPts val="1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gothic"/>
              </a:rPr>
              <a:t>1:1 ratio, best price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499"/>
              </a:spcBef>
              <a:spcAft>
                <a:spcPts val="1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gothic"/>
              </a:rPr>
              <a:t>Consortium power in bandwidth and computer purchases? 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62000"/>
              </a:lnSpc>
              <a:spcBef>
                <a:spcPts val="700"/>
              </a:spcBef>
              <a:spcAft>
                <a:spcPts val="2276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gateways and connections to other RENs  and partnerships</a:t>
            </a:r>
            <a:endParaRPr b="0" lang="en-US" sz="28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601"/>
              </a:spcBef>
              <a:spcAft>
                <a:spcPts val="19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Autonomous System Number as an NREN, IP address block , routing and layer 3 services ; Google partnership, Ubuntunet Alliance etc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62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T Directors Forum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AFF33-2B1E-4249-AE3C-311C6017B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0200" y="1319040"/>
            <a:ext cx="5029200" cy="5526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3200" y="217440"/>
            <a:ext cx="856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buntuNet Alliance – A regional REN</a:t>
            </a:r>
            <a:endParaRPr b="0" lang="en-US" sz="40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8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4D134-45B6-4426-BE39-EAD9362DB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95440" y="285840"/>
            <a:ext cx="856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Example: UbuntuNet today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1944720" y="2668680"/>
            <a:ext cx="2539800" cy="87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2" name=""/>
          <p:cNvSpPr/>
          <p:nvPr/>
        </p:nvSpPr>
        <p:spPr>
          <a:xfrm>
            <a:off x="434880" y="1081080"/>
            <a:ext cx="5160960" cy="143208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Vera Sans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3" name=""/>
          <p:cNvSpPr/>
          <p:nvPr/>
        </p:nvSpPr>
        <p:spPr>
          <a:xfrm>
            <a:off x="196920" y="3859200"/>
            <a:ext cx="1724040" cy="793800"/>
          </a:xfrm>
          <a:prstGeom prst="wedgeRoundRectCallout">
            <a:avLst>
              <a:gd name="adj1" fmla="val 69453"/>
              <a:gd name="adj2" fmla="val -42347"/>
              <a:gd name="adj3" fmla="val 16667"/>
            </a:avLst>
          </a:prstGeom>
          <a:solidFill>
            <a:srgbClr val="ffffff"/>
          </a:solidFill>
          <a:ln w="28440">
            <a:solidFill>
              <a:srgbClr val="e71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Submarine cable circuts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657520" y="2031480"/>
            <a:ext cx="476280" cy="876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703520" y="2111400"/>
            <a:ext cx="637920" cy="7970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6" name=""/>
          <p:cNvSpPr/>
          <p:nvPr/>
        </p:nvSpPr>
        <p:spPr>
          <a:xfrm>
            <a:off x="2141640" y="1509840"/>
            <a:ext cx="1724040" cy="587160"/>
          </a:xfrm>
          <a:prstGeom prst="pie">
            <a:avLst/>
          </a:prstGeom>
          <a:solidFill>
            <a:srgbClr val="3366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Vera Sans"/>
              </a:rPr>
              <a:t>Géan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7" name=""/>
          <p:cNvSpPr/>
          <p:nvPr/>
        </p:nvSpPr>
        <p:spPr>
          <a:xfrm>
            <a:off x="2976480" y="4970520"/>
            <a:ext cx="2063880" cy="1270080"/>
          </a:xfrm>
          <a:prstGeom prst="rect">
            <a:avLst/>
          </a:prstGeom>
          <a:solidFill>
            <a:srgbClr val="cc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929040" y="5049720"/>
            <a:ext cx="432000" cy="43020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9" name=""/>
          <p:cNvSpPr/>
          <p:nvPr/>
        </p:nvSpPr>
        <p:spPr>
          <a:xfrm>
            <a:off x="2500200" y="3224160"/>
            <a:ext cx="1428840" cy="1984320"/>
          </a:xfrm>
          <a:prstGeom prst="pie">
            <a:avLst/>
          </a:pr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0" name=""/>
          <p:cNvSpPr/>
          <p:nvPr/>
        </p:nvSpPr>
        <p:spPr>
          <a:xfrm>
            <a:off x="2260440" y="2827440"/>
            <a:ext cx="433440" cy="43020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5118120" y="2906640"/>
            <a:ext cx="2222640" cy="1111320"/>
          </a:xfrm>
          <a:prstGeom prst="wedgeRoundRectCallout">
            <a:avLst>
              <a:gd name="adj1" fmla="val 74921"/>
              <a:gd name="adj2" fmla="val -186342"/>
              <a:gd name="adj3" fmla="val 16667"/>
            </a:avLst>
          </a:prstGeom>
          <a:solidFill>
            <a:srgbClr val="ffffff"/>
          </a:solidFill>
          <a:ln w="28440">
            <a:solidFill>
              <a:srgbClr val="e71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VSAT connection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GRE tunnel to UbuntuNe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274644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itstream Vera Sans"/>
              </a:rPr>
              <a:t>UbuntuNet, London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3036960" y="5448240"/>
            <a:ext cx="198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buntuNet, Johannesburg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4" name=""/>
          <p:cNvSpPr/>
          <p:nvPr/>
        </p:nvSpPr>
        <p:spPr>
          <a:xfrm>
            <a:off x="276120" y="4890960"/>
            <a:ext cx="1903680" cy="1349640"/>
          </a:xfrm>
          <a:prstGeom prst="pie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TENET/ SANReN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5" name=""/>
          <p:cNvSpPr/>
          <p:nvPr/>
        </p:nvSpPr>
        <p:spPr>
          <a:xfrm>
            <a:off x="5675400" y="5764320"/>
            <a:ext cx="190332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Lesotho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7340760" y="4494240"/>
            <a:ext cx="230328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Swaziland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7" name=""/>
          <p:cNvSpPr/>
          <p:nvPr/>
        </p:nvSpPr>
        <p:spPr>
          <a:xfrm>
            <a:off x="2103480" y="5288040"/>
            <a:ext cx="1825560" cy="237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325760" y="4772160"/>
            <a:ext cx="3015000" cy="357120"/>
          </a:xfrm>
          <a:prstGeom prst="pie">
            <a:avLst/>
          </a:pr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9" name=""/>
          <p:cNvSpPr/>
          <p:nvPr/>
        </p:nvSpPr>
        <p:spPr>
          <a:xfrm>
            <a:off x="7818480" y="5605560"/>
            <a:ext cx="198288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MoRENet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0" name=""/>
          <p:cNvSpPr/>
          <p:nvPr/>
        </p:nvSpPr>
        <p:spPr>
          <a:xfrm>
            <a:off x="4325760" y="5129280"/>
            <a:ext cx="3730680" cy="714240"/>
          </a:xfrm>
          <a:prstGeom prst="pie">
            <a:avLst/>
          </a:prstGeom>
          <a:noFill/>
          <a:ln w="57240">
            <a:solidFill>
              <a:srgbClr val="8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1" name=""/>
          <p:cNvSpPr/>
          <p:nvPr/>
        </p:nvSpPr>
        <p:spPr>
          <a:xfrm>
            <a:off x="4325760" y="5288040"/>
            <a:ext cx="1587600" cy="635040"/>
          </a:xfrm>
          <a:prstGeom prst="pie">
            <a:avLst/>
          </a:pr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515880" y="6399360"/>
            <a:ext cx="190332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Namibia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3" name=""/>
          <p:cNvSpPr/>
          <p:nvPr/>
        </p:nvSpPr>
        <p:spPr>
          <a:xfrm>
            <a:off x="1944720" y="5367240"/>
            <a:ext cx="1984320" cy="1111320"/>
          </a:xfrm>
          <a:prstGeom prst="pie">
            <a:avLst/>
          </a:prstGeom>
          <a:noFill/>
          <a:ln w="57240">
            <a:solidFill>
              <a:srgbClr val="8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8370360" y="1158480"/>
            <a:ext cx="241560" cy="167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37080" y="1158480"/>
            <a:ext cx="2936880" cy="399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8213760" y="1081080"/>
            <a:ext cx="318960" cy="158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7" name=""/>
          <p:cNvSpPr/>
          <p:nvPr/>
        </p:nvSpPr>
        <p:spPr>
          <a:xfrm>
            <a:off x="7781760" y="2746440"/>
            <a:ext cx="1746360" cy="1031760"/>
          </a:xfrm>
          <a:prstGeom prst="pie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KENET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8" name=""/>
          <p:cNvSpPr/>
          <p:nvPr/>
        </p:nvSpPr>
        <p:spPr>
          <a:xfrm>
            <a:off x="1414440" y="1279440"/>
            <a:ext cx="4022640" cy="833400"/>
          </a:xfrm>
          <a:prstGeom prst="pie">
            <a:avLst/>
          </a:prstGeom>
          <a:noFill/>
          <a:ln w="57240">
            <a:solidFill>
              <a:srgbClr val="ff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116320" y="1557360"/>
            <a:ext cx="322200" cy="23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04720" y="135000"/>
            <a:ext cx="8288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TCIP Project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9045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ject to improve bandwidth access for Higher Education Institutions in Keny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ill upgrade Number of POPs to six across Keny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crease total bandwidth to 200Mbp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rove local infrastructure to leased fiber to at least half of 62 participating institution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rove all POPs to high standard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stall a main Data Center in Nairobi to provide top IT servic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POPs will be ready to receive Fiber when Kenya's fiber network will be complete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es will be leased but provider will be tied to hard SL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73360" y="270000"/>
            <a:ext cx="7022880" cy="66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133200"/>
            <a:ext cx="8286840" cy="14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The project so far.....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4720" y="1940040"/>
            <a:ext cx="904392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943280"/>
            <a:ext cx="86868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360" y="133200"/>
            <a:ext cx="8286840" cy="142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4720" y="1940040"/>
            <a:ext cx="904392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9154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360" y="87480"/>
            <a:ext cx="8286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hanges?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3920" cy="485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eed to change the IGP and improve the BG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alk to the Universities and get help them organise their networks, some still have daisy chai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alk to the Layer 1 provider, current fiber is dropping packets, jitter. Might not be well do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et STP running on the switch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493720"/>
            <a:ext cx="83152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Thank you!</a:t>
            </a:r>
            <a:br>
              <a:rPr sz="4300"/>
            </a:br>
            <a:br>
              <a:rPr sz="4300"/>
            </a:br>
            <a:r>
              <a:rPr b="1" lang="en-GB" sz="2400" spc="-1" strike="noStrike">
                <a:solidFill>
                  <a:srgbClr val="330066"/>
                </a:solidFill>
                <a:latin typeface="Arial"/>
              </a:rPr>
              <a:t>http://www.kenet.or.ke</a:t>
            </a:r>
            <a:br>
              <a:rPr sz="2400"/>
            </a:br>
            <a:br>
              <a:rPr sz="2400"/>
            </a:br>
            <a:r>
              <a:rPr b="1" lang="en-GB" sz="3200" spc="-1" strike="noStrike">
                <a:solidFill>
                  <a:srgbClr val="330066"/>
                </a:solidFill>
                <a:latin typeface="Arial"/>
              </a:rPr>
              <a:t>Questions, Comments..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4720" y="135000"/>
            <a:ext cx="8286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Governance and Operations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336600" y="1679400"/>
            <a:ext cx="950436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nya Education Network Trust (KENET)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Trustees -  5 VCs, MD of Telkom Kenya, DG of CCK, PS, Education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Management Board representing Trustee VCs and research institutions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(ICT directors or senior ICT faculty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Secretariat with a CEO “donated” by a member university (USIU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icensed as Alternative Networks Operator by CCK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All license fees waived by the regulator since inception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International gateway license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ovides Internet services in partnership with commercial operators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2 member institutions; 130,000 students + 17,000 staff members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04720" y="6888240"/>
            <a:ext cx="2322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Meoli Kashorda</a:t>
            </a:r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7224840" y="6888240"/>
            <a:ext cx="2323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31AB9-3383-4BC3-9356-DE21EA66811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3444840" y="6888240"/>
            <a:ext cx="3162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EA Accession Project</a:t>
            </a:r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Secretariat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504720" y="18954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8 IT professionals permanent staff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2 to 3 IT Interns at any one time from member universitie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accountant and one administrator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CEO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ysically hosted by the University of Nairobi in the Jomo Kenyatta Memorial Library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ving to USIU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4720" y="179280"/>
            <a:ext cx="8309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What KENET offers to members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504720" y="1895400"/>
            <a:ext cx="906624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ndwidth servic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4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At negotiated price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vices – mail hosting, backup, web hosting, setting up of custom servers, DNS Record hosting, monitoring for all connected host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ver co-location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chnical training of member technical staff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 algn="just">
              <a:lnSpc>
                <a:spcPct val="98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Bandwidth management training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twork support and design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Current KENET NoC 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1700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ne NoC in Nairobi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ll services running on open source  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isco routers used for routing, BGP sessions with both uplink providers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locates some elearning server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3174840"/>
            <a:ext cx="6629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NoC cont'd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309600" y="16002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osting the mirror.ac.ke  which contains FOSS software available for free download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cognised by OpenOffice.org as the mirror for Kenya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vides link to KIXP to improve access to local sites (18 Mb/s)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his link to KIXP also provides access to Google Apps Gmail accounts for Universitie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eb hosting and Email hosting for several Universities and institution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41320" y="2971800"/>
            <a:ext cx="83026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Early Network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Old Infrastructure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392040" y="1417680"/>
            <a:ext cx="90630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atellite bandwidth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Access via local leased lines connected directly to Jambonet (Internet services operator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In some case DVB satellite with uplink via KENET POPs or Jambonet POP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tribution Infrastructure used local leased lin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No control – network owned by the Telcom and they offer no SLA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IXP and some campuses connected using wireless link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Not viable for far away institution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st mile for 4 member institutions via digital microwave radio installed in Telkom network in year 2002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Moi, JKUAT, ANU, Baraton,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ree PoPs with VSAT nodes in Nairobi, Nakuru, Eldoret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8-10-05T14:44:33Z</dcterms:modified>
  <cp:revision>16</cp:revision>
  <dc:subject/>
  <dc:title>Bandwidth Optimisation in Low Capacity Networks  Case studies o</dc:title>
</cp:coreProperties>
</file>