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9691-D174-4145-BEC7-0293667C6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7715-D481-4B2B-9D86-E2CB8BE49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11DB-6D68-4D7A-975A-E89EECE3A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ADF2-3180-498A-B0D5-8F945D0F7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727E-B033-4243-8300-A2558A7A0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0C83-A249-45A7-BE5E-6BF8FB4DD0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A87C-7652-4609-8292-448904C9A6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E97A-9DC7-46E0-A893-2FBEAA195D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2396-467A-4B4B-9089-870B085D2C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5BE4-831E-4FC6-9E8B-DABF1D132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148F-B0A9-42EF-ADB7-CFB70A0D2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A2F3-4BA2-43B5-83EE-5456CF77D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26FD9-B130-4B85-8048-E0C1E46FB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4FE5-FA04-4106-9D98-E8335C505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9E47-68CB-40C1-9749-33AC11AACC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35B4-972C-414D-83B7-ED73AE00D9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020A-D453-4196-BF13-FDF9116DBB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01C-1B49-47B3-A691-E48138FF7C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C71-1123-4FF0-9001-FD81868B99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8BC-8F4A-4C48-9EA0-558B8444E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B59-3EAA-45CC-9EE0-786AD0608B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422-BFAE-4646-9186-C4A97E2EB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4C1D-28A6-4D13-BA6C-104C366E56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C49-C2E6-4620-BBDA-BED58AADE3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15F-14AE-4829-82B8-C4267C1186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5B2-481F-4DD3-BC1C-709C9D5AF4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25A-37DA-4DD8-B320-374A773C73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992-2538-4165-B612-026F5FD8DC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1EB-3F46-4C65-AE80-8AA2AE6C4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E0E-9192-4471-B890-796C5AB169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26498-112C-48A0-BF5D-F94CCFE6E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953E0-D303-4FAC-8781-B6BD39F32B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8EC2A-05F6-4AC2-B220-84991D8CA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BF74-F226-4625-AC8D-34451CEA53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5B6AF-A2D1-4670-87AB-7A8B1DBDD5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29CF9-0289-473B-8CF5-A20AFEFDB4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5381C-9A49-4340-9CD7-D6EFAB987E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73C14-66CE-4EBF-9C69-F9420522BF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FB81-B804-4560-9A48-B4CA50057F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46A5B-7DC8-40BA-A337-929BA16050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7D9C-A0B2-43CB-AA9B-D1F5BB7E09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6E810-E105-442B-81DC-D2D2E027B8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226E6-BEFD-4D74-97F8-D63E008D17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A0EF0-293E-45CB-A7C7-171E420FC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CFBC-1FA2-4BBF-99B4-46EEB7CEFF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AA4D8-627B-436D-B64F-1C16DD308B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EDBAE-AFD5-4B32-8109-5CD29EB7CF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9E9FE-2A47-4F3C-A21C-717456B488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7371-D081-481A-8532-5F5046A20D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EFFB2-3C20-4DEA-80B9-15CB2C1749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89AD7-C43C-45B4-B4E6-D6C1278F7C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47FF-5704-42EA-9389-879A9B04F8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54D06-DABF-4A38-B897-816DCD029D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602F-C414-4DC0-862B-6A554F0202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78FEA-DFCF-4A00-977C-BF6E2ABAB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F53F-3E54-464C-9542-1B5AEB8445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9542E-DC2D-4667-9A57-6C1C90A355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93E1-D5A6-4FF2-9161-0715006BF9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D484-6AB4-4E28-98FE-7443871817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C67-E020-4037-9CD1-021066DE8E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256C-F957-4A65-B7C6-9F7549E30E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075-F404-42EE-8660-877080E963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7035-6B4B-466A-9DDC-92BA0F7788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BBD-5137-4BB4-9C4B-57C1DA69A6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B8D0-658A-4C84-A813-A3C2E1EA92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E955-F486-40EC-9FAE-AE501C786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18B6-CE88-4ADF-9A8B-CFF0AA415A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9937-ED2A-4491-8D6A-310EB4DF84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421B-D0DF-479A-A638-E7CC41E61D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4C1-05B6-4E23-B589-880ED096E3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87C1D-B3C0-44C9-BD07-50223965D5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FDF12-30B8-4B33-83A3-8DE8B022BD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A264C-CD3D-4779-8FC5-924F73C48E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BCD10-B759-400D-8A56-ED046D8B71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2D0F2-8D92-4876-8A1C-166D52FAEA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583BD-8D6B-4EB3-9718-29EC8C3B91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DAC4E-D6BE-4371-BBFB-A337683F1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4D4-FB8A-4246-B130-7211369405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0E52B-74C6-4EFB-94FB-D2185CE795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DEB1A-D5F7-4756-AFCF-229339473D1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4D16F-916D-4F03-A1D7-B4EAF620E3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47BCD-BDA9-4C54-B24A-B5C26490FB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AC5A6-2B49-464F-A2E4-FE05A25D5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AC8F-73C1-4154-BE85-0E712AFCE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CEA3-7DAF-4F4F-B72B-D6E9418E5EE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1840"/>
            <a:ext cx="223920" cy="230040"/>
            <a:chOff x="914400" y="1401840"/>
            <a:chExt cx="223920" cy="2300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BD2B1-E446-4C41-82CF-CB1D38950147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3680"/>
            <a:ext cx="223920" cy="230040"/>
            <a:chOff x="2163600" y="2803680"/>
            <a:chExt cx="223920" cy="23004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24CC4-3B2F-455F-94CB-336FB7B6F3F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FD2F8-5DCC-43F6-A7D7-EBED1992309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61F5A-6C07-407D-89A4-883E93F9FDE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B66A-894A-4951-A77C-C4531B5BF6B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795920" cy="4795920"/>
            <a:chOff x="646200" y="969840"/>
            <a:chExt cx="4795920" cy="47959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5920" cy="47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4464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52E68-FCBE-402B-89EC-4D907632CCF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njamin A. Esh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shun@garnet.edu.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ly 24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3600" y="3324240"/>
            <a:ext cx="1211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3600" y="1143000"/>
            <a:ext cx="39546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Key Network features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The use of BGP implementation (with OSPF as the IGP) for optimum routing among the various campus  communities for the necessary inter-routing infor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P addressing to cater for the right number of hosts and subnets required by each institution and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Sufficient interconnection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Setting up of exchange points for internal traff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Peering with other RREN’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 clear defined routing policy will be enforced with the use of tagging and filtering at route redistribution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dditional Per-site filtering may be required for security on aggregator rou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This will ensure only allowed specific routes or traffic is shared according to pre-arranged agreements with the participating institu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 and Discussion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ground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hana Academic and Research Network (GARN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unched in 2006 AAU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idea to get VCG to act as govern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llenges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CG did not sign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ective purchase of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haring of research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aboration between researchers from different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imum human network between “member”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371600"/>
            <a:ext cx="78487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managers met at University of Legon to start the human network despite the fact that VCs had not signed the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eting to elect interim execu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P Pres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orum@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twork Startup Resource Center (NSRC) donate HP4000 managed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the Governance Structures of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ure the registration of GARNET as a legal entity in accordance with the Laws of Gh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GARNET Secretariat to manage the day- to-day activities of the Ghanaian National Research and Education Network (N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and membership of GARNET to include all other tertiary and research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of the physical connections of the various institutions in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itiate discussions with VODAPONE on how the National Backbone may be used for the purpose of creating the physical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RNET to become a Local Internet Registry (LIR), or at least get all members to subscribe to AfriNIC 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te and run at least one workshop for Campus Network Administrators in collaboration with the Network Startup Resource Center (nsr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250920"/>
            <a:ext cx="809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tate of National Backbone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60958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urce : National Communications Backbone Company 200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257800" cy="3886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734160" y="1143000"/>
            <a:ext cx="2181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On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60052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Two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51480" cy="3809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4:53:38Z</dcterms:created>
  <dc:creator>tech</dc:creator>
  <dc:description/>
  <dc:language>en-US</dc:language>
  <cp:lastModifiedBy>Bejamin Eshun</cp:lastModifiedBy>
  <dcterms:modified xsi:type="dcterms:W3CDTF">2009-07-24T21:00:17Z</dcterms:modified>
  <cp:revision>25</cp:revision>
  <dc:subject/>
  <dc:title>Update on GHARNET</dc:title>
</cp:coreProperties>
</file>