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F93E-A5CF-4110-956D-7C1F39C9C2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5DFD-1ECB-41A2-BE54-13EEF89B448E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6903-1229-42E3-8425-39BBECEA5EA4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C08F-3D83-4269-AC24-63108936E959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0A4D-E8DF-40DD-A1CF-15741809442B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354A-9AEF-430E-80D0-C63AC5D2F49A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87A4-5A2E-4649-967C-9182207571A7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421D-341E-4FA1-AE1F-65B26C6E31DE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5A0-692B-4383-BA1A-CAF7989A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CEF-BE83-4384-BB20-50ED03EC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B16-007F-440F-BED3-DB9EFB0E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594-4460-4812-9FA0-518744F5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8FC2-2058-48C7-ACDA-5C6E0B48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6817-DD76-446B-8B99-7EDBA86D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A26D-C43D-4BC9-BB4B-7CB20457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FF74-33E6-4F87-9209-F8EF4AB8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AD06-3224-4796-9502-4C5DE92F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E702-418D-451B-A70E-DE0D8E96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C2AF-6F0B-4B15-A85A-163D1FB8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C72-CE53-4664-B8FC-1868CCF2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EE0F-A254-414D-96F4-F2673053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1466-BFB1-4274-A9F2-A2881A4D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C589-06AA-4F2B-A9D1-4324EB6B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4D8F-EF91-4F83-A95D-609BCE37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D086-BEC2-42C1-9873-200D6166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F4F41-86D5-401F-99F3-860E586E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0954A-3ABB-49E8-8FB1-8AC003B3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8ED1D-77FA-4F80-8ADA-1B0FBAD3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4BDAD-B31B-4E9A-A221-78ADCB0B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6B7F9-0FED-4CAB-9CD3-9317E236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BE3-7C5E-4446-A228-46144D2E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9F06D-4132-4EB5-B63B-5F48E353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11CFD-AB68-4576-AB6F-7620395D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EC85D-7DFB-4E55-B5E1-7E02CFB4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1D623-7299-4045-95A6-713A7222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55966-AF0D-483A-AC50-1B571E61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0B1FE-AC4C-4125-8CE1-A92BB146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000E-5911-46F4-A1FE-6B902DA6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54CA7-D59E-49C0-AEE7-71C5B8EF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9807C-D7EB-4E4C-97E6-3B294CE2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3CF76-FE91-4385-8420-FBD1942D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EB6-A657-4B41-8444-A2B842C3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A5894-9A0E-412F-B32F-A42D1DFF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94E3B-0EE7-4E7B-A3F1-1FC9743D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4438-EDA2-45A3-8A3C-6F99BF55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64267-2AEF-47D7-BC4E-9882D1AF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2000D-DD3A-48EE-8C84-B16C8228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9663-0E1F-4A80-BDF8-7611F392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66270-4111-4AAD-8DAE-407F0DCF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F05B-4FAD-46CE-83D4-D1B8C2CF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D92D5-11EB-4DA5-8A77-0A6D786F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8D9-2E01-49BB-8076-D6237D7D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FFE-3E8F-4E5E-87D8-38CDA33F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4A8-1D78-474F-990B-983E6ED7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601-62B1-49AB-A772-AE74F90A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133-E586-4590-8E32-012AC7F4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07D2-4EF2-436D-8D6A-6987949D152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B74F-17E4-4867-8640-A7BCE88286C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9DEB-8ADB-4534-97AF-50672E6B9A8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6877-223C-4C5A-B1F7-C1DA9AD6ACD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-92160" y="208080"/>
            <a:ext cx="9455400" cy="3290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8600" y="4495680"/>
            <a:ext cx="876312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URICE K. NYIRONG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LAW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mzunilogo.GIF"/>
          <p:cNvPicPr/>
          <p:nvPr/>
        </p:nvPicPr>
        <p:blipFill>
          <a:blip r:embed="rId2"/>
          <a:stretch/>
        </p:blipFill>
        <p:spPr>
          <a:xfrm>
            <a:off x="3505320" y="228600"/>
            <a:ext cx="1430280" cy="13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ZUZU UNIVERSITY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533520" y="144792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Mzuzu University is an institution of higher learning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The first students were admitted in January 1999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Since its inception, Mzuzu University has grown from one (1) Faculty and centre to seven (7) faculties and three (3) centr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Has  student population of over 2000 full time students.</a:t>
            </a:r>
            <a:br>
              <a:rPr sz="2400"/>
            </a:b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URRENT NET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Library and Learning Resources Centre offers Internet connectivity and IT services to students, staff and the communit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ocal Area Network has a combination of wireless and w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ternet access is through V-SAT with a bandwidth of 1024kbps downstream, and 256kbps upstrea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Object 8"/>
          <p:cNvGraphicFramePr/>
          <p:nvPr/>
        </p:nvGraphicFramePr>
        <p:xfrm>
          <a:off x="457200" y="0"/>
          <a:ext cx="8686800" cy="67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686800" cy="67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533520" y="-65160"/>
          <a:ext cx="861048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-65160"/>
                    <a:ext cx="861048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ROBLEM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andwidth is not enoug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VSAT is expensi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Lack of antivirus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requent power failur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Lack of resources. i.e. No Redundanc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ireless Network unreliab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posed solu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mplement a full wired network with fiber backbon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7:55:59Z</dcterms:created>
  <dc:creator>Maganizo Monawe</dc:creator>
  <dc:description/>
  <dc:language>en-US</dc:language>
  <cp:lastModifiedBy>uSE</cp:lastModifiedBy>
  <dcterms:modified xsi:type="dcterms:W3CDTF">2009-07-24T21:39:30Z</dcterms:modified>
  <cp:revision>97</cp:revision>
  <dc:subject/>
  <dc:title>NETWORK DESIGN AND MANAGEMENT: MONITORING AND ANALYSING TRAFFIC ON THE LOCAL NETWORK </dc:title>
</cp:coreProperties>
</file>