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33080" y="1006200"/>
            <a:ext cx="50943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97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928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4884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36360"/>
            <a:ext cx="934884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3636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3636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0800" y="196344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0" y="196344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3636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0800" y="453636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1600" y="4536360"/>
            <a:ext cx="300996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63440"/>
            <a:ext cx="9348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48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456192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963440"/>
            <a:ext cx="456192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5964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963440"/>
            <a:ext cx="456192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3636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456192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3636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963440"/>
            <a:ext cx="456192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36360"/>
            <a:ext cx="9348840" cy="23493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5964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440"/>
            <a:ext cx="934884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5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a-DK" sz="1000" spc="-1" strike="noStrike">
                <a:solidFill>
                  <a:srgbClr val="33a3a3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a-DK" sz="1000" spc="-1" strike="noStrike">
                <a:solidFill>
                  <a:srgbClr val="33a3a3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ricket.sourceforge.net/" TargetMode="External"/><Relationship Id="rId2" Type="http://schemas.openxmlformats.org/officeDocument/2006/relationships/hyperlink" Target="http://www.mrtg.com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et-snmp.sourceforge.net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nort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agios.org/" TargetMode="External"/><Relationship Id="rId2" Type="http://schemas.openxmlformats.org/officeDocument/2006/relationships/hyperlink" Target="http://www.sysmon.org/" TargetMode="External"/><Relationship Id="rId3" Type="http://schemas.openxmlformats.org/officeDocument/2006/relationships/hyperlink" Target="http://www.opennm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15880" y="1787040"/>
            <a:ext cx="877248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Utopia"/>
                <a:ea typeface="Bitstream Vera Sans"/>
              </a:rPr>
              <a:t>Network Design and Operations</a:t>
            </a: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</a:rPr>
              <a:t>July 24, 2009</a:t>
            </a: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</a:rPr>
              <a:t>Eugene, Oregon, USA</a:t>
            </a: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marL="343080" indent="-343080" algn="ctr">
              <a:lnSpc>
                <a:spcPct val="97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topia"/>
              </a:rPr>
              <a:t>hervey@nsrc.org</a:t>
            </a: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anagement &amp; Monitoring 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5862600"/>
            <a:ext cx="5591520" cy="14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0280" y="7056360"/>
            <a:ext cx="1485720" cy="3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6000" y="1926720"/>
            <a:ext cx="953928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you asked, 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o you keep track of it 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”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563920"/>
            <a:ext cx="3959280" cy="4692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48360" y="2376360"/>
            <a:ext cx="3708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In the end, ”we” wrote our own software...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4176720"/>
            <a:ext cx="4013280" cy="6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04000" y="5148360"/>
            <a:ext cx="3959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a-DK" sz="4800" spc="-1" strike="noStrike">
                <a:solidFill>
                  <a:srgbClr val="000000"/>
                </a:solidFill>
                <a:latin typeface="Arial"/>
              </a:rPr>
              <a:t>Netdot!</a:t>
            </a:r>
            <a:endParaRPr b="0" lang="en-US" sz="48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00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me basics, such as documenting your switches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is each port connected to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an be simple text file with one line for every port in a switch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health-switch1, port 1, Room 29 – Director’s offi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health-switch1, port 2, Room 43 – Reception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health-switch1, port 3, Room 100 – Classro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health-switch1, port 4, Room 105 – Professors Offi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…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Bitstream Vera Sans"/>
              </a:rPr>
              <a:t>health-switch1, port 25, uplink to health-backb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information might be available to your network staff, help desk staff, via a wiki, software interface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ember to label your ports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326520"/>
            <a:ext cx="85978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:</a:t>
            </a:r>
            <a:br>
              <a:rPr sz="4000"/>
            </a:br>
            <a:r>
              <a:rPr b="1" lang="da-DK" sz="3200" spc="-1" strike="noStrike">
                <a:solidFill>
                  <a:srgbClr val="dc2300"/>
                </a:solidFill>
                <a:latin typeface="Helvetica Bold"/>
              </a:rPr>
              <a:t>Labeling</a:t>
            </a:r>
            <a:endParaRPr b="1" lang="en-US" sz="32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ice :-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0280" y="271764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81080" y="2717640"/>
            <a:ext cx="45482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326520"/>
            <a:ext cx="85978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:</a:t>
            </a:r>
            <a:br>
              <a:rPr sz="4000"/>
            </a:br>
            <a:r>
              <a:rPr b="1" lang="da-DK" sz="3200" spc="-1" strike="noStrike">
                <a:solidFill>
                  <a:srgbClr val="dc2300"/>
                </a:solidFill>
                <a:latin typeface="Helvetica Bold"/>
              </a:rPr>
              <a:t>Software and Discovery</a:t>
            </a:r>
            <a:endParaRPr b="1" lang="en-US" sz="32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84312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There are some other Open Source network documentaiton projects, including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843120" indent="-6321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to manage DHCP and DNS entries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a-DK" sz="1800" spc="-1" strike="noStrike">
                <a:solidFill>
                  <a:srgbClr val="333333"/>
                </a:solidFill>
                <a:latin typeface="Arial"/>
              </a:rPr>
              <a:t>See http://maintainproject.osuosl.org/about for a humorous history.</a:t>
            </a:r>
            <a:br>
              <a:rPr sz="1800"/>
            </a:br>
            <a:r>
              <a:rPr b="0" i="1" lang="da-DK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843120" indent="-6321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da-DK" sz="3200" spc="-1" strike="noStrike">
                <a:solidFill>
                  <a:srgbClr val="333333"/>
                </a:solidFill>
                <a:latin typeface="Arial"/>
              </a:rPr>
              <a:t>Netdisco</a:t>
            </a:r>
            <a:r>
              <a:rPr b="0" lang="da-DK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9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Locate a machine on the network by MAC or IP and show the switch port it lives 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9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Turn Off a switch port while leaving an audit trail. Admins log why a port was shut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9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Inventory your network hardware by model, vendor, switch-card, firmware and operating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9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port on IP address and switch port usage: historical and curr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9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Pretty pictures of your network.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3120" indent="-6321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is a web based, multilingual, TCP IP address management (IPAM) software and tracking too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2843280"/>
            <a:ext cx="1596960" cy="43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2000" y="3600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9040" y="6103800"/>
            <a:ext cx="184320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:</a:t>
            </a:r>
            <a:br>
              <a:rPr sz="4000"/>
            </a:br>
            <a:r>
              <a:rPr b="1" lang="da-DK" sz="3200" spc="-1" strike="noStrike">
                <a:solidFill>
                  <a:srgbClr val="dc2300"/>
                </a:solidFill>
                <a:latin typeface="Helvetica Bold"/>
              </a:rPr>
              <a:t>Diagrams</a:t>
            </a:r>
            <a:endParaRPr b="1" lang="en-US" sz="32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40240" y="3672000"/>
            <a:ext cx="6323040" cy="3286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536400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Documentation:</a:t>
            </a:r>
            <a:br>
              <a:rPr sz="4000"/>
            </a:br>
            <a:r>
              <a:rPr b="1" lang="da-DK" sz="3200" spc="-1" strike="noStrike">
                <a:solidFill>
                  <a:srgbClr val="dc2300"/>
                </a:solidFill>
                <a:latin typeface="Helvetica Bold"/>
              </a:rPr>
              <a:t>Diagramming Software</a:t>
            </a:r>
            <a:endParaRPr b="1" lang="en-US" sz="32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028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97000"/>
          </a:bodyPr>
          <a:p>
            <a:pPr marL="40788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000" spc="-1" strike="noStrike">
                <a:solidFill>
                  <a:srgbClr val="333333"/>
                </a:solidFill>
                <a:latin typeface="Arial"/>
              </a:rPr>
              <a:t>Windows Diagramming Softwar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07880" indent="-3063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Visio: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http://office.microsoft.com/en-us/visio/FX100487861033.aspx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07880" indent="-3063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Ezdraw: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http://www.edrawsoft.com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07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000" spc="-1" strike="noStrike">
                <a:solidFill>
                  <a:srgbClr val="333333"/>
                </a:solidFill>
                <a:latin typeface="Arial"/>
              </a:rPr>
              <a:t>Open Source Diagramming Softwar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07880" indent="-3063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Dia: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http://live.gnome.org/D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07880" indent="-3063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Cisco reference icons</a:t>
            </a: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000"/>
            </a:b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http://www.cisco.com/web/about/ac50/ac47/2.ht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07880" indent="-3063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Nagios Exchange:</a:t>
            </a:r>
            <a:br>
              <a:rPr sz="2800"/>
            </a:b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333333"/>
                </a:solidFill>
                <a:latin typeface="Arial"/>
              </a:rPr>
              <a:t>http://www.nagiosexchange.org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99000"/>
          </a:bodyPr>
          <a:p>
            <a:pPr marL="416520" indent="-31284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Three kinds of tools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33333"/>
                </a:solidFill>
                <a:latin typeface="Arial"/>
              </a:rPr>
              <a:t>Diagnostic tools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– used to test connectivity, ascertain that a location is reachable, or a device is up – usually active tools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33333"/>
                </a:solidFill>
                <a:latin typeface="Arial"/>
              </a:rPr>
              <a:t>Monitoring tools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– tools running in the background (”daemons” or services), which collect events, but can also initiate their own probes (using diagnostic tools), and recording the output, in a scheduled fashion.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33333"/>
                </a:solidFill>
                <a:latin typeface="Arial"/>
              </a:rPr>
              <a:t>Performance tools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– tell us how our network is handling traffic flow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317160"/>
            <a:ext cx="859788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Network monitoring systems and tool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2084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000" spc="-1" strike="noStrike">
                <a:solidFill>
                  <a:srgbClr val="333333"/>
                </a:solidFill>
                <a:latin typeface="Arial"/>
              </a:rPr>
              <a:t>Performance Too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Key is to look at each router interface (probably don’t need to look at switch ports)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wo common tools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ricket.sourceforge.net/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rtg.com/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0">
              <a:lnSpc>
                <a:spcPct val="93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39680" y="5160960"/>
            <a:ext cx="647712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1855800"/>
            <a:ext cx="93600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Active too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ing – test connectivity to a hos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raceroute – show path to a hos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TR – combination of ping + tracerou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NMP collectors (polling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Passive too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og monitoring, SNMP trap receivers, NetFlow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Automated too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mokePing – record and graph latency to a set of hosts, using ICMP (Ping) or other protoco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RTG/RRD – record and graph bandwidth usage on a switch port or network link, at regular interva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Network &amp; Service Monitoring tool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Nagios – server and service monitor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monitor pretty much 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, SMTP, DNS, Disk space, CPU usag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write new plugins (extension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Basic scripting skills are required to develop simple monitoring jobs – Perl, Shellscript..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any good Open Source too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bbix, ZenOSS, Hyperic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Use them to monitor reachability and latency in your network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arent-child dependency mechanisms are very useful!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Introductio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0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This is a </a:t>
            </a:r>
            <a:r>
              <a:rPr b="0" i="1" lang="da-DK" sz="3000" spc="-1" strike="noStrike">
                <a:solidFill>
                  <a:srgbClr val="333333"/>
                </a:solidFill>
                <a:latin typeface="Arial"/>
              </a:rPr>
              <a:t>big</a:t>
            </a: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 topic..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There are a lot of tools to choose from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Arial"/>
              </a:rPr>
              <a:t>Open Sour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Arial"/>
              </a:rPr>
              <a:t>Commerci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Arial"/>
              </a:rPr>
              <a:t>Linux/Unix-bas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Arial"/>
              </a:rPr>
              <a:t>Windows-bas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600" spc="-1" strike="noStrike">
                <a:solidFill>
                  <a:srgbClr val="333333"/>
                </a:solidFill>
                <a:latin typeface="Arial"/>
              </a:rPr>
              <a:t>Network Vendor tools (Cisco, Juniper, others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o one combination of tools is correct for everyone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What you need to know about your network will drive your choice of tools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5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Monitor your critical Network Service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adius/LDAP/SQ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SH to rout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How will you be notified 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Don't forget log collection!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very network device (and UNIX and Windows servers as well) can report system events using syslo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You </a:t>
            </a:r>
            <a:r>
              <a:rPr b="1" lang="en-GB" sz="2600" spc="-1" strike="noStrike">
                <a:solidFill>
                  <a:srgbClr val="333333"/>
                </a:solidFill>
                <a:latin typeface="Arial"/>
              </a:rPr>
              <a:t>MUST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 collect and monitor your logs!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Not doing so is one of the most common mistakes when doing network monitor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anagement Protoc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NMP – Simple Network Management Protocol</a:t>
            </a:r>
            <a:br>
              <a:rPr sz="1000"/>
            </a:b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throughput, errors, CPU load, temperatur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UNIX and Windows implement this as wel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, running processes, 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SH and telne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t's also possible to use scripting to automate monitoring of hosts and servi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NMP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00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t SNMP tool s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1240" indent="-284040">
              <a:lnSpc>
                <a:spcPct val="103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t-snmp.sourceforge.net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ery simple to build simple too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1240" indent="-28404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ne that builds snapshots of which IP is used by which Ethernet 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1240" indent="-284040">
              <a:lnSpc>
                <a:spcPct val="103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other that builds shapshots of which Ethernet addresses exist on which port on which switch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tatistics &amp; accounting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Traffic accounting and analysis</a:t>
            </a:r>
            <a:br>
              <a:rPr sz="1000"/>
            </a:br>
            <a:r>
              <a:rPr b="0" lang="en-GB" sz="1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hat is your network used for, and how muc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Useful for Quality of Service, detecting abuses, and billing (metering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dicated protocol: NetFlow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dentify traffic ”flows”: protocol, source, destination, byt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ifferent tools exist to process the inform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tools, flo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Fault &amp; problem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6520" indent="-31284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Is the problem transient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verload, temporary resource shorta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Is the problem permanent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Equipment failure, link dow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How do you detect an error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onitoring!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A ticket system is essentia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pen ticket to track an event (planned or failure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fine dispatch/escalation rul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79840" indent="-21024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handles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21024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gets it next if no one is avail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2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6520" indent="-31284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hy are they important 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rack all events, failures and issu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Focal point for helpdesk communication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Use it to track all communication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Both internal and extern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Events originating from the outside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Events originating from the inside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ystem outages (direct or indirect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lanned maintenance / upgrade – Remember to notify your customers!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6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Use ticket system to follow each case, including internal communication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between technician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Each case is assigned a case numbe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Each case goes through a similar life cycle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pe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esolv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los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0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orkflow:</a:t>
            </a:r>
            <a:br>
              <a:rPr sz="3000"/>
            </a:br>
            <a:br>
              <a:rPr sz="30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Ticket System      Helpdesk         Tech            Eqpt     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----------------------------------------------------------------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    T                T               T                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query      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from 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"/>
              </a:rPr>
              <a:t>-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customer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-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request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|               |                |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&lt;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ack.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|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comm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"/>
              </a:rPr>
              <a:t>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    |                |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fix issue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"/>
              </a:rPr>
              <a:t>-&gt;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eqp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report fix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customer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respond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"/>
              </a:rPr>
              <a:t>--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          |                |               |                |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4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 fontScale="99000"/>
          </a:bodyPr>
          <a:p>
            <a:pPr marL="3394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ome ticketing and management software systems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33333"/>
                </a:solidFill>
                <a:latin typeface="Arial"/>
              </a:rPr>
              <a:t>rt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eavily used worldwide.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 classic ticketing system that can be customized to your locatio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omewhat difficult to install and configur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andles large-scale operat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33333"/>
                </a:solidFill>
                <a:latin typeface="Arial"/>
              </a:rPr>
              <a:t>trac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 hybrid system that includes a wiki and project management feature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icketing system is not as robust as rt, but works well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Often used for ”trac”king group project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6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33333"/>
                </a:solidFill>
                <a:latin typeface="Arial"/>
              </a:rPr>
              <a:t>redmin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43840" indent="-279720">
              <a:lnSpc>
                <a:spcPct val="8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ike trac, but more robust. Harder to instal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8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0880" y="317160"/>
            <a:ext cx="859788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Network Intrusion Detection Systems - NID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These are systems that observe all of your network traffic and report when it sees specific kinds of problem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nds hosts that are infected or are acting as spamming source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NORT is the most common open source tool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nort.org/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network management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ystem &amp; Service monitor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eachability, availabi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Resource measurement/monitor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apacity planning, availabi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Performance monitoring (RTT, throughput)</a:t>
            </a: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tatistics &amp; Accounting/Meter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Fault Management (Intrusion Detection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Fault detection, troubleshooting, and track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Ticketing systems, help des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Change management &amp; configuration monitor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Record changes to equipment configuration, using </a:t>
            </a:r>
            <a:r>
              <a:rPr b="0" i="1" lang="en-GB" sz="3000" spc="-1" strike="noStrike">
                <a:solidFill>
                  <a:srgbClr val="333333"/>
                </a:solidFill>
                <a:latin typeface="Arial"/>
              </a:rPr>
              <a:t>revision control </a:t>
            </a: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(also for configuration files)</a:t>
            </a: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Inventory management (equipment, IPs, interfaces, etc.)</a:t>
            </a: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Use versioning contro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s simple as: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”cp named.conf named.conf.20070827-01”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For plain configuration files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VS, Subvers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ercuri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Traditionally, used for source code (programs)</a:t>
            </a: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orks well for any text-based configuration file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lso for binary files, but less easy to see differen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For network equipment: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ANCID (Automatic Cisco configuration retrieval and archiving, also for other equipment types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8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286920"/>
            <a:ext cx="859788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Helvetica Bold"/>
              </a:rPr>
              <a:t>The Big picture - Again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70" name=""/>
          <p:cNvSpPr/>
          <p:nvPr/>
        </p:nvSpPr>
        <p:spPr>
          <a:xfrm>
            <a:off x="8096400" y="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1" name=""/>
          <p:cNvSpPr/>
          <p:nvPr/>
        </p:nvSpPr>
        <p:spPr>
          <a:xfrm>
            <a:off x="1440000" y="712152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1692360"/>
            <a:ext cx="197964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ata collection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ccount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3527280"/>
            <a:ext cx="23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pacity plann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vailability (SLA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etect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3095640"/>
            <a:ext cx="23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hange control &amp;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5" name=""/>
          <p:cNvSpPr/>
          <p:nvPr/>
        </p:nvSpPr>
        <p:spPr>
          <a:xfrm>
            <a:off x="576360" y="4788000"/>
            <a:ext cx="23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mproveme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Upgrade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6" name=""/>
          <p:cNvSpPr/>
          <p:nvPr/>
        </p:nvSpPr>
        <p:spPr>
          <a:xfrm>
            <a:off x="4068720" y="6480000"/>
            <a:ext cx="197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ix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5256360"/>
            <a:ext cx="2087640" cy="720720"/>
          </a:xfrm>
          <a:prstGeom prst="rect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User complai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ques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3527280"/>
            <a:ext cx="2160360" cy="1079640"/>
          </a:xfrm>
          <a:prstGeom prst="ellipse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NOC Tool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icket system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9" name=""/>
          <p:cNvSpPr/>
          <p:nvPr/>
        </p:nvSpPr>
        <p:spPr>
          <a:xfrm>
            <a:off x="6083280" y="2160720"/>
            <a:ext cx="2160720" cy="144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0" name=""/>
          <p:cNvSpPr/>
          <p:nvPr/>
        </p:nvSpPr>
        <p:spPr>
          <a:xfrm>
            <a:off x="8244000" y="2160720"/>
            <a:ext cx="1440" cy="126036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1" name=""/>
          <p:cNvSpPr/>
          <p:nvPr/>
        </p:nvSpPr>
        <p:spPr>
          <a:xfrm>
            <a:off x="8280360" y="4751280"/>
            <a:ext cx="1800" cy="197964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17840" y="6732720"/>
            <a:ext cx="2163960" cy="144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617840" y="6732720"/>
            <a:ext cx="2342880" cy="144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19280" y="5651280"/>
            <a:ext cx="1440" cy="108252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619280" y="3957120"/>
            <a:ext cx="1440" cy="72396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19280" y="2158920"/>
            <a:ext cx="1440" cy="86688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2160720"/>
            <a:ext cx="2340000" cy="1440"/>
          </a:xfrm>
          <a:prstGeom prst="line">
            <a:avLst/>
          </a:prstGeom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8" name=""/>
          <p:cNvSpPr/>
          <p:nvPr/>
        </p:nvSpPr>
        <p:spPr>
          <a:xfrm>
            <a:off x="5616720" y="4608360"/>
            <a:ext cx="1440" cy="54000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59280" y="4679640"/>
            <a:ext cx="1800" cy="162252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24360" y="4533840"/>
            <a:ext cx="1079280" cy="54288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4068720"/>
            <a:ext cx="900000" cy="180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2700360"/>
            <a:ext cx="1440" cy="720720"/>
          </a:xfrm>
          <a:prstGeom prst="line">
            <a:avLst/>
          </a:prstGeom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1979640"/>
            <a:ext cx="2879640" cy="1440"/>
          </a:xfrm>
          <a:prstGeom prst="line">
            <a:avLst/>
          </a:prstGeom>
          <a:ln w="36720">
            <a:solidFill>
              <a:srgbClr val="ff630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4" name=""/>
          <p:cNvSpPr/>
          <p:nvPr/>
        </p:nvSpPr>
        <p:spPr>
          <a:xfrm>
            <a:off x="4176720" y="287964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435560"/>
            <a:ext cx="900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6" name=""/>
          <p:cNvSpPr/>
          <p:nvPr/>
        </p:nvSpPr>
        <p:spPr>
          <a:xfrm>
            <a:off x="6156360" y="363528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72284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8" name=""/>
          <p:cNvSpPr/>
          <p:nvPr/>
        </p:nvSpPr>
        <p:spPr>
          <a:xfrm>
            <a:off x="4068720" y="525636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9" name=""/>
          <p:cNvSpPr/>
          <p:nvPr/>
        </p:nvSpPr>
        <p:spPr>
          <a:xfrm>
            <a:off x="6804000" y="1655640"/>
            <a:ext cx="1443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ff6309"/>
                </a:solidFill>
                <a:latin typeface="Arial"/>
              </a:rPr>
              <a:t>Notifications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450280" y="7020000"/>
            <a:ext cx="144936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597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Summary of Open Source Solution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287964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87120" bIns="0" anchor="t">
            <a:normAutofit fontScale="99000"/>
          </a:bodyPr>
          <a:p>
            <a:pPr marL="416520" indent="0">
              <a:lnSpc>
                <a:spcPct val="77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000" spc="-1" strike="noStrike">
                <a:solidFill>
                  <a:srgbClr val="0000ff"/>
                </a:solidFill>
                <a:latin typeface="Arial"/>
              </a:rPr>
              <a:t>Performanc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Cricke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IFPFM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flowc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mrt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netflow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NfSen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top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pmacc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rrdtoo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-31284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SmokeP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16520" indent="0">
              <a:lnSpc>
                <a:spcPct val="77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SNMP/Perl/ping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42880" y="1963800"/>
            <a:ext cx="32367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87120" bIns="0" anchor="t">
            <a:normAutofit/>
          </a:bodyPr>
          <a:p>
            <a:pPr marL="420840" indent="0">
              <a:lnSpc>
                <a:spcPct val="77000"/>
              </a:lnSpc>
              <a:spcBef>
                <a:spcPts val="72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000" spc="-1" strike="noStrike">
                <a:solidFill>
                  <a:srgbClr val="0000ff"/>
                </a:solidFill>
                <a:latin typeface="Arial"/>
              </a:rPr>
              <a:t>Net Managemen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Big Brothe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Big Siste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Cacti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Hyperic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Munin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agios*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etdisco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Netdot  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OpenNM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000" spc="-1" strike="noStrike">
                <a:solidFill>
                  <a:srgbClr val="333333"/>
                </a:solidFill>
                <a:latin typeface="Arial"/>
              </a:rPr>
              <a:t>Sysmon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Zabbix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18160" y="1963800"/>
            <a:ext cx="323712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240" bIns="0" anchor="t">
            <a:noAutofit/>
          </a:bodyPr>
          <a:p>
            <a:pPr marL="420840" indent="-316080">
              <a:lnSpc>
                <a:spcPct val="77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Bitstream Vera Sans"/>
              </a:rPr>
              <a:t>Change Mgmt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Mercurial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Rancid (routers)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RCS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Subversion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Bitstream Vera Sans"/>
              </a:rPr>
              <a:t>Security/NIDS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Nessus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OSSEC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Prelude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Samhain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SNORT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Untangle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Bitstream Vera Sans"/>
              </a:rPr>
              <a:t>Ticketing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  <a:p>
            <a:pPr marL="420840" indent="-316080">
              <a:lnSpc>
                <a:spcPct val="7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  <a:ea typeface="Bitstream Vera Sans"/>
              </a:rPr>
              <a:t>RT, Trac, Redmine</a:t>
            </a:r>
            <a:endParaRPr b="0" lang="en-US" sz="2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2228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484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600" spc="-1" strike="noStrike">
                <a:solidFill>
                  <a:srgbClr val="b84700"/>
                </a:solidFill>
                <a:latin typeface="Utopia"/>
                <a:ea typeface="Bitstream Vera Sans"/>
              </a:rPr>
              <a:t>?</a:t>
            </a:r>
            <a:endParaRPr b="0" lang="en-US" sz="96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86920"/>
            <a:ext cx="859788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Helvetica Bold"/>
              </a:rPr>
              <a:t>The Big pictur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0" name=""/>
          <p:cNvSpPr/>
          <p:nvPr/>
        </p:nvSpPr>
        <p:spPr>
          <a:xfrm>
            <a:off x="8096400" y="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712152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1692360"/>
            <a:ext cx="197964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ata collection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ccount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527280"/>
            <a:ext cx="23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pacity plann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vailability (SLA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etect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095640"/>
            <a:ext cx="23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hange control &amp;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5" name=""/>
          <p:cNvSpPr/>
          <p:nvPr/>
        </p:nvSpPr>
        <p:spPr>
          <a:xfrm>
            <a:off x="576360" y="4788000"/>
            <a:ext cx="23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mproveme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Upgrade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4068720" y="6480000"/>
            <a:ext cx="197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ix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256360"/>
            <a:ext cx="2087640" cy="720720"/>
          </a:xfrm>
          <a:prstGeom prst="rect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User complai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ques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527280"/>
            <a:ext cx="2160360" cy="1079640"/>
          </a:xfrm>
          <a:prstGeom prst="ellipse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NOC Tool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icket system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2160720"/>
            <a:ext cx="2160720" cy="1440"/>
          </a:xfrm>
          <a:custGeom>
            <a:avLst/>
            <a:gdLst/>
            <a:ahLst/>
            <a:rect l="l" t="t" r="r" b="b"/>
            <a:pathLst>
              <a:path w="6001" h="1">
                <a:moveTo>
                  <a:pt x="0" y="0"/>
                </a:moveTo>
                <a:lnTo>
                  <a:pt x="600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2160720"/>
            <a:ext cx="1440" cy="1260360"/>
          </a:xfrm>
          <a:custGeom>
            <a:avLst/>
            <a:gdLst/>
            <a:ahLst/>
            <a:rect l="l" t="t" r="r" b="b"/>
            <a:pathLst>
              <a:path w="1" h="3501">
                <a:moveTo>
                  <a:pt x="0" y="0"/>
                </a:moveTo>
                <a:lnTo>
                  <a:pt x="0" y="3500"/>
                </a:lnTo>
              </a:path>
            </a:pathLst>
          </a:cu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8280360" y="4751280"/>
            <a:ext cx="1800" cy="1979640"/>
          </a:xfrm>
          <a:custGeom>
            <a:avLst/>
            <a:gdLst/>
            <a:ahLst/>
            <a:rect l="l" t="t" r="r" b="b"/>
            <a:pathLst>
              <a:path w="1" h="5501">
                <a:moveTo>
                  <a:pt x="0" y="0"/>
                </a:moveTo>
                <a:lnTo>
                  <a:pt x="0" y="5500"/>
                </a:lnTo>
              </a:path>
            </a:pathLst>
          </a:cu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6119640" y="6732720"/>
            <a:ext cx="2160720" cy="1440"/>
          </a:xfrm>
          <a:custGeom>
            <a:avLst/>
            <a:gdLst/>
            <a:ahLst/>
            <a:rect l="l" t="t" r="r" b="b"/>
            <a:pathLst>
              <a:path w="6001" h="1">
                <a:moveTo>
                  <a:pt x="6000" y="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732720"/>
            <a:ext cx="2340000" cy="1440"/>
          </a:xfrm>
          <a:custGeom>
            <a:avLst/>
            <a:gdLst/>
            <a:ahLst/>
            <a:rect l="l" t="t" r="r" b="b"/>
            <a:pathLst>
              <a:path w="6501" h="1">
                <a:moveTo>
                  <a:pt x="6500" y="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5651640"/>
            <a:ext cx="1440" cy="1081080"/>
          </a:xfrm>
          <a:custGeom>
            <a:avLst/>
            <a:gdLst/>
            <a:ahLst/>
            <a:rect l="l" t="t" r="r" b="b"/>
            <a:pathLst>
              <a:path w="1" h="3001">
                <a:moveTo>
                  <a:pt x="0" y="300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959280"/>
            <a:ext cx="1440" cy="720720"/>
          </a:xfrm>
          <a:custGeom>
            <a:avLst/>
            <a:gdLst/>
            <a:ahLst/>
            <a:rect l="l" t="t" r="r" b="b"/>
            <a:pathLst>
              <a:path w="1" h="2001">
                <a:moveTo>
                  <a:pt x="0" y="200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2160720"/>
            <a:ext cx="1440" cy="863640"/>
          </a:xfrm>
          <a:custGeom>
            <a:avLst/>
            <a:gdLst/>
            <a:ahLst/>
            <a:rect l="l" t="t" r="r" b="b"/>
            <a:pathLst>
              <a:path w="1" h="2401">
                <a:moveTo>
                  <a:pt x="0" y="240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2160720"/>
            <a:ext cx="2340000" cy="1440"/>
          </a:xfrm>
          <a:custGeom>
            <a:avLst/>
            <a:gdLst/>
            <a:ahLst/>
            <a:rect l="l" t="t" r="r" b="b"/>
            <a:pathLst>
              <a:path w="6501" h="1">
                <a:moveTo>
                  <a:pt x="0" y="0"/>
                </a:moveTo>
                <a:lnTo>
                  <a:pt x="6500" y="0"/>
                </a:lnTo>
              </a:path>
            </a:pathLst>
          </a:custGeom>
          <a:noFill/>
          <a:ln w="3672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5616720" y="4608360"/>
            <a:ext cx="1440" cy="540000"/>
          </a:xfrm>
          <a:custGeom>
            <a:avLst/>
            <a:gdLst/>
            <a:ahLst/>
            <a:rect l="l" t="t" r="r" b="b"/>
            <a:pathLst>
              <a:path w="1" h="1501">
                <a:moveTo>
                  <a:pt x="0" y="0"/>
                </a:moveTo>
                <a:lnTo>
                  <a:pt x="0" y="1500"/>
                </a:lnTo>
              </a:path>
            </a:pathLst>
          </a:cu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4680000"/>
            <a:ext cx="1800" cy="1620720"/>
          </a:xfrm>
          <a:custGeom>
            <a:avLst/>
            <a:gdLst/>
            <a:ahLst/>
            <a:rect l="l" t="t" r="r" b="b"/>
            <a:pathLst>
              <a:path w="1" h="4501">
                <a:moveTo>
                  <a:pt x="0" y="4500"/>
                </a:moveTo>
                <a:lnTo>
                  <a:pt x="0" y="0"/>
                </a:lnTo>
              </a:path>
            </a:pathLst>
          </a:cu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0" name=""/>
          <p:cNvSpPr/>
          <p:nvPr/>
        </p:nvSpPr>
        <p:spPr>
          <a:xfrm>
            <a:off x="3024360" y="4535640"/>
            <a:ext cx="1081080" cy="539640"/>
          </a:xfrm>
          <a:custGeom>
            <a:avLst/>
            <a:gdLst/>
            <a:ahLst/>
            <a:rect l="l" t="t" r="r" b="b"/>
            <a:pathLst>
              <a:path w="3001" h="1501">
                <a:moveTo>
                  <a:pt x="0" y="1500"/>
                </a:moveTo>
                <a:lnTo>
                  <a:pt x="3000" y="0"/>
                </a:lnTo>
              </a:path>
            </a:pathLst>
          </a:cu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4068720"/>
            <a:ext cx="900000" cy="1800"/>
          </a:xfrm>
          <a:custGeom>
            <a:avLst/>
            <a:gdLst/>
            <a:ahLst/>
            <a:rect l="l" t="t" r="r" b="b"/>
            <a:pathLst>
              <a:path w="2501" h="1">
                <a:moveTo>
                  <a:pt x="0" y="0"/>
                </a:moveTo>
                <a:lnTo>
                  <a:pt x="2500" y="0"/>
                </a:lnTo>
              </a:path>
            </a:pathLst>
          </a:cu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2700360"/>
            <a:ext cx="1440" cy="720720"/>
          </a:xfrm>
          <a:custGeom>
            <a:avLst/>
            <a:gdLst/>
            <a:ahLst/>
            <a:rect l="l" t="t" r="r" b="b"/>
            <a:pathLst>
              <a:path w="1" h="2001">
                <a:moveTo>
                  <a:pt x="0" y="0"/>
                </a:moveTo>
                <a:lnTo>
                  <a:pt x="0" y="2000"/>
                </a:lnTo>
              </a:path>
            </a:pathLst>
          </a:custGeom>
          <a:noFill/>
          <a:ln w="36720">
            <a:solidFill>
              <a:srgbClr val="8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3" name=""/>
          <p:cNvSpPr/>
          <p:nvPr/>
        </p:nvSpPr>
        <p:spPr>
          <a:xfrm>
            <a:off x="6083280" y="1979640"/>
            <a:ext cx="2879640" cy="1440"/>
          </a:xfrm>
          <a:custGeom>
            <a:avLst/>
            <a:gdLst/>
            <a:ahLst/>
            <a:rect l="l" t="t" r="r" b="b"/>
            <a:pathLst>
              <a:path w="8001" h="1">
                <a:moveTo>
                  <a:pt x="0" y="0"/>
                </a:moveTo>
                <a:lnTo>
                  <a:pt x="8000" y="0"/>
                </a:lnTo>
              </a:path>
            </a:pathLst>
          </a:custGeom>
          <a:noFill/>
          <a:ln w="36720">
            <a:solidFill>
              <a:srgbClr val="ff630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"/>
          <p:cNvSpPr/>
          <p:nvPr/>
        </p:nvSpPr>
        <p:spPr>
          <a:xfrm>
            <a:off x="4176720" y="287964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5" name=""/>
          <p:cNvSpPr/>
          <p:nvPr/>
        </p:nvSpPr>
        <p:spPr>
          <a:xfrm>
            <a:off x="2879640" y="4435560"/>
            <a:ext cx="900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3600360"/>
            <a:ext cx="900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72284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8" name=""/>
          <p:cNvSpPr/>
          <p:nvPr/>
        </p:nvSpPr>
        <p:spPr>
          <a:xfrm>
            <a:off x="4068720" y="5256360"/>
            <a:ext cx="900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800000"/>
                </a:solidFill>
                <a:latin typeface="Arial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1655640"/>
            <a:ext cx="1443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7344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ff6309"/>
                </a:solidFill>
                <a:latin typeface="Arial"/>
              </a:rPr>
              <a:t>Notifications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Make sure the network is up and running.  Need to monitor it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12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liver projected SLAs (Service Level Agreements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12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pends on poli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12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your management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12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r users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12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r customers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12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rest of the Internet exp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112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s 24x7 good enough ?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12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's no such thing as 100% up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317160"/>
            <a:ext cx="859788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4000" spc="-1" strike="noStrike">
                <a:solidFill>
                  <a:srgbClr val="dc2300"/>
                </a:solidFill>
                <a:latin typeface="Helvetica Bold"/>
              </a:rPr>
              <a:t>Why network management?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0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Since you have switches that support SNMP…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Use public domain tools to ping every switch and router in your network and report that back to you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agios –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agios.org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/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ysmon -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ysmon.org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/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pen NMS -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opennms.org/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99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Goal is to know your network is having problems before the users start calling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hat does it take to deliver 99.9 % uptime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30,5 x 24 = 762 hours a mont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(762 – (762 x .999)) x 60 = 45 minutes maximum of downtime a month!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Need to shutdown 1 hour / week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(762 - 4) / 762 x 100 = 99.4 %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emember to take planned maintenance into account in your calculations, and inform your users/customers if they are included/excluded in the SL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How is availability measured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90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 the core? End-to-end? From the Internet?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?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Know when to upgrad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s your bandwidth usage too high?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here is your traffic going?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o you need to get a faster line, or more providers?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s the equipment too old?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Keep an audit trace of change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Record all chang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Makes it easier to find cause of problems due to upgrades and configuration chang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20840" indent="-316080">
              <a:lnSpc>
                <a:spcPct val="10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here to consolidate all these functions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 the Network Operation Center (NOC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Network Operations Center (NOC)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‏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Arial"/>
              </a:rPr>
              <a:t>Where it all happen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ordination of task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tatus of network and servi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Fielding of network-related incidents and complain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Where the tools reside (”NOC server”)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52480" indent="-282600">
              <a:lnSpc>
                <a:spcPct val="10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ocumentation including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/flat file of each port on each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212400">
              <a:lnSpc>
                <a:spcPct val="103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more as you'll see a bit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lastPrinted>2008-03-12T09:44:57Z</cp:lastPrinted>
  <dcterms:modified xsi:type="dcterms:W3CDTF">2009-07-24T08:26:26Z</dcterms:modified>
  <cp:revision>128</cp:revision>
  <dc:subject/>
  <dc:title>    Track E0 AfNOG workshop April 23-27 2007 Abuja, Nigeria    </dc:title>
</cp:coreProperties>
</file>