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3.pct" ContentType="image/x-pict"/>
  <Override PartName="/ppt/media/image4.png" ContentType="image/png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9432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BEF41-8D75-4E3C-80DB-EFCA925CB3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76BFB-CF98-43E4-AEA4-469A9922D7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21E4F-EA71-4096-9BB4-B9D3C4C308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8C49D-9306-454D-AD94-7958105C29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67A17-D314-4EC0-A28B-DC2DD5E97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90F68-B8F0-4BEC-BB82-F380778AB2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8F4B-8156-4531-8BAF-FBB7016D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E0FD-D55F-49E4-A492-276171FE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C9639-1848-449C-B61C-94D98B25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44EB-FA87-42F8-9C42-ABB20876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7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41CD-E474-49A9-BE77-4785E758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3D68-8E26-4159-9AC8-389751BE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0B40-853E-4A2E-A206-0A7DB310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52C8-6FF0-40F6-A2BD-8B045D29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7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FCB4-2388-466C-BC11-E78EEE78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C858-A0B8-427F-BA62-6065189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69D8-50ED-4FCA-B1B2-ADEA8161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49F3-E61F-4BA7-A8B5-2BC1B799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295280" indent="-215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727280" indent="-21600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158920" indent="-215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158920" indent="-215640">
              <a:lnSpc>
                <a:spcPct val="97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158920" indent="-215640">
              <a:lnSpc>
                <a:spcPct val="97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D90E6-47D2-4AA7-9E2D-75F34CF2C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15200" y="6858000"/>
            <a:ext cx="2286000" cy="56664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762120" y="6858000"/>
            <a:ext cx="1674720" cy="520560"/>
            <a:chOff x="762120" y="6858000"/>
            <a:chExt cx="1674720" cy="520560"/>
          </a:xfrm>
        </p:grpSpPr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62120" y="6858000"/>
              <a:ext cx="16747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PlaceHolder 5"/>
            <p:cNvSpPr>
              <a:spLocks noGrp="1"/>
            </p:cNvSpPr>
            <p:nvPr>
              <p:ph type="dt" idx="3"/>
            </p:nvPr>
          </p:nvSpPr>
          <p:spPr>
            <a:xfrm>
              <a:off x="762120" y="6858000"/>
              <a:ext cx="1674720" cy="52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lnSpc>
                  <a:spcPct val="96000"/>
                </a:lnSpc>
                <a:buNone/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eekybits.blogspot.com/2007/09/creating-famp-server.html" TargetMode="External"/><Relationship Id="rId3" Type="http://schemas.openxmlformats.org/officeDocument/2006/relationships/hyperlink" Target="http://geekybits.blogspot.com/2007/09/creating-famp-server.html" TargetMode="External"/><Relationship Id="rId4" Type="http://schemas.openxmlformats.org/officeDocument/2006/relationships/hyperlink" Target="http://geekybits.blogspot.com/2007/09/creating-famp-server.html" TargetMode="External"/><Relationship Id="rId5" Type="http://schemas.openxmlformats.org/officeDocument/2006/relationships/hyperlink" Target="http://geekybits.blogspot.com/2007/09/creating-famp-server.html" TargetMode="External"/><Relationship Id="rId6" Type="http://schemas.openxmlformats.org/officeDocument/2006/relationships/hyperlink" Target="http://geekybits.blogspot.com/2007/09/creating-famp-server.html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ttpd.apache.org/" TargetMode="External"/><Relationship Id="rId3" Type="http://schemas.openxmlformats.org/officeDocument/2006/relationships/hyperlink" Target="http://httpd.apache.org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pache Web Server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Quick and Dir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Steve Gibbard for SANOG 1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(Originally by Joel Jaeggli for AfNOG 2007)</a:t>
            </a:r>
            <a:r>
              <a:rPr b="0" lang="ar-SA" sz="2400" spc="-1" strike="noStrike">
                <a:solidFill>
                  <a:srgbClr val="000000"/>
                </a:solidFill>
                <a:latin typeface="Trebuchet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Virtual Hosting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pache Provides multiple options of virtual hosting and scal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me Based virtual host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 Based Virtual Hos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ias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ts recommended to use an IP address over hostnames in virtual hosting configur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Refer to virtual hosting Exercise sec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Installing PHP &amp; Mysql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hP and Mysql implementations have increased driven mainly by development reques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8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AMP and WAMP are the most common implementations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8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reeBSD = “FAMP” ? 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//geekybits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.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Trebuchet MS"/>
                <a:hlinkClick r:id="rId5"/>
              </a:rPr>
              <a:t>blogspot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Trebuchet MS"/>
                <a:hlinkClick r:id="rId6"/>
              </a:rPr>
              <a:t>.com/2007/09/creating-famp-server.htm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8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stallation via ports and relatively straight forwar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8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rebuchet MS"/>
              </a:rPr>
              <a:t>See PHP &amp; Mysql installation exercise sec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8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pache and IPv6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pache supports IPv4 and IPv6 by defaul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t the listen option to port 80 will listen for both IPv4 and IPv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isten option with IPv4 and IPv6 specific addresses will invoke different sockets for each protoco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sten 196.200.219.xx:8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sten [2001:4348:0:219:196.200.219:xx]:8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tart Apache!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83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/usr/local/etc/rc.d/apache22 star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27320" indent="-32040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heck that you can access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ttp://localhost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in your brows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27320" indent="-32040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heck that you can access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https://localhost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in your browser, and that you get a certificate warn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27320" indent="-32040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lick on the padlock icon in your browser and check that the certificate details are correc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27320" indent="-32040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Profit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pache implementation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02920" y="176364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pache is widely used to serve many content applic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ebmail, Blogs, Wiki’s, CMS etc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ttempt to install wordpress and configure 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tart Exercise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8000" indent="0" algn="ctr">
              <a:lnSpc>
                <a:spcPct val="97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bout Apache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pache http server projec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d.apache.or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pache foundation started to support the web server project, but now extends to a multitude of other project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4"/>
          <a:stretch/>
        </p:blipFill>
        <p:spPr>
          <a:xfrm>
            <a:off x="1143000" y="6629400"/>
            <a:ext cx="762012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tats of Web Server type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" name="overalld1" descr=""/>
          <p:cNvPicPr/>
          <p:nvPr/>
        </p:nvPicPr>
        <p:blipFill>
          <a:blip r:embed="rId2"/>
          <a:stretch/>
        </p:blipFill>
        <p:spPr>
          <a:xfrm>
            <a:off x="431640" y="1542960"/>
            <a:ext cx="92887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2203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hat the Busiest 1M Websites use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87280" y="1116000"/>
          <a:ext cx="9433080" cy="597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7280" y="1116000"/>
                    <a:ext cx="9433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pache Installation on FreeBSD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pache can be installed from Por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urier New"/>
              </a:rPr>
              <a:t>/usr/ports/www/apache2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83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n be installed from pkg_add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83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r from source if one requires a more recent version what's on FreeBSD source ports tre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0">
              <a:lnSpc>
                <a:spcPct val="8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0">
              <a:lnSpc>
                <a:spcPct val="83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File System Layou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494000"/>
            <a:ext cx="9072360" cy="52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rebuchet MS"/>
              </a:rPr>
              <a:t>config files are in </a:t>
            </a:r>
            <a:r>
              <a:rPr b="0" lang="en-GB" sz="2700" spc="-1" strike="noStrike">
                <a:solidFill>
                  <a:srgbClr val="000000"/>
                </a:solidFill>
                <a:latin typeface="Courier New"/>
              </a:rPr>
              <a:t>/usr/local/etc/apache22/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rebuchet MS"/>
              </a:rPr>
              <a:t>files the webserver will serve are in </a:t>
            </a:r>
            <a:r>
              <a:rPr b="0" lang="en-GB" sz="2700" spc="-1" strike="noStrike">
                <a:solidFill>
                  <a:srgbClr val="000000"/>
                </a:solidFill>
                <a:latin typeface="Courier New"/>
              </a:rPr>
              <a:t>/usr/local/www/apache22/data/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76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tartup script is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Courier New"/>
              </a:rPr>
              <a:t>/usr/local/etc/rc.d/apache22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rebuchet MS"/>
              </a:rPr>
              <a:t>Take a look in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Courier New"/>
              </a:rPr>
              <a:t>/usr/local/etc/rc.d/apache22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rebuchet MS"/>
              </a:rPr>
              <a:t>Add </a:t>
            </a:r>
            <a:r>
              <a:rPr b="0" lang="en-GB" sz="2700" spc="-1" strike="noStrike">
                <a:solidFill>
                  <a:srgbClr val="000000"/>
                </a:solidFill>
                <a:latin typeface="Courier New"/>
              </a:rPr>
              <a:t>apache22_enable="YES"</a:t>
            </a:r>
            <a:r>
              <a:rPr b="0" lang="en-GB" sz="2700" spc="-1" strike="noStrike">
                <a:solidFill>
                  <a:srgbClr val="000000"/>
                </a:solidFill>
                <a:latin typeface="Trebuchet MS"/>
              </a:rPr>
              <a:t> to </a:t>
            </a:r>
            <a:r>
              <a:rPr b="0" lang="en-GB" sz="2700" spc="-1" strike="noStrike">
                <a:solidFill>
                  <a:srgbClr val="000000"/>
                </a:solidFill>
                <a:latin typeface="Courier New"/>
              </a:rPr>
              <a:t>/etc/rc.conf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rebuchet MS"/>
              </a:rPr>
              <a:t>Run</a:t>
            </a:r>
            <a:br>
              <a:rPr sz="2700"/>
            </a:br>
            <a:r>
              <a:rPr b="0" lang="en-GB" sz="2700" spc="-1" strike="noStrike">
                <a:solidFill>
                  <a:srgbClr val="000000"/>
                </a:solidFill>
                <a:latin typeface="Courier New"/>
              </a:rPr>
              <a:t>/usr/local/etc/rc.d/apache22 start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rebuchet MS"/>
              </a:rPr>
              <a:t>Restart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lvl="1" marL="863640" indent="0">
              <a:lnSpc>
                <a:spcPct val="77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$ apachectl resta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pache SSL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" y="1403280"/>
            <a:ext cx="907092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ure Socket Layer (SSL) port is 443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SL is important to protect communication between browser and web-server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quires the creation of SSL certificates and Certificate Signing Requests (CSR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r integrity SSL certificates are signed by a Certificate Authority’s (CA) such as Verisig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lf signed Certificates will also work but your browser will not trust it and will give a warning to users (which most don’t read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7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rebuchet MS"/>
              </a:rPr>
              <a:t>Refer to the Creating SSL Certificate Exercise Sec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How SSL Work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ach SSL certificate has a Public and Private ke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Public Key is used to encrypt the inform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Public Key is accessible to everyo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private Key is used to decipher the inform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private should be not be disclos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Role of Certificate Authority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2920" y="1768320"/>
            <a:ext cx="907092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re are a number of CA that certify certificat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ost browsers have pre-included public Keys from the CA’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CA certified certificate will have validation information signed by the CA’s private ke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browser will decrypt the validation information using the public key and verify that the certificate is certified by the C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431640" indent="-323640">
              <a:lnSpc>
                <a:spcPct val="97000"/>
              </a:lnSpc>
              <a:spcAft>
                <a:spcPts val="1412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f this fails a warning is giv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3:52:17Z</dcterms:created>
  <dc:creator/>
  <dc:description/>
  <cp:keywords/>
  <dc:language>en-US</dc:language>
  <cp:lastModifiedBy>Steve Gibbard</cp:lastModifiedBy>
  <cp:lastPrinted>2009-05-13T13:53:10Z</cp:lastPrinted>
  <dcterms:modified xsi:type="dcterms:W3CDTF">2010-07-18T03:16:22Z</dcterms:modified>
  <cp:revision>19</cp:revision>
  <dc:subject/>
  <dc:title>PowerPoint Presentation  -  Apache Web Server</dc:title>
</cp:coreProperties>
</file>