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69181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2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1880" y="4512600"/>
            <a:ext cx="8512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188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364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080" y="226224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7920" y="226224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1880" y="451260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080" y="451260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7920" y="4512600"/>
            <a:ext cx="2740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252360"/>
            <a:ext cx="9968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188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3640" y="451260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3640" y="2262240"/>
            <a:ext cx="415368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1880" y="4512600"/>
            <a:ext cx="8512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108000" y="1260360"/>
            <a:ext cx="10439280" cy="6120000"/>
          </a:xfrm>
          <a:prstGeom prst="roundRect">
            <a:avLst>
              <a:gd name="adj" fmla="val 23"/>
            </a:avLst>
          </a:prstGeom>
          <a:solidFill>
            <a:srgbClr val="e6e6e6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08000" y="0"/>
            <a:ext cx="10439280" cy="1260360"/>
          </a:xfrm>
          <a:prstGeom prst="rect">
            <a:avLst/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9036000" y="6983280"/>
            <a:ext cx="1511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900" spc="-1" strike="noStrike">
                <a:solidFill>
                  <a:srgbClr val="666666"/>
                </a:solidFill>
                <a:latin typeface="Arial"/>
              </a:rPr>
              <a:t>nsrc@sanog 20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GB" sz="900" spc="-1" strike="noStrike">
                <a:solidFill>
                  <a:srgbClr val="666666"/>
                </a:solidFill>
                <a:latin typeface="Arial"/>
              </a:rPr>
              <a:t>paro, bhuta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P Basic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36160" y="1584000"/>
            <a:ext cx="86058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P/ISP Services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ly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o, Bhuta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src-logo.png"/>
          <p:cNvPicPr/>
          <p:nvPr/>
        </p:nvPicPr>
        <p:blipFill>
          <a:blip r:embed="rId1"/>
          <a:stretch/>
        </p:blipFill>
        <p:spPr>
          <a:xfrm>
            <a:off x="5421240" y="5913360"/>
            <a:ext cx="3200400" cy="811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5943600"/>
            <a:ext cx="2590920" cy="8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0000" y="326520"/>
            <a:ext cx="9969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etworks – super- and subnet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664000" y="4068720"/>
            <a:ext cx="3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908000" y="30607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908000" y="48610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 flipV="1">
            <a:off x="1619280" y="3417840"/>
            <a:ext cx="17928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2340000" y="3419640"/>
            <a:ext cx="3603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1655640" y="5146560"/>
            <a:ext cx="179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8"/>
          <p:cNvSpPr/>
          <p:nvPr/>
        </p:nvSpPr>
        <p:spPr>
          <a:xfrm flipH="1" flipV="1">
            <a:off x="1618920" y="4822920"/>
            <a:ext cx="18252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464000" y="1479600"/>
            <a:ext cx="53895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rsely, if two networks can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ed” together under the same netmas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encompasses both networks,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pernet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s 10.254.4.0/24 and 10.254.5.0/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“joined” together into on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ressed: 10.254.4.0/2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 for this to be possible, the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ontigu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.e. it is not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supernet 10.254.5.0/24 and 10.254.6.0/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1152360" y="25225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 flipV="1">
            <a:off x="2340000" y="4425480"/>
            <a:ext cx="36036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 flipH="1" flipV="1">
            <a:off x="1618920" y="2878200"/>
            <a:ext cx="18252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52360" y="37101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152360" y="45021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1152360" y="5475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Numbering Rul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ivate IP address ranges (RFC 191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/8 (10.0.0.0 – 10.255.255.2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/16 (192.168.0.0 – 192.168.255.2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16/12 (172.16.0.0 – 172.31.255.2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Address space available from AP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2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ose a small block from whatever range you have, and subnet your networks (to avoid problems with broadcasts, and implement segmentation policies – DMZ, internal, etc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Network sett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2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address:  Your host’s IP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net mask:  The netmask of your local network.  What can you talk to loc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 gateway:  The local router.  How you get packets off your local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Network settings in FreeBS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0360" y="1800360"/>
            <a:ext cx="9180360" cy="48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0000"/>
          </a:bodyPr>
          <a:p>
            <a:pPr marL="30852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File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rc.con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net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h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/etc/resolv.con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0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mman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fconfig eth0 196.200.218.x/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route add default 192.200.218.2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ostname ws5.ws3.conference.sanog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route tab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1880" y="1647360"/>
            <a:ext cx="86756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hosts (including routers) hav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oute tab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specifies which networks it is connected to, and how to forward packets to a gateway router that can talk to other network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BSD routing table from “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etstat –an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e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 Gateway            Flags    Refs      Use  Netif Exp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196.200.218.254    UGS         4     1068   bge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 link#3             UH          0       12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196.200.218.0/24   link#1             U           0        0   bge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196.200.218.253    link#1             UHS         0        0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net6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                Gateway                       Flags      Netif Exp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::1                               ::1                           UH      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:%lo0/64                     link#3                        U       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:1%lo0                       link#3                        UHS     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f01:3::/32                       fe80::1%lo0                   U       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f02::%lo0/32                     fe80::1%lo0                   U           lo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do route table entries mean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3280" y="1724040"/>
            <a:ext cx="9524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tewa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Flags    Refs      Use  Netif Exp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196.200.218.254    UGS         4     1068   bge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 link#3             UH          0       12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6.200.218.0/24   link#1             U           0        0   bge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6.200.218.253    link#1             UHS         0        0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 network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atew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an IP address of a router that can forward packets (or 0.0.0.0, if the packet doesn't need to be forward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dicate various attributes for each ro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route is 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e route destination is a single ho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atew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end anything for this destination on to this remote system, which will figure out from there where to sen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This route was configured manually, not automatically generated by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l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Generates a new route based on this route for hosts we connect to. This type of route normally used for local networ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WasClon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Indicated a route that was auto-configured based upon a local area network (Clone) rou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Lucida Grande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Li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Route involves references to Ethernet hard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number of active references to this ro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s the count of number of packets sent using this route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network interface that is connected to that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i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s the ARP entry is val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How the route table is use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8880" y="2262240"/>
            <a:ext cx="8991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cket that needs to be sent has a destination IP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entry in the route table (starting with the firs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ute the logical AND of the destination IP and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mas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that with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ose match, send the packet out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we're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ot, move on to the next entry i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ching the local network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3280" y="2261880"/>
            <a:ext cx="91440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se we want to send a packet to 128.223.143.42 using this rout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8.223.142.0 0.0.0.0       255.255.254.0 U     bg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0.0.0       128.223.142.1 0.0.0.0       UG    bg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first entr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28.223.143.42 AND 255.255.254.0 = 128.223.14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atches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first routing table entry, s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d the packet ou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ge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first entry is called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ro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you notice anything different about this routing t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aching other networ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se we want to send a packet to 72.14.213.99 using this rout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8.223.142.0 0.0.0.0       255.255.254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2.14.213.99 AND 255.255.254.0 = 72.14.21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does not match the first entry, so move on to the next e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2.14.213.99 AND 0.0.0.0 = 0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does match the second entry, so forward the packet to 128.223.142.1 via bge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default rou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hat this route table en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0.0.0       128.223.142.1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ches every possible destination IP address.  This is called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fault rou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The gateway has to be a router capable of forwarding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252360"/>
            <a:ext cx="9968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the Internet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1"/>
          <a:stretch/>
        </p:blipFill>
        <p:spPr>
          <a:xfrm>
            <a:off x="1876320" y="2262240"/>
            <a:ext cx="69422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ore complex rou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1880" y="2262240"/>
            <a:ext cx="851364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this route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Gateway       Genmask       Flags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92.168.0.0   0.0.0.0       255.255.255.0 U 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92.168.1.0   0.0.0.0       255.255.255.0 U     e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92.168.2.0   0.0.0.0       255.255.254.0 U     et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92.168.4.0   0.0.0.0       255.255.252.0 U     et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0.0.0       192.168.1.1   0.0.0.0       UG    e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what a router's routing table might look like. Note that there are multiple interfaces for multiple local networks, and a gateway that can reach other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Forwarding packe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79280" y="1952280"/>
            <a:ext cx="85136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UNIX-like (and other) operating system can function as gateway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5500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FreeBSD in /etc/rc.conf set: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ateway_enable="YES"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out forwarding enabled, the box will not forward packets from one interface to another: it is simply a host with multiple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ou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host on the internet needs a way to get packets to other hosts outside its local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requires special host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at can move packets between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kets may pass through many routers before they reach their desti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uters make forwarding decisions based on IP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o what is an IPv4 address anyway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91880" y="2136600"/>
            <a:ext cx="867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bit number (4 octet number) can be represented in lots of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1595520" y="3117960"/>
            <a:ext cx="1482480" cy="466560"/>
            <a:chOff x="1595520" y="3117960"/>
            <a:chExt cx="1482480" cy="466560"/>
          </a:xfrm>
        </p:grpSpPr>
        <p:sp>
          <p:nvSpPr>
            <p:cNvPr id="52" name="AutoShape 4"/>
            <p:cNvSpPr/>
            <p:nvPr/>
          </p:nvSpPr>
          <p:spPr>
            <a:xfrm>
              <a:off x="1595520" y="3117960"/>
              <a:ext cx="148248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1595520" y="3120840"/>
              <a:ext cx="148248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Group 6"/>
          <p:cNvGrpSpPr/>
          <p:nvPr/>
        </p:nvGrpSpPr>
        <p:grpSpPr>
          <a:xfrm>
            <a:off x="3081240" y="3117960"/>
            <a:ext cx="1481400" cy="466560"/>
            <a:chOff x="3081240" y="3117960"/>
            <a:chExt cx="1481400" cy="466560"/>
          </a:xfrm>
        </p:grpSpPr>
        <p:sp>
          <p:nvSpPr>
            <p:cNvPr id="55" name="AutoShape 7"/>
            <p:cNvSpPr/>
            <p:nvPr/>
          </p:nvSpPr>
          <p:spPr>
            <a:xfrm>
              <a:off x="3081240" y="3117960"/>
              <a:ext cx="148140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3081240" y="3120840"/>
              <a:ext cx="148140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Group 9"/>
          <p:cNvGrpSpPr/>
          <p:nvPr/>
        </p:nvGrpSpPr>
        <p:grpSpPr>
          <a:xfrm>
            <a:off x="4565520" y="3117960"/>
            <a:ext cx="1482840" cy="466560"/>
            <a:chOff x="4565520" y="3117960"/>
            <a:chExt cx="1482840" cy="466560"/>
          </a:xfrm>
        </p:grpSpPr>
        <p:sp>
          <p:nvSpPr>
            <p:cNvPr id="58" name="AutoShape 10"/>
            <p:cNvSpPr/>
            <p:nvPr/>
          </p:nvSpPr>
          <p:spPr>
            <a:xfrm>
              <a:off x="4565520" y="3117960"/>
              <a:ext cx="148284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4565520" y="3120840"/>
              <a:ext cx="14828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6051600" y="3117960"/>
            <a:ext cx="1482840" cy="466560"/>
            <a:chOff x="6051600" y="3117960"/>
            <a:chExt cx="1482840" cy="466560"/>
          </a:xfrm>
        </p:grpSpPr>
        <p:sp>
          <p:nvSpPr>
            <p:cNvPr id="61" name="AutoShape 13"/>
            <p:cNvSpPr/>
            <p:nvPr/>
          </p:nvSpPr>
          <p:spPr>
            <a:xfrm>
              <a:off x="6051600" y="3117960"/>
              <a:ext cx="148284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6051600" y="3120840"/>
              <a:ext cx="14828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1595520" y="4260960"/>
            <a:ext cx="1482480" cy="466560"/>
            <a:chOff x="1595520" y="4260960"/>
            <a:chExt cx="1482480" cy="466560"/>
          </a:xfrm>
        </p:grpSpPr>
        <p:sp>
          <p:nvSpPr>
            <p:cNvPr id="64" name="AutoShape 16"/>
            <p:cNvSpPr/>
            <p:nvPr/>
          </p:nvSpPr>
          <p:spPr>
            <a:xfrm>
              <a:off x="1595520" y="4260960"/>
              <a:ext cx="148248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1595520" y="4263840"/>
              <a:ext cx="148248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01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8"/>
          <p:cNvGrpSpPr/>
          <p:nvPr/>
        </p:nvGrpSpPr>
        <p:grpSpPr>
          <a:xfrm>
            <a:off x="3081240" y="4260960"/>
            <a:ext cx="1481400" cy="466560"/>
            <a:chOff x="3081240" y="4260960"/>
            <a:chExt cx="1481400" cy="466560"/>
          </a:xfrm>
        </p:grpSpPr>
        <p:sp>
          <p:nvSpPr>
            <p:cNvPr id="67" name="AutoShape 19"/>
            <p:cNvSpPr/>
            <p:nvPr/>
          </p:nvSpPr>
          <p:spPr>
            <a:xfrm>
              <a:off x="3081240" y="4260960"/>
              <a:ext cx="148140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Text Box 20"/>
            <p:cNvSpPr/>
            <p:nvPr/>
          </p:nvSpPr>
          <p:spPr>
            <a:xfrm>
              <a:off x="3081240" y="4263840"/>
              <a:ext cx="148140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0110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21"/>
          <p:cNvGrpSpPr/>
          <p:nvPr/>
        </p:nvGrpSpPr>
        <p:grpSpPr>
          <a:xfrm>
            <a:off x="4565520" y="4260960"/>
            <a:ext cx="1482840" cy="466560"/>
            <a:chOff x="4565520" y="4260960"/>
            <a:chExt cx="1482840" cy="466560"/>
          </a:xfrm>
        </p:grpSpPr>
        <p:sp>
          <p:nvSpPr>
            <p:cNvPr id="70" name="AutoShape 22"/>
            <p:cNvSpPr/>
            <p:nvPr/>
          </p:nvSpPr>
          <p:spPr>
            <a:xfrm>
              <a:off x="4565520" y="4260960"/>
              <a:ext cx="148284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Text Box 23"/>
            <p:cNvSpPr/>
            <p:nvPr/>
          </p:nvSpPr>
          <p:spPr>
            <a:xfrm>
              <a:off x="4565520" y="4263840"/>
              <a:ext cx="14828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1000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24"/>
          <p:cNvGrpSpPr/>
          <p:nvPr/>
        </p:nvGrpSpPr>
        <p:grpSpPr>
          <a:xfrm>
            <a:off x="6051600" y="4260960"/>
            <a:ext cx="1482840" cy="466560"/>
            <a:chOff x="6051600" y="4260960"/>
            <a:chExt cx="1482840" cy="466560"/>
          </a:xfrm>
        </p:grpSpPr>
        <p:sp>
          <p:nvSpPr>
            <p:cNvPr id="73" name="AutoShape 25"/>
            <p:cNvSpPr/>
            <p:nvPr/>
          </p:nvSpPr>
          <p:spPr>
            <a:xfrm>
              <a:off x="6051600" y="4260960"/>
              <a:ext cx="1482840" cy="46656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26"/>
            <p:cNvSpPr/>
            <p:nvPr/>
          </p:nvSpPr>
          <p:spPr>
            <a:xfrm>
              <a:off x="6051600" y="4263840"/>
              <a:ext cx="148284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11111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Group 27"/>
          <p:cNvGrpSpPr/>
          <p:nvPr/>
        </p:nvGrpSpPr>
        <p:grpSpPr>
          <a:xfrm>
            <a:off x="1595520" y="5568840"/>
            <a:ext cx="1482480" cy="466920"/>
            <a:chOff x="1595520" y="5568840"/>
            <a:chExt cx="1482480" cy="466920"/>
          </a:xfrm>
        </p:grpSpPr>
        <p:sp>
          <p:nvSpPr>
            <p:cNvPr id="76" name="AutoShape 28"/>
            <p:cNvSpPr/>
            <p:nvPr/>
          </p:nvSpPr>
          <p:spPr>
            <a:xfrm>
              <a:off x="1595520" y="5568840"/>
              <a:ext cx="1482480" cy="4669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1595520" y="5571720"/>
              <a:ext cx="14824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Group 30"/>
          <p:cNvGrpSpPr/>
          <p:nvPr/>
        </p:nvGrpSpPr>
        <p:grpSpPr>
          <a:xfrm>
            <a:off x="3081240" y="5568840"/>
            <a:ext cx="1481400" cy="466920"/>
            <a:chOff x="3081240" y="5568840"/>
            <a:chExt cx="1481400" cy="466920"/>
          </a:xfrm>
        </p:grpSpPr>
        <p:sp>
          <p:nvSpPr>
            <p:cNvPr id="79" name="AutoShape 31"/>
            <p:cNvSpPr/>
            <p:nvPr/>
          </p:nvSpPr>
          <p:spPr>
            <a:xfrm>
              <a:off x="3081240" y="5568840"/>
              <a:ext cx="1481400" cy="4669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Text Box 32"/>
            <p:cNvSpPr/>
            <p:nvPr/>
          </p:nvSpPr>
          <p:spPr>
            <a:xfrm>
              <a:off x="3081240" y="5571720"/>
              <a:ext cx="148140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Group 33"/>
          <p:cNvGrpSpPr/>
          <p:nvPr/>
        </p:nvGrpSpPr>
        <p:grpSpPr>
          <a:xfrm>
            <a:off x="4565520" y="5568840"/>
            <a:ext cx="1482840" cy="466920"/>
            <a:chOff x="4565520" y="5568840"/>
            <a:chExt cx="1482840" cy="466920"/>
          </a:xfrm>
        </p:grpSpPr>
        <p:sp>
          <p:nvSpPr>
            <p:cNvPr id="82" name="AutoShape 34"/>
            <p:cNvSpPr/>
            <p:nvPr/>
          </p:nvSpPr>
          <p:spPr>
            <a:xfrm>
              <a:off x="4565520" y="5568840"/>
              <a:ext cx="1482840" cy="4669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35"/>
            <p:cNvSpPr/>
            <p:nvPr/>
          </p:nvSpPr>
          <p:spPr>
            <a:xfrm>
              <a:off x="4565520" y="5571720"/>
              <a:ext cx="1482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Group 36"/>
          <p:cNvGrpSpPr/>
          <p:nvPr/>
        </p:nvGrpSpPr>
        <p:grpSpPr>
          <a:xfrm>
            <a:off x="6051600" y="5568840"/>
            <a:ext cx="1482840" cy="466920"/>
            <a:chOff x="6051600" y="5568840"/>
            <a:chExt cx="1482840" cy="466920"/>
          </a:xfrm>
        </p:grpSpPr>
        <p:sp>
          <p:nvSpPr>
            <p:cNvPr id="85" name="AutoShape 37"/>
            <p:cNvSpPr/>
            <p:nvPr/>
          </p:nvSpPr>
          <p:spPr>
            <a:xfrm>
              <a:off x="6051600" y="5568840"/>
              <a:ext cx="1482840" cy="466920"/>
            </a:xfrm>
            <a:prstGeom prst="roundRect">
              <a:avLst>
                <a:gd name="adj" fmla="val 338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Text Box 38"/>
            <p:cNvSpPr/>
            <p:nvPr/>
          </p:nvSpPr>
          <p:spPr>
            <a:xfrm>
              <a:off x="6051600" y="5571720"/>
              <a:ext cx="148284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68040" bIns="46800" anchor="ctr" anchorCtr="1">
              <a:noAutofit/>
            </a:bodyPr>
            <a:p>
              <a:pPr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ore to the stru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1880" y="2423880"/>
            <a:ext cx="86756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Division in IP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twork Part (Pref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which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st Part (Host Add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which host on that network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an be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be a multiple of 8 (/8, /16/, /24), but not usual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739880" y="4525920"/>
            <a:ext cx="6423120" cy="901800"/>
          </a:xfrm>
          <a:prstGeom prst="roundRect">
            <a:avLst>
              <a:gd name="adj" fmla="val 17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>
            <a:off x="5859360" y="4525920"/>
            <a:ext cx="1800" cy="90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2971800" y="5357880"/>
            <a:ext cx="149400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684840" y="5357880"/>
            <a:ext cx="108756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2212920" y="4581360"/>
            <a:ext cx="3044880" cy="4543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5    .    154    .   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6916680" y="4505400"/>
            <a:ext cx="333360" cy="453960"/>
          </a:xfrm>
          <a:custGeom>
            <a:avLst/>
            <a:gdLst>
              <a:gd name="textAreaLeft" fmla="*/ 360 w 333360"/>
              <a:gd name="textAreaRight" fmla="*/ 333000 w 333360"/>
              <a:gd name="textAreaTop" fmla="*/ 360 h 453960"/>
              <a:gd name="textAreaBottom" fmla="*/ 453600 h 453960"/>
            </a:gdLst>
            <a:ahLst/>
            <a:rect l="textAreaLeft" t="textAreaTop" r="textAreaRight" b="textAreaBottom"/>
            <a:pathLst>
              <a:path w="21600" h="29406">
                <a:moveTo>
                  <a:pt x="102" y="0"/>
                </a:moveTo>
                <a:arcTo wR="102" hR="102" stAng="16200000" swAng="-5400000"/>
                <a:lnTo>
                  <a:pt x="0" y="29304"/>
                </a:lnTo>
                <a:arcTo wR="102" hR="102" stAng="10800000" swAng="-5400000"/>
                <a:lnTo>
                  <a:pt x="21498" y="29406"/>
                </a:lnTo>
                <a:arcTo wR="102" hR="102" stAng="5400000" swAng="-5400000"/>
                <a:lnTo>
                  <a:pt x="21600" y="102"/>
                </a:lnTo>
                <a:arcTo wR="102" hR="102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1739880" y="4976640"/>
            <a:ext cx="642312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882800" y="5084640"/>
            <a:ext cx="6280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19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1001101   10011010   00001000               0000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5859360" y="4518000"/>
            <a:ext cx="180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5334120" y="5337000"/>
            <a:ext cx="874440" cy="4543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65520" bIns="44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Network Mas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91880" y="2261880"/>
            <a:ext cx="8513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Network M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elp define which bits are used to describe the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Network Pa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which for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Represent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imal dot notation: 255.255.224.0    (128+64+32 in byte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ary: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11111111 11111111 11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0000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xadecimal: 0xFFFFE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network bits: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/1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(8 + 8 +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AND of 32 bit IP address with 32 bit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netmas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yields network part of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Sample Netmask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8369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72360" bIns="44280" anchor="t">
            <a:normAutofit fontScale="88000"/>
          </a:bodyPr>
          <a:p>
            <a:pPr marL="301680" indent="0">
              <a:lnSpc>
                <a:spcPct val="83000"/>
              </a:lnSpc>
              <a:spcBef>
                <a:spcPts val="774"/>
              </a:spcBef>
              <a:buNone/>
              <a:tabLst>
                <a:tab algn="l" pos="0"/>
                <a:tab algn="l" pos="998640"/>
                <a:tab algn="l" pos="1913040"/>
                <a:tab algn="l" pos="2827440"/>
                <a:tab algn="l" pos="3741840"/>
                <a:tab algn="l" pos="4656240"/>
                <a:tab algn="l" pos="5570640"/>
                <a:tab algn="l" pos="6485040"/>
                <a:tab algn="l" pos="7399440"/>
                <a:tab algn="l" pos="8313840"/>
                <a:tab algn="l" pos="9228240"/>
                <a:tab algn="l" pos="10142640"/>
                <a:tab algn="l" pos="10145880"/>
                <a:tab algn="l" pos="10603080"/>
                <a:tab algn="l" pos="106059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7.158.128.0/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etmas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55.255.128.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3000"/>
              </a:lnSpc>
              <a:spcBef>
                <a:spcPts val="774"/>
              </a:spcBef>
              <a:buNone/>
              <a:tabLst>
                <a:tab algn="l" pos="0"/>
                <a:tab algn="l" pos="998640"/>
                <a:tab algn="l" pos="1913040"/>
                <a:tab algn="l" pos="2827440"/>
                <a:tab algn="l" pos="3741840"/>
                <a:tab algn="l" pos="4656240"/>
                <a:tab algn="l" pos="5570640"/>
                <a:tab algn="l" pos="6485040"/>
                <a:tab algn="l" pos="7399440"/>
                <a:tab algn="l" pos="8313840"/>
                <a:tab algn="l" pos="9228240"/>
                <a:tab algn="l" pos="10142640"/>
                <a:tab algn="l" pos="10145880"/>
                <a:tab algn="l" pos="10603080"/>
                <a:tab algn="l" pos="106059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- 17 = 15.    2^15 = 32,768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2530440" y="2897280"/>
            <a:ext cx="1654200" cy="460440"/>
            <a:chOff x="2530440" y="2897280"/>
            <a:chExt cx="1654200" cy="460440"/>
          </a:xfrm>
        </p:grpSpPr>
        <p:sp>
          <p:nvSpPr>
            <p:cNvPr id="104" name="AutoShape 4"/>
            <p:cNvSpPr/>
            <p:nvPr/>
          </p:nvSpPr>
          <p:spPr>
            <a:xfrm>
              <a:off x="2530440" y="2897280"/>
              <a:ext cx="1654200" cy="4525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2530440" y="2897280"/>
              <a:ext cx="1654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0 1001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4191120" y="2897280"/>
            <a:ext cx="1654200" cy="460440"/>
            <a:chOff x="4191120" y="2897280"/>
            <a:chExt cx="1654200" cy="460440"/>
          </a:xfrm>
        </p:grpSpPr>
        <p:sp>
          <p:nvSpPr>
            <p:cNvPr id="107" name="AutoShape 7"/>
            <p:cNvSpPr/>
            <p:nvPr/>
          </p:nvSpPr>
          <p:spPr>
            <a:xfrm>
              <a:off x="4191120" y="2897280"/>
              <a:ext cx="1654200" cy="4525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4191120" y="2897280"/>
              <a:ext cx="1654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1 111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5850000" y="2897280"/>
            <a:ext cx="1654200" cy="460440"/>
            <a:chOff x="5850000" y="2897280"/>
            <a:chExt cx="1654200" cy="460440"/>
          </a:xfrm>
        </p:grpSpPr>
        <p:sp>
          <p:nvSpPr>
            <p:cNvPr id="110" name="AutoShape 10"/>
            <p:cNvSpPr/>
            <p:nvPr/>
          </p:nvSpPr>
          <p:spPr>
            <a:xfrm>
              <a:off x="5850000" y="2897280"/>
              <a:ext cx="1654200" cy="4525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5850000" y="2897280"/>
              <a:ext cx="1654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  000 000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7508880" y="2897280"/>
            <a:ext cx="1654200" cy="460440"/>
            <a:chOff x="7508880" y="2897280"/>
            <a:chExt cx="1654200" cy="460440"/>
          </a:xfrm>
        </p:grpSpPr>
        <p:sp>
          <p:nvSpPr>
            <p:cNvPr id="113" name="AutoShape 13"/>
            <p:cNvSpPr/>
            <p:nvPr/>
          </p:nvSpPr>
          <p:spPr>
            <a:xfrm>
              <a:off x="7508880" y="2897280"/>
              <a:ext cx="1654200" cy="45252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508880" y="2897280"/>
              <a:ext cx="16542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00 000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Text Box 15"/>
          <p:cNvSpPr/>
          <p:nvPr/>
        </p:nvSpPr>
        <p:spPr>
          <a:xfrm>
            <a:off x="253044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19112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11 111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585000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  000 0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7508880" y="244008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0000 0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6172200" y="2440080"/>
            <a:ext cx="144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20"/>
          <p:cNvGrpSpPr/>
          <p:nvPr/>
        </p:nvGrpSpPr>
        <p:grpSpPr>
          <a:xfrm>
            <a:off x="2530440" y="4721400"/>
            <a:ext cx="1654200" cy="460080"/>
            <a:chOff x="2530440" y="4721400"/>
            <a:chExt cx="1654200" cy="460080"/>
          </a:xfrm>
        </p:grpSpPr>
        <p:sp>
          <p:nvSpPr>
            <p:cNvPr id="121" name="AutoShape 21"/>
            <p:cNvSpPr/>
            <p:nvPr/>
          </p:nvSpPr>
          <p:spPr>
            <a:xfrm>
              <a:off x="2530440" y="47214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22"/>
            <p:cNvSpPr/>
            <p:nvPr/>
          </p:nvSpPr>
          <p:spPr>
            <a:xfrm>
              <a:off x="2530440" y="47214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100 011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4191120" y="4721400"/>
            <a:ext cx="1654200" cy="460080"/>
            <a:chOff x="4191120" y="4721400"/>
            <a:chExt cx="1654200" cy="460080"/>
          </a:xfrm>
        </p:grpSpPr>
        <p:sp>
          <p:nvSpPr>
            <p:cNvPr id="124" name="AutoShape 24"/>
            <p:cNvSpPr/>
            <p:nvPr/>
          </p:nvSpPr>
          <p:spPr>
            <a:xfrm>
              <a:off x="4191120" y="47214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4191120" y="47214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000 011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5850000" y="4721400"/>
            <a:ext cx="1654200" cy="460080"/>
            <a:chOff x="5850000" y="4721400"/>
            <a:chExt cx="1654200" cy="460080"/>
          </a:xfrm>
        </p:grpSpPr>
        <p:sp>
          <p:nvSpPr>
            <p:cNvPr id="127" name="AutoShape 27"/>
            <p:cNvSpPr/>
            <p:nvPr/>
          </p:nvSpPr>
          <p:spPr>
            <a:xfrm>
              <a:off x="5850000" y="47214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850000" y="47214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000 000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7508880" y="4721400"/>
            <a:ext cx="1654200" cy="460080"/>
            <a:chOff x="7508880" y="4721400"/>
            <a:chExt cx="1654200" cy="460080"/>
          </a:xfrm>
        </p:grpSpPr>
        <p:sp>
          <p:nvSpPr>
            <p:cNvPr id="130" name="AutoShape 30"/>
            <p:cNvSpPr/>
            <p:nvPr/>
          </p:nvSpPr>
          <p:spPr>
            <a:xfrm>
              <a:off x="7508880" y="47214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7508880" y="47214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00 000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Text Box 32"/>
          <p:cNvSpPr/>
          <p:nvPr/>
        </p:nvSpPr>
        <p:spPr>
          <a:xfrm>
            <a:off x="2530440" y="42642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4191120" y="42642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1 111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5850000" y="42642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00 0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508880" y="42642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00 0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36"/>
          <p:cNvSpPr/>
          <p:nvPr/>
        </p:nvSpPr>
        <p:spPr>
          <a:xfrm>
            <a:off x="5850000" y="4264200"/>
            <a:ext cx="144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Group 37"/>
          <p:cNvGrpSpPr/>
          <p:nvPr/>
        </p:nvGrpSpPr>
        <p:grpSpPr>
          <a:xfrm>
            <a:off x="2530440" y="6550200"/>
            <a:ext cx="1654200" cy="460080"/>
            <a:chOff x="2530440" y="6550200"/>
            <a:chExt cx="1654200" cy="460080"/>
          </a:xfrm>
        </p:grpSpPr>
        <p:sp>
          <p:nvSpPr>
            <p:cNvPr id="138" name="AutoShape 38"/>
            <p:cNvSpPr/>
            <p:nvPr/>
          </p:nvSpPr>
          <p:spPr>
            <a:xfrm>
              <a:off x="2530440" y="65502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39"/>
            <p:cNvSpPr/>
            <p:nvPr/>
          </p:nvSpPr>
          <p:spPr>
            <a:xfrm>
              <a:off x="2530440" y="65502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0 1101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Group 40"/>
          <p:cNvGrpSpPr/>
          <p:nvPr/>
        </p:nvGrpSpPr>
        <p:grpSpPr>
          <a:xfrm>
            <a:off x="4191120" y="6550200"/>
            <a:ext cx="1654200" cy="460080"/>
            <a:chOff x="4191120" y="6550200"/>
            <a:chExt cx="1654200" cy="460080"/>
          </a:xfrm>
        </p:grpSpPr>
        <p:sp>
          <p:nvSpPr>
            <p:cNvPr id="141" name="AutoShape 41"/>
            <p:cNvSpPr/>
            <p:nvPr/>
          </p:nvSpPr>
          <p:spPr>
            <a:xfrm>
              <a:off x="4191120" y="65502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Text Box 42"/>
            <p:cNvSpPr/>
            <p:nvPr/>
          </p:nvSpPr>
          <p:spPr>
            <a:xfrm>
              <a:off x="4191120" y="65502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010 0101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Group 43"/>
          <p:cNvGrpSpPr/>
          <p:nvPr/>
        </p:nvGrpSpPr>
        <p:grpSpPr>
          <a:xfrm>
            <a:off x="5850000" y="6550200"/>
            <a:ext cx="1655640" cy="460080"/>
            <a:chOff x="5850000" y="6550200"/>
            <a:chExt cx="1655640" cy="460080"/>
          </a:xfrm>
        </p:grpSpPr>
        <p:sp>
          <p:nvSpPr>
            <p:cNvPr id="144" name="AutoShape 44"/>
            <p:cNvSpPr/>
            <p:nvPr/>
          </p:nvSpPr>
          <p:spPr>
            <a:xfrm>
              <a:off x="5850000" y="6550200"/>
              <a:ext cx="1655640" cy="45360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45"/>
            <p:cNvSpPr/>
            <p:nvPr/>
          </p:nvSpPr>
          <p:spPr>
            <a:xfrm>
              <a:off x="5850000" y="6550200"/>
              <a:ext cx="165564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0 0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Group 46"/>
          <p:cNvGrpSpPr/>
          <p:nvPr/>
        </p:nvGrpSpPr>
        <p:grpSpPr>
          <a:xfrm>
            <a:off x="7508880" y="6550200"/>
            <a:ext cx="1654200" cy="460080"/>
            <a:chOff x="7508880" y="6550200"/>
            <a:chExt cx="1654200" cy="460080"/>
          </a:xfrm>
        </p:grpSpPr>
        <p:sp>
          <p:nvSpPr>
            <p:cNvPr id="147" name="AutoShape 47"/>
            <p:cNvSpPr/>
            <p:nvPr/>
          </p:nvSpPr>
          <p:spPr>
            <a:xfrm>
              <a:off x="7508880" y="6550200"/>
              <a:ext cx="1654200" cy="452160"/>
            </a:xfrm>
            <a:prstGeom prst="roundRect">
              <a:avLst>
                <a:gd name="adj" fmla="val 3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48"/>
            <p:cNvSpPr/>
            <p:nvPr/>
          </p:nvSpPr>
          <p:spPr>
            <a:xfrm>
              <a:off x="7508880" y="6550200"/>
              <a:ext cx="16542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040" bIns="46800" anchor="t">
              <a:noAutofit/>
            </a:bodyPr>
            <a:p>
              <a:pPr algn="ctr">
                <a:lnSpc>
                  <a:spcPct val="93000"/>
                </a:lnSpc>
                <a:spcBef>
                  <a:spcPts val="1474"/>
                </a:spcBef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  00 0000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Text Box 49"/>
          <p:cNvSpPr/>
          <p:nvPr/>
        </p:nvSpPr>
        <p:spPr>
          <a:xfrm>
            <a:off x="2530440" y="60930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50"/>
          <p:cNvSpPr/>
          <p:nvPr/>
        </p:nvSpPr>
        <p:spPr>
          <a:xfrm>
            <a:off x="4191120" y="60930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1 111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1"/>
          <p:cNvSpPr/>
          <p:nvPr/>
        </p:nvSpPr>
        <p:spPr>
          <a:xfrm>
            <a:off x="5850000" y="60930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1 11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2"/>
          <p:cNvSpPr/>
          <p:nvPr/>
        </p:nvSpPr>
        <p:spPr>
          <a:xfrm>
            <a:off x="7508880" y="6093000"/>
            <a:ext cx="1658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6800" anchor="t">
            <a:noAutofit/>
          </a:bodyPr>
          <a:p>
            <a:pPr algn="ctr"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  00 0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53"/>
          <p:cNvSpPr/>
          <p:nvPr/>
        </p:nvSpPr>
        <p:spPr>
          <a:xfrm>
            <a:off x="7977240" y="6093000"/>
            <a:ext cx="144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1139760" y="3352680"/>
            <a:ext cx="836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72360" bIns="44280" anchor="t">
            <a:noAutofit/>
          </a:bodyPr>
          <a:p>
            <a:pPr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3720"/>
                <a:tab algn="l" pos="10510920"/>
                <a:tab algn="l" pos="1051416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8.134.0.0/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etmas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55.255.0.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74"/>
              </a:spcBef>
              <a:tabLst>
                <a:tab algn="l" pos="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053720"/>
                <a:tab algn="l" pos="10510920"/>
                <a:tab algn="l" pos="105141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- 16 = 16.  2^16 = 65,536 addre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5"/>
          <p:cNvSpPr/>
          <p:nvPr/>
        </p:nvSpPr>
        <p:spPr>
          <a:xfrm>
            <a:off x="1139760" y="5181480"/>
            <a:ext cx="839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72360" bIns="44280" anchor="t">
            <a:noAutofit/>
          </a:bodyPr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05.37.193.128/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etmask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55.255.255.19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6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2 - 26 = 6.  2^6 = 64 addre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pecial IP Address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439640"/>
            <a:ext cx="90360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3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0’s in host part:  Represent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193.0.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138.37.128.0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192.168.2.128/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   (WHY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1’s in host part: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Broadca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all hosts on 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137.156.255.255 (137.156.0.0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134.132.100.255 (134.132.100.0/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675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192.168.2.127/25 (192.168.2.0/25)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HY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7.0.0.0/8: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Loopbac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ddress (127.0.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2000"/>
              </a:lnSpc>
              <a:spcBef>
                <a:spcPts val="7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0.0.0: Various special purposes (DHCP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0000" y="252000"/>
            <a:ext cx="996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Networks – super- and subnettin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1295280" y="39243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908000" y="48610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708360" y="2017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284720" y="399888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 flipV="1">
            <a:off x="1619280" y="3236400"/>
            <a:ext cx="17928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1619280" y="4319640"/>
            <a:ext cx="179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2340000" y="2698560"/>
            <a:ext cx="17928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2340000" y="3419640"/>
            <a:ext cx="179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2340000" y="4678200"/>
            <a:ext cx="17928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2340000" y="5219640"/>
            <a:ext cx="17928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3060720" y="2157480"/>
            <a:ext cx="53964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3060720" y="287964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3060720" y="3419280"/>
            <a:ext cx="5396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3060720" y="378000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3060720" y="4498560"/>
            <a:ext cx="5396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3060720" y="4859280"/>
            <a:ext cx="53964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3060720" y="558000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3060720" y="5759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4896000" y="1479600"/>
            <a:ext cx="50958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adding one bit to the netmas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subdivide the network into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er networks.  This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ubnet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.e.: If one has a /26 network (32 – 26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 =&gt; 2^6 =&gt; 64 addresses),  that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subdivided into two subnets, 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/27 netmask, where the state of the l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t will determine which network we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ing (32 – 27 = 5 =&gt; 2^5 =&gt; 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resses).  This can be done recur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/27 =&gt; 2 x /28 or 4 x /29, etc..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: 192.168.10.0/25 (.0 - .127) 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ubnetted into 192.168.10.0 / 26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2.168.10.64 / 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3708360" y="27018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3708360" y="32068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708360" y="39276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708360" y="43243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3708360" y="486396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3708360" y="53690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3708360" y="60530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2592360" y="54054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2597040" y="455760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2597040" y="358632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2597040" y="2505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1908000" y="29894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1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5:50:15Z</dcterms:created>
  <dc:creator/>
  <dc:description/>
  <dc:language>en-US</dc:language>
  <cp:lastModifiedBy>Steve Gibbard</cp:lastModifiedBy>
  <cp:lastPrinted>2008-05-25T18:08:20Z</cp:lastPrinted>
  <dcterms:modified xsi:type="dcterms:W3CDTF">2010-07-15T05:30:29Z</dcterms:modified>
  <cp:revision>120</cp:revision>
  <dc:subject/>
  <dc:title>IP Basics</dc:title>
</cp:coreProperties>
</file>