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0/28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9704E2-C205-4089-8738-68CB48B086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6"/>
          <p:cNvSpPr/>
          <p:nvPr/>
        </p:nvSpPr>
        <p:spPr>
          <a:xfrm>
            <a:off x="3884760" y="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0/28/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1BCEF4-6F35-4241-AECA-3BF4A091DB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1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/28/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2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4BFDA6-BAC1-46B8-9647-C3A2A849EF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6"/>
          <p:cNvSpPr/>
          <p:nvPr/>
        </p:nvSpPr>
        <p:spPr>
          <a:xfrm>
            <a:off x="3884760" y="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0/28/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8C2C44-FBD7-43DC-A875-694FCD640B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5C588D-3FDC-49A1-BF41-B1CF021871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6"/>
          <p:cNvSpPr/>
          <p:nvPr/>
        </p:nvSpPr>
        <p:spPr>
          <a:xfrm>
            <a:off x="3884760" y="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0/28/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1F6A6A-3129-4CF0-AB3F-1159D79A88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E2A835-D179-4633-9FCB-72AC32BD5E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6"/>
          <p:cNvSpPr/>
          <p:nvPr/>
        </p:nvSpPr>
        <p:spPr>
          <a:xfrm>
            <a:off x="3884760" y="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0/28/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4D2218-E112-4DCD-8B77-335AFB4961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2909D9-A272-4441-B820-9E8249C724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6"/>
          <p:cNvSpPr/>
          <p:nvPr/>
        </p:nvSpPr>
        <p:spPr>
          <a:xfrm>
            <a:off x="3884760" y="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0/28/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AC85B9-BAE6-4A6A-A429-ACA90B3278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B0570A-C691-4D10-8A0B-F21652EB03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6"/>
          <p:cNvSpPr/>
          <p:nvPr/>
        </p:nvSpPr>
        <p:spPr>
          <a:xfrm>
            <a:off x="3884760" y="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0/28/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4C2BFC-D3B1-4C25-8E5B-A898C0D623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BA47AE-ECC9-409F-8600-FAA4580BE4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6"/>
          <p:cNvSpPr/>
          <p:nvPr/>
        </p:nvSpPr>
        <p:spPr>
          <a:xfrm>
            <a:off x="3884760" y="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0/28/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EDF279-C660-496C-B4A3-C204CF021A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F33D82-AA32-46D8-9B7C-2DEB0AD254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6"/>
          <p:cNvSpPr/>
          <p:nvPr/>
        </p:nvSpPr>
        <p:spPr>
          <a:xfrm>
            <a:off x="3884760" y="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0/28/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813173-72F7-476D-BF2F-ED147A1F62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57D866-65F5-414B-8B6D-D9B41900E2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6"/>
          <p:cNvSpPr/>
          <p:nvPr/>
        </p:nvSpPr>
        <p:spPr>
          <a:xfrm>
            <a:off x="3884760" y="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0/28/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D160C3-0FF2-4F41-A0B4-06AB727378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4725A3-30B7-4F84-B599-4499E01902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6"/>
          <p:cNvSpPr/>
          <p:nvPr/>
        </p:nvSpPr>
        <p:spPr>
          <a:xfrm>
            <a:off x="3884760" y="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0/28/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1B7596-7CBC-42E4-B599-CBF73DE462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119F89-A1E1-4B5A-B664-C881AD176C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6"/>
          <p:cNvSpPr/>
          <p:nvPr/>
        </p:nvSpPr>
        <p:spPr>
          <a:xfrm>
            <a:off x="3884760" y="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0/28/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F8B3EC-50D2-4A8B-8A91-4D0CF92C65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BDBF6C-7271-4AE0-809B-FC3EBEC53F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6"/>
          <p:cNvSpPr/>
          <p:nvPr/>
        </p:nvSpPr>
        <p:spPr>
          <a:xfrm>
            <a:off x="3884760" y="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0/28/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891D06-166F-4AD9-8681-FCBDF67BF5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4A63E1-E534-49D0-82D7-B31C22A1B9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6"/>
          <p:cNvSpPr/>
          <p:nvPr/>
        </p:nvSpPr>
        <p:spPr>
          <a:xfrm>
            <a:off x="3884760" y="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0/28/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55DCC5-3773-427A-B513-33A6E7E846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D9DA56-9869-4742-85AC-5284150522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6"/>
          <p:cNvSpPr/>
          <p:nvPr/>
        </p:nvSpPr>
        <p:spPr>
          <a:xfrm>
            <a:off x="3884760" y="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0/28/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356081-769B-4327-843E-22B05B76DB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3D34D5-A9F6-4484-90F9-F4F8F32024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6"/>
          <p:cNvSpPr/>
          <p:nvPr/>
        </p:nvSpPr>
        <p:spPr>
          <a:xfrm>
            <a:off x="3884760" y="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0/28/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3FEF29-0AD9-447A-8EA4-FFA1059CDD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FB04C4-56D1-476D-8DBD-577039168D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6"/>
          <p:cNvSpPr/>
          <p:nvPr/>
        </p:nvSpPr>
        <p:spPr>
          <a:xfrm>
            <a:off x="3884760" y="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0/28/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E823E3-D402-4186-9E2C-937C007FE4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1EDA99-6E12-46F1-AA33-CA82776FEE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6"/>
          <p:cNvSpPr/>
          <p:nvPr/>
        </p:nvSpPr>
        <p:spPr>
          <a:xfrm>
            <a:off x="3884760" y="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0/28/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F81CD4-A5B5-4878-99D7-F214371F7A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77B856-B98C-4809-96FE-549425EEDB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6"/>
          <p:cNvSpPr/>
          <p:nvPr/>
        </p:nvSpPr>
        <p:spPr>
          <a:xfrm>
            <a:off x="3884760" y="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0/28/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E9EDB1-F76E-43E2-A445-C3C3B19A8D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E9B9CC-54DD-4E0D-B6C8-1DEEB33F82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6"/>
          <p:cNvSpPr/>
          <p:nvPr/>
        </p:nvSpPr>
        <p:spPr>
          <a:xfrm>
            <a:off x="3884760" y="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0/28/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D6F03D-C8BE-4812-9F6F-8BF38C33F3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677F39-8115-4914-AB22-DEE2644999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6"/>
          <p:cNvSpPr/>
          <p:nvPr/>
        </p:nvSpPr>
        <p:spPr>
          <a:xfrm>
            <a:off x="3884760" y="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0/28/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CF8B3D-B22B-45ED-AC0B-9D9E759AB6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B5F883-657A-4E3B-9D0B-DDDA2C7BB3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6"/>
          <p:cNvSpPr/>
          <p:nvPr/>
        </p:nvSpPr>
        <p:spPr>
          <a:xfrm>
            <a:off x="3884760" y="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0/28/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9C1E73-785E-481F-9CC6-8D67D09428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425AA8-7699-4CB8-9A5C-FC82B39A56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6"/>
          <p:cNvSpPr/>
          <p:nvPr/>
        </p:nvSpPr>
        <p:spPr>
          <a:xfrm>
            <a:off x="3884760" y="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0/28/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D4283E-033A-415B-B165-CB2C5711CF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532318-1A4D-4F40-806E-9CF43137DF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6"/>
          <p:cNvSpPr/>
          <p:nvPr/>
        </p:nvSpPr>
        <p:spPr>
          <a:xfrm>
            <a:off x="3884760" y="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0/28/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AD631C-CEFE-47ED-92E9-2054D1F319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98DF89-B77A-4E74-A2D8-A6BBE0EFF2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6"/>
          <p:cNvSpPr/>
          <p:nvPr/>
        </p:nvSpPr>
        <p:spPr>
          <a:xfrm>
            <a:off x="3884760" y="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0/28/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3EBC65-0571-4D31-8766-DE43461C98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9DB6D8-F5FD-4097-B76B-6916E41C88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0320" cy="1136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14080" y="1403280"/>
            <a:ext cx="842652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4080" y="4131360"/>
            <a:ext cx="842652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0320" cy="1136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4080" y="1403280"/>
            <a:ext cx="411192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403280"/>
            <a:ext cx="411192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4080" y="4131360"/>
            <a:ext cx="411192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31920" y="4131360"/>
            <a:ext cx="411192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0320" cy="1136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14080" y="1403280"/>
            <a:ext cx="271296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63120" y="1403280"/>
            <a:ext cx="271296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12160" y="1403280"/>
            <a:ext cx="271296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4080" y="4131360"/>
            <a:ext cx="271296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63120" y="4131360"/>
            <a:ext cx="271296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12160" y="4131360"/>
            <a:ext cx="271296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0320" cy="1136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14080" y="1403280"/>
            <a:ext cx="8426520" cy="52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0320" cy="1136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14080" y="1403280"/>
            <a:ext cx="842652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0320" cy="1136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4080" y="1403280"/>
            <a:ext cx="411192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31920" y="1403280"/>
            <a:ext cx="411192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0320" cy="1136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6120"/>
            <a:ext cx="868032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0320" cy="1136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14080" y="1403280"/>
            <a:ext cx="411192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31920" y="1403280"/>
            <a:ext cx="411192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4080" y="4131360"/>
            <a:ext cx="411192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0320" cy="1136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14080" y="1403280"/>
            <a:ext cx="8426520" cy="52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0320" cy="1136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14080" y="1403280"/>
            <a:ext cx="411192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1920" y="1403280"/>
            <a:ext cx="411192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31920" y="4131360"/>
            <a:ext cx="411192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0320" cy="1136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14080" y="1403280"/>
            <a:ext cx="411192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1920" y="1403280"/>
            <a:ext cx="411192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4080" y="4131360"/>
            <a:ext cx="842652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0320" cy="1136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14080" y="1403280"/>
            <a:ext cx="842652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4080" y="4131360"/>
            <a:ext cx="842652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0320" cy="1136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14080" y="1403280"/>
            <a:ext cx="411192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31920" y="1403280"/>
            <a:ext cx="411192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4080" y="4131360"/>
            <a:ext cx="411192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31920" y="4131360"/>
            <a:ext cx="411192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0320" cy="1136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14080" y="1403280"/>
            <a:ext cx="271296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63120" y="1403280"/>
            <a:ext cx="271296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2160" y="1403280"/>
            <a:ext cx="271296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14080" y="4131360"/>
            <a:ext cx="271296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63120" y="4131360"/>
            <a:ext cx="271296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2160" y="4131360"/>
            <a:ext cx="271296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E7E08-7043-4F8C-A04E-6ED0D26642C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0320" cy="1136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14080" y="1403280"/>
            <a:ext cx="8426520" cy="52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6507A-739C-4824-A9F7-A96AC63C00C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0320" cy="1136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14080" y="1403280"/>
            <a:ext cx="842652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076BF-2591-43E6-9FF1-6F0DD274EE3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0320" cy="1136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14080" y="1403280"/>
            <a:ext cx="411192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1920" y="1403280"/>
            <a:ext cx="411192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DA6A2-AA8F-4E67-A9DD-18503E8411C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0320" cy="1136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27D64-3434-41A2-AB79-E7C716B6C7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0320" cy="1136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14080" y="1403280"/>
            <a:ext cx="842652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6120"/>
            <a:ext cx="868032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340FA-A211-4BD5-8169-184D25D2F3C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0320" cy="1136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14080" y="1403280"/>
            <a:ext cx="411192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1920" y="1403280"/>
            <a:ext cx="411192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14080" y="4131360"/>
            <a:ext cx="411192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593DA-1F3E-491E-8153-5078EB798AA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0320" cy="1136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14080" y="1403280"/>
            <a:ext cx="411192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1920" y="1403280"/>
            <a:ext cx="411192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1920" y="4131360"/>
            <a:ext cx="411192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CCB2D-3570-4CD9-9DA9-34F6EEDB355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0320" cy="1136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14080" y="1403280"/>
            <a:ext cx="411192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1920" y="1403280"/>
            <a:ext cx="411192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4080" y="4131360"/>
            <a:ext cx="842652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4C9E8-8E4F-4CB6-9617-EDF97881FF4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0320" cy="1136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14080" y="1403280"/>
            <a:ext cx="842652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4080" y="4131360"/>
            <a:ext cx="842652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4F757-D7ED-4230-931D-5DA5373CDCD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0320" cy="1136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14080" y="1403280"/>
            <a:ext cx="411192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1920" y="1403280"/>
            <a:ext cx="411192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14080" y="4131360"/>
            <a:ext cx="411192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1920" y="4131360"/>
            <a:ext cx="411192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21056-4FD8-4FCE-A037-526823D82F1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0320" cy="1136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14080" y="1403280"/>
            <a:ext cx="271296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63120" y="1403280"/>
            <a:ext cx="271296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12160" y="1403280"/>
            <a:ext cx="271296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14080" y="4131360"/>
            <a:ext cx="271296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63120" y="4131360"/>
            <a:ext cx="271296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12160" y="4131360"/>
            <a:ext cx="271296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E1692-7663-4A51-B98B-48F3C1B017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0320" cy="1136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080" y="1403280"/>
            <a:ext cx="411192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31920" y="1403280"/>
            <a:ext cx="411192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0320" cy="1136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6120"/>
            <a:ext cx="868032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0320" cy="1136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14080" y="1403280"/>
            <a:ext cx="411192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31920" y="1403280"/>
            <a:ext cx="411192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14080" y="4131360"/>
            <a:ext cx="411192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0320" cy="1136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14080" y="1403280"/>
            <a:ext cx="411192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31920" y="1403280"/>
            <a:ext cx="411192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31920" y="4131360"/>
            <a:ext cx="411192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0320" cy="1136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14080" y="1403280"/>
            <a:ext cx="411192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31920" y="1403280"/>
            <a:ext cx="411192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4080" y="4131360"/>
            <a:ext cx="842652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0320" cy="1136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080" y="1403280"/>
            <a:ext cx="842652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gradFill rotWithShape="0">
            <a:gsLst>
              <a:gs pos="0">
                <a:srgbClr val="1f497d"/>
              </a:gs>
              <a:gs pos="100000">
                <a:srgbClr val="9bc1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gradFill rotWithShape="0">
            <a:gsLst>
              <a:gs pos="0">
                <a:srgbClr val="1f497d"/>
              </a:gs>
              <a:gs pos="100000">
                <a:srgbClr val="9bc1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" name="Picture 2" descr=""/>
          <p:cNvPicPr/>
          <p:nvPr/>
        </p:nvPicPr>
        <p:blipFill>
          <a:blip r:embed="rId2"/>
          <a:stretch/>
        </p:blipFill>
        <p:spPr>
          <a:xfrm>
            <a:off x="-6480" y="-12600"/>
            <a:ext cx="9156960" cy="6877080"/>
          </a:xfrm>
          <a:prstGeom prst="rect">
            <a:avLst/>
          </a:prstGeom>
          <a:ln w="0">
            <a:noFill/>
          </a:ln>
        </p:spPr>
      </p:pic>
      <p:sp>
        <p:nvSpPr>
          <p:cNvPr id="41" name="Text Box 4"/>
          <p:cNvSpPr/>
          <p:nvPr/>
        </p:nvSpPr>
        <p:spPr>
          <a:xfrm>
            <a:off x="1465200" y="6400800"/>
            <a:ext cx="731988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se materials are licensed under the Creative Commons </a:t>
            </a: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Attribution-Noncommercial 3.0 Unported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licens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http://creativecommons.org/licenses/by-nc/3.0/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Picture 5" descr=""/>
          <p:cNvPicPr/>
          <p:nvPr/>
        </p:nvPicPr>
        <p:blipFill>
          <a:blip r:embed="rId3"/>
          <a:stretch/>
        </p:blipFill>
        <p:spPr>
          <a:xfrm>
            <a:off x="642960" y="6459480"/>
            <a:ext cx="914400" cy="322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0320" cy="1136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14080" y="1403280"/>
            <a:ext cx="842652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nsrc-main-large.png"/>
          <p:cNvPicPr/>
          <p:nvPr/>
        </p:nvPicPr>
        <p:blipFill>
          <a:blip r:embed="rId4"/>
          <a:stretch/>
        </p:blipFill>
        <p:spPr>
          <a:xfrm>
            <a:off x="3309840" y="609480"/>
            <a:ext cx="2408400" cy="2309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gradFill rotWithShape="0">
            <a:gsLst>
              <a:gs pos="0">
                <a:srgbClr val="1f497d"/>
              </a:gs>
              <a:gs pos="100000">
                <a:srgbClr val="9bc1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0320" cy="1136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514080" y="1403280"/>
            <a:ext cx="842652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457200" y="6246720"/>
            <a:ext cx="212580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312732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1"/>
          </p:nvPr>
        </p:nvSpPr>
        <p:spPr>
          <a:xfrm>
            <a:off x="6554880" y="6246720"/>
            <a:ext cx="2122560" cy="465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084D11-BB8E-4F4D-9F5A-15E44DAAE4E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"/>
          <p:cNvSpPr/>
          <p:nvPr/>
        </p:nvSpPr>
        <p:spPr>
          <a:xfrm>
            <a:off x="685800" y="3951360"/>
            <a:ext cx="7921800" cy="1469880"/>
          </a:xfrm>
          <a:prstGeom prst="rect">
            <a:avLst/>
          </a:prstGeom>
          <a:solidFill>
            <a:srgbClr val="ffffff">
              <a:alpha val="25000"/>
            </a:srgbClr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fS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2"/>
          <p:cNvSpPr/>
          <p:nvPr/>
        </p:nvSpPr>
        <p:spPr>
          <a:xfrm>
            <a:off x="1371600" y="2405160"/>
            <a:ext cx="6400800" cy="14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etwork Management &amp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onitor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" descr=""/>
          <p:cNvPicPr/>
          <p:nvPr/>
        </p:nvPicPr>
        <p:blipFill>
          <a:blip r:embed="rId1"/>
          <a:stretch/>
        </p:blipFill>
        <p:spPr>
          <a:xfrm>
            <a:off x="1143000" y="0"/>
            <a:ext cx="647712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5"/>
          <p:cNvSpPr/>
          <p:nvPr/>
        </p:nvSpPr>
        <p:spPr>
          <a:xfrm>
            <a:off x="762120" y="5029200"/>
            <a:ext cx="914400" cy="685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uters being monitor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7" name="Straight Arrow Connector 7"/>
          <p:cNvCxnSpPr>
            <a:stCxn id="176" idx="0"/>
          </p:cNvCxnSpPr>
          <p:nvPr/>
        </p:nvCxnSpPr>
        <p:spPr>
          <a:xfrm flipV="1">
            <a:off x="1219320" y="4571640"/>
            <a:ext cx="4197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8" name="Rectangle 10"/>
          <p:cNvSpPr/>
          <p:nvPr/>
        </p:nvSpPr>
        <p:spPr>
          <a:xfrm>
            <a:off x="609480" y="2743200"/>
            <a:ext cx="1067040" cy="8380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ph of Netflow traffic for all Protoco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11"/>
          <p:cNvSpPr/>
          <p:nvPr/>
        </p:nvSpPr>
        <p:spPr>
          <a:xfrm>
            <a:off x="7391520" y="1981080"/>
            <a:ext cx="1218960" cy="685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ime period for flows being observ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0" name="Straight Arrow Connector 12"/>
          <p:cNvCxnSpPr/>
          <p:nvPr/>
        </p:nvCxnSpPr>
        <p:spPr>
          <a:xfrm flipH="1" flipV="1">
            <a:off x="7314840" y="1828080"/>
            <a:ext cx="53424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1" name="Straight Arrow Connector 16"/>
          <p:cNvCxnSpPr/>
          <p:nvPr/>
        </p:nvCxnSpPr>
        <p:spPr>
          <a:xfrm flipV="1">
            <a:off x="1218960" y="2361960"/>
            <a:ext cx="5338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2" name="Rectangle 20"/>
          <p:cNvSpPr/>
          <p:nvPr/>
        </p:nvSpPr>
        <p:spPr>
          <a:xfrm>
            <a:off x="6400800" y="228600"/>
            <a:ext cx="1600200" cy="6094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tflow traffic graphs organized by Protoco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3" name="Straight Arrow Connector 21"/>
          <p:cNvCxnSpPr/>
          <p:nvPr/>
        </p:nvCxnSpPr>
        <p:spPr>
          <a:xfrm flipH="1">
            <a:off x="2437560" y="608400"/>
            <a:ext cx="129636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4" name="Straight Arrow Connector 24"/>
          <p:cNvCxnSpPr/>
          <p:nvPr/>
        </p:nvCxnSpPr>
        <p:spPr>
          <a:xfrm flipH="1">
            <a:off x="3198600" y="608400"/>
            <a:ext cx="535680" cy="383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5" name="Straight Arrow Connector 26"/>
          <p:cNvCxnSpPr/>
          <p:nvPr/>
        </p:nvCxnSpPr>
        <p:spPr>
          <a:xfrm>
            <a:off x="3732840" y="609120"/>
            <a:ext cx="15300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6" name="Straight Arrow Connector 30"/>
          <p:cNvCxnSpPr/>
          <p:nvPr/>
        </p:nvCxnSpPr>
        <p:spPr>
          <a:xfrm>
            <a:off x="3809880" y="609120"/>
            <a:ext cx="106776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7" name="Straight Connector 35"/>
          <p:cNvSpPr/>
          <p:nvPr/>
        </p:nvSpPr>
        <p:spPr>
          <a:xfrm flipV="1">
            <a:off x="3733920" y="533160"/>
            <a:ext cx="26668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45"/>
          <p:cNvSpPr/>
          <p:nvPr/>
        </p:nvSpPr>
        <p:spPr>
          <a:xfrm>
            <a:off x="7543800" y="5257800"/>
            <a:ext cx="1447920" cy="6094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tended Netflow processing op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9" name="Straight Arrow Connector 46"/>
          <p:cNvCxnSpPr>
            <a:stCxn id="188" idx="1"/>
          </p:cNvCxnSpPr>
          <p:nvPr/>
        </p:nvCxnSpPr>
        <p:spPr>
          <a:xfrm flipH="1">
            <a:off x="6400080" y="5561640"/>
            <a:ext cx="114372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1"/>
          <p:cNvSpPr/>
          <p:nvPr/>
        </p:nvSpPr>
        <p:spPr>
          <a:xfrm>
            <a:off x="611280" y="1371600"/>
            <a:ext cx="82278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8800" indent="-28872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nn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type of traffic of inter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29052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HTTP, HTTPS, SMTP traffic (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29052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ffic to and from the Science depar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8800" indent="-28872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f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collection of channels which can be shown together in a gra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29052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4 TCP, v6 TCP, v4 UDP, v6 UDP,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8800" indent="-28872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create your own profiles and channels, and hence graph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8800" indent="-28872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ilt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define a chan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29052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ter out the flow data you are interested in from the data files that contain all the flow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" name="Group 2"/>
          <p:cNvGrpSpPr/>
          <p:nvPr/>
        </p:nvGrpSpPr>
        <p:grpSpPr>
          <a:xfrm>
            <a:off x="444600" y="-12600"/>
            <a:ext cx="8708760" cy="1162080"/>
            <a:chOff x="444600" y="-12600"/>
            <a:chExt cx="8708760" cy="1162080"/>
          </a:xfrm>
        </p:grpSpPr>
        <p:pic>
          <p:nvPicPr>
            <p:cNvPr id="192" name="Picture 3" descr=""/>
            <p:cNvPicPr/>
            <p:nvPr/>
          </p:nvPicPr>
          <p:blipFill>
            <a:blip r:embed="rId1"/>
            <a:stretch/>
          </p:blipFill>
          <p:spPr>
            <a:xfrm>
              <a:off x="444600" y="-12600"/>
              <a:ext cx="8708760" cy="11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Text Box 4"/>
            <p:cNvSpPr/>
            <p:nvPr/>
          </p:nvSpPr>
          <p:spPr>
            <a:xfrm>
              <a:off x="457200" y="0"/>
              <a:ext cx="8683560" cy="11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Profiles and Channels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1"/>
          <p:cNvSpPr/>
          <p:nvPr/>
        </p:nvSpPr>
        <p:spPr>
          <a:xfrm>
            <a:off x="611280" y="1371600"/>
            <a:ext cx="82278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8800" indent="-28872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il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collection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xpres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290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pr1, expr2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expr3, expr4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expr5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expr6, ( expr7 )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 expr8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800" indent="-28872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xpres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specify things 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29052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version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et, ipv4, inet6, ipv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29052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coI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{proto} tcp, udp, icmp, gre, </a:t>
            </a:r>
            <a:r>
              <a:rPr b="0" lang="mr-IN" sz="2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29052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Address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[src|dst] ip 10.10.10.1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[src|dst] ip in &lt;addr1&gt; &lt;addr2&gt; &lt;addr3&g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290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Group 2"/>
          <p:cNvGrpSpPr/>
          <p:nvPr/>
        </p:nvGrpSpPr>
        <p:grpSpPr>
          <a:xfrm>
            <a:off x="444600" y="-12600"/>
            <a:ext cx="8708760" cy="1162080"/>
            <a:chOff x="444600" y="-12600"/>
            <a:chExt cx="8708760" cy="1162080"/>
          </a:xfrm>
        </p:grpSpPr>
        <p:pic>
          <p:nvPicPr>
            <p:cNvPr id="196" name="Picture 3" descr=""/>
            <p:cNvPicPr/>
            <p:nvPr/>
          </p:nvPicPr>
          <p:blipFill>
            <a:blip r:embed="rId1"/>
            <a:stretch/>
          </p:blipFill>
          <p:spPr>
            <a:xfrm>
              <a:off x="444600" y="-12600"/>
              <a:ext cx="8708760" cy="11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 Box 4"/>
            <p:cNvSpPr/>
            <p:nvPr/>
          </p:nvSpPr>
          <p:spPr>
            <a:xfrm>
              <a:off x="457200" y="0"/>
              <a:ext cx="8683560" cy="11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Filters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1"/>
          <p:cNvSpPr/>
          <p:nvPr/>
        </p:nvSpPr>
        <p:spPr>
          <a:xfrm>
            <a:off x="611280" y="1371600"/>
            <a:ext cx="82278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8800" indent="-28872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Network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[src|dst] net 172.16/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8800" indent="-28872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[src|dst] port 8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[src|dst] port &gt; 10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8800" indent="-28872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 Flag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lags 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lags S and not flags AFPR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8800" indent="-28872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S: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os 8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8800" indent="-288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" name="Group 2"/>
          <p:cNvGrpSpPr/>
          <p:nvPr/>
        </p:nvGrpSpPr>
        <p:grpSpPr>
          <a:xfrm>
            <a:off x="444600" y="-12600"/>
            <a:ext cx="8708760" cy="1162080"/>
            <a:chOff x="444600" y="-12600"/>
            <a:chExt cx="8708760" cy="1162080"/>
          </a:xfrm>
        </p:grpSpPr>
        <p:pic>
          <p:nvPicPr>
            <p:cNvPr id="200" name="Picture 3" descr=""/>
            <p:cNvPicPr/>
            <p:nvPr/>
          </p:nvPicPr>
          <p:blipFill>
            <a:blip r:embed="rId1"/>
            <a:stretch/>
          </p:blipFill>
          <p:spPr>
            <a:xfrm>
              <a:off x="444600" y="-12600"/>
              <a:ext cx="8708760" cy="11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4"/>
            <p:cNvSpPr/>
            <p:nvPr/>
          </p:nvSpPr>
          <p:spPr>
            <a:xfrm>
              <a:off x="457200" y="0"/>
              <a:ext cx="8683560" cy="11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Filters (ctd)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1"/>
          <p:cNvSpPr/>
          <p:nvPr/>
        </p:nvSpPr>
        <p:spPr>
          <a:xfrm>
            <a:off x="611280" y="1371600"/>
            <a:ext cx="82278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8800" indent="-28872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s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ytes &gt; 1024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ytes = 6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8800" indent="-28872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s per second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ps &gt; 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8800" indent="-28872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ts per second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ps &gt; 10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8800" indent="-28872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ts per packet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pp &gt; 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8800" indent="-28872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ation of flow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uration &gt; 36000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8800" indent="-28872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Number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[src|dst] 2345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8800" indent="-28872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numbers can have scaling factor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k, m, g, 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1024 as fa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3" name="Group 2"/>
          <p:cNvGrpSpPr/>
          <p:nvPr/>
        </p:nvGrpSpPr>
        <p:grpSpPr>
          <a:xfrm>
            <a:off x="444600" y="-12600"/>
            <a:ext cx="8708760" cy="1162080"/>
            <a:chOff x="444600" y="-12600"/>
            <a:chExt cx="8708760" cy="1162080"/>
          </a:xfrm>
        </p:grpSpPr>
        <p:pic>
          <p:nvPicPr>
            <p:cNvPr id="204" name="Picture 3" descr=""/>
            <p:cNvPicPr/>
            <p:nvPr/>
          </p:nvPicPr>
          <p:blipFill>
            <a:blip r:embed="rId1"/>
            <a:stretch/>
          </p:blipFill>
          <p:spPr>
            <a:xfrm>
              <a:off x="444600" y="-12600"/>
              <a:ext cx="8708760" cy="11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Text Box 4"/>
            <p:cNvSpPr/>
            <p:nvPr/>
          </p:nvSpPr>
          <p:spPr>
            <a:xfrm>
              <a:off x="457200" y="0"/>
              <a:ext cx="8683560" cy="11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Filters (ctd)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1"/>
          <p:cNvSpPr/>
          <p:nvPr/>
        </p:nvSpPr>
        <p:spPr>
          <a:xfrm>
            <a:off x="611280" y="1371600"/>
            <a:ext cx="82278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8800" indent="-288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roto tcp and ( port 80 or port 44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8800" indent="-288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roto tcp and ( src ip 172.16.17.18 or dst ip 172.16.17.19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8800" indent="-288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roto tcp and ( net 172.16/16 and src port &gt; 1024 and dst port 80 ) and bytes &gt; 20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8800" indent="-288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pv6 and proto tcp and ( port 80 or port 44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Group 2"/>
          <p:cNvGrpSpPr/>
          <p:nvPr/>
        </p:nvGrpSpPr>
        <p:grpSpPr>
          <a:xfrm>
            <a:off x="444600" y="-12600"/>
            <a:ext cx="8708760" cy="1162080"/>
            <a:chOff x="444600" y="-12600"/>
            <a:chExt cx="8708760" cy="1162080"/>
          </a:xfrm>
        </p:grpSpPr>
        <p:pic>
          <p:nvPicPr>
            <p:cNvPr id="208" name="Picture 3" descr=""/>
            <p:cNvPicPr/>
            <p:nvPr/>
          </p:nvPicPr>
          <p:blipFill>
            <a:blip r:embed="rId1"/>
            <a:stretch/>
          </p:blipFill>
          <p:spPr>
            <a:xfrm>
              <a:off x="444600" y="-12600"/>
              <a:ext cx="8708760" cy="11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Text Box 4"/>
            <p:cNvSpPr/>
            <p:nvPr/>
          </p:nvSpPr>
          <p:spPr>
            <a:xfrm>
              <a:off x="457200" y="0"/>
              <a:ext cx="8683560" cy="11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Example filters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"/>
          <p:cNvSpPr/>
          <p:nvPr/>
        </p:nvSpPr>
        <p:spPr>
          <a:xfrm>
            <a:off x="611280" y="1371600"/>
            <a:ext cx="82278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8800" indent="-28872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fil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collection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nne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aphed toge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1" name="Group 2"/>
          <p:cNvGrpSpPr/>
          <p:nvPr/>
        </p:nvGrpSpPr>
        <p:grpSpPr>
          <a:xfrm>
            <a:off x="444600" y="-12600"/>
            <a:ext cx="8708760" cy="1162080"/>
            <a:chOff x="444600" y="-12600"/>
            <a:chExt cx="8708760" cy="1162080"/>
          </a:xfrm>
        </p:grpSpPr>
        <p:pic>
          <p:nvPicPr>
            <p:cNvPr id="212" name="Picture 3" descr=""/>
            <p:cNvPicPr/>
            <p:nvPr/>
          </p:nvPicPr>
          <p:blipFill>
            <a:blip r:embed="rId1"/>
            <a:stretch/>
          </p:blipFill>
          <p:spPr>
            <a:xfrm>
              <a:off x="444600" y="-12600"/>
              <a:ext cx="8708760" cy="11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Text Box 4"/>
            <p:cNvSpPr/>
            <p:nvPr/>
          </p:nvSpPr>
          <p:spPr>
            <a:xfrm>
              <a:off x="457200" y="0"/>
              <a:ext cx="8683560" cy="11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Profiles and Channels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14" name="Picture 3" descr=""/>
          <p:cNvPicPr/>
          <p:nvPr/>
        </p:nvPicPr>
        <p:blipFill>
          <a:blip r:embed="rId2"/>
          <a:stretch/>
        </p:blipFill>
        <p:spPr>
          <a:xfrm>
            <a:off x="808200" y="2819520"/>
            <a:ext cx="7981920" cy="32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1"/>
          <p:cNvSpPr/>
          <p:nvPr/>
        </p:nvSpPr>
        <p:spPr>
          <a:xfrm>
            <a:off x="611280" y="1371600"/>
            <a:ext cx="82278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8800" indent="-288720">
              <a:spcBef>
                <a:spcPts val="799"/>
              </a:spcBef>
              <a:tabLst>
                <a:tab algn="l" pos="0"/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lerts P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29052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create alerts based on set thresholds eg, increase or decrease of traff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29052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ils can be sent once alarm is trigge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8800" indent="-288720">
              <a:spcBef>
                <a:spcPts val="799"/>
              </a:spcBef>
              <a:tabLst>
                <a:tab algn="l" pos="0"/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ats p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29052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create graphs based on specific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68560" indent="-254160"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N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68560" indent="-254160"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/Destination IPs/Po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68560" indent="-254160"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/Out interfa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68560" indent="-254160"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ng 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6" name="Group 2"/>
          <p:cNvGrpSpPr/>
          <p:nvPr/>
        </p:nvGrpSpPr>
        <p:grpSpPr>
          <a:xfrm>
            <a:off x="444600" y="-12600"/>
            <a:ext cx="8708760" cy="1162080"/>
            <a:chOff x="444600" y="-12600"/>
            <a:chExt cx="8708760" cy="1162080"/>
          </a:xfrm>
        </p:grpSpPr>
        <p:pic>
          <p:nvPicPr>
            <p:cNvPr id="217" name="Picture 3" descr=""/>
            <p:cNvPicPr/>
            <p:nvPr/>
          </p:nvPicPr>
          <p:blipFill>
            <a:blip r:embed="rId1"/>
            <a:stretch/>
          </p:blipFill>
          <p:spPr>
            <a:xfrm>
              <a:off x="444600" y="-12600"/>
              <a:ext cx="8708760" cy="11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Text Box 4"/>
            <p:cNvSpPr/>
            <p:nvPr/>
          </p:nvSpPr>
          <p:spPr>
            <a:xfrm>
              <a:off x="457200" y="0"/>
              <a:ext cx="8683560" cy="11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Alerts and Stats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1"/>
          <p:cNvSpPr/>
          <p:nvPr/>
        </p:nvSpPr>
        <p:spPr>
          <a:xfrm>
            <a:off x="611280" y="1371600"/>
            <a:ext cx="852948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8800" indent="-288720">
              <a:spcBef>
                <a:spcPts val="799"/>
              </a:spcBef>
              <a:tabLst>
                <a:tab algn="l" pos="0"/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al plugins availabl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8800" indent="-288720">
              <a:spcBef>
                <a:spcPts val="799"/>
              </a:spcBef>
              <a:buClr>
                <a:srgbClr val="ffffff"/>
              </a:buClr>
              <a:buSzPct val="45000"/>
              <a:buFont typeface="Arial"/>
              <a:buChar char="•"/>
              <a:tabLst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tTracker tracks the top 10 most active  ports and displays a grap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8800" indent="-288720">
              <a:spcBef>
                <a:spcPts val="799"/>
              </a:spcBef>
              <a:buClr>
                <a:srgbClr val="ffffff"/>
              </a:buClr>
              <a:buSzPct val="45000"/>
              <a:buFont typeface="Arial"/>
              <a:buChar char="•"/>
              <a:tabLst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Fmap displays country based traffic based on a Geo-Loca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8800" indent="-288720">
              <a:spcBef>
                <a:spcPts val="799"/>
              </a:spcBef>
              <a:tabLst>
                <a:tab algn="l" pos="0"/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8800" indent="-288720">
              <a:spcBef>
                <a:spcPts val="799"/>
              </a:spcBef>
              <a:tabLst>
                <a:tab algn="l" pos="0"/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plugins available here 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sourceforge.net/projects/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nfsen-plugins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0" name="Group 2"/>
          <p:cNvGrpSpPr/>
          <p:nvPr/>
        </p:nvGrpSpPr>
        <p:grpSpPr>
          <a:xfrm>
            <a:off x="444600" y="-12600"/>
            <a:ext cx="8708760" cy="1162080"/>
            <a:chOff x="444600" y="-12600"/>
            <a:chExt cx="8708760" cy="1162080"/>
          </a:xfrm>
        </p:grpSpPr>
        <p:pic>
          <p:nvPicPr>
            <p:cNvPr id="221" name="Picture 3" descr=""/>
            <p:cNvPicPr/>
            <p:nvPr/>
          </p:nvPicPr>
          <p:blipFill>
            <a:blip r:embed="rId1"/>
            <a:stretch/>
          </p:blipFill>
          <p:spPr>
            <a:xfrm>
              <a:off x="444600" y="-12600"/>
              <a:ext cx="8708760" cy="11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Text Box 4"/>
            <p:cNvSpPr/>
            <p:nvPr/>
          </p:nvSpPr>
          <p:spPr>
            <a:xfrm>
              <a:off x="457200" y="0"/>
              <a:ext cx="8683560" cy="11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Plugins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Group 2"/>
          <p:cNvGrpSpPr/>
          <p:nvPr/>
        </p:nvGrpSpPr>
        <p:grpSpPr>
          <a:xfrm>
            <a:off x="444600" y="-12600"/>
            <a:ext cx="8708760" cy="1162080"/>
            <a:chOff x="444600" y="-12600"/>
            <a:chExt cx="8708760" cy="1162080"/>
          </a:xfrm>
        </p:grpSpPr>
        <p:pic>
          <p:nvPicPr>
            <p:cNvPr id="224" name="Picture 3" descr=""/>
            <p:cNvPicPr/>
            <p:nvPr/>
          </p:nvPicPr>
          <p:blipFill>
            <a:blip r:embed="rId1"/>
            <a:stretch/>
          </p:blipFill>
          <p:spPr>
            <a:xfrm>
              <a:off x="444600" y="-12600"/>
              <a:ext cx="8708760" cy="11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Text Box 4"/>
            <p:cNvSpPr/>
            <p:nvPr/>
          </p:nvSpPr>
          <p:spPr>
            <a:xfrm>
              <a:off x="457200" y="0"/>
              <a:ext cx="8683560" cy="11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PortTracker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26" name="Picture 5" descr="Screen Shot 2016-02-17 at 11.40.24 AM.png"/>
          <p:cNvPicPr/>
          <p:nvPr/>
        </p:nvPicPr>
        <p:blipFill>
          <a:blip r:embed="rId2"/>
          <a:stretch/>
        </p:blipFill>
        <p:spPr>
          <a:xfrm>
            <a:off x="1147680" y="1236600"/>
            <a:ext cx="7310520" cy="546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53352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4120" indent="-290520">
              <a:lnSpc>
                <a:spcPts val="3325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84120"/>
                <a:tab algn="l" pos="841320"/>
                <a:tab algn="l" pos="1298520"/>
                <a:tab algn="l" pos="1755720"/>
                <a:tab algn="l" pos="2212920"/>
                <a:tab algn="l" pos="2670120"/>
                <a:tab algn="l" pos="3127320"/>
                <a:tab algn="l" pos="3584520"/>
                <a:tab algn="l" pos="4041720"/>
                <a:tab algn="l" pos="4498920"/>
                <a:tab algn="l" pos="4956120"/>
                <a:tab algn="l" pos="5413320"/>
                <a:tab algn="l" pos="5870520"/>
                <a:tab algn="l" pos="6327720"/>
                <a:tab algn="l" pos="6784920"/>
                <a:tab algn="l" pos="7242120"/>
                <a:tab algn="l" pos="7699320"/>
                <a:tab algn="l" pos="8156520"/>
                <a:tab algn="l" pos="8613720"/>
                <a:tab algn="l" pos="9070920"/>
                <a:tab algn="l" pos="95281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nion to NfDump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4120" indent="-290520">
              <a:lnSpc>
                <a:spcPts val="3325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84120"/>
                <a:tab algn="l" pos="841320"/>
                <a:tab algn="l" pos="1298520"/>
                <a:tab algn="l" pos="1755720"/>
                <a:tab algn="l" pos="2212920"/>
                <a:tab algn="l" pos="2670120"/>
                <a:tab algn="l" pos="3127320"/>
                <a:tab algn="l" pos="3584520"/>
                <a:tab algn="l" pos="4041720"/>
                <a:tab algn="l" pos="4498920"/>
                <a:tab algn="l" pos="4956120"/>
                <a:tab algn="l" pos="5413320"/>
                <a:tab algn="l" pos="5870520"/>
                <a:tab algn="l" pos="6327720"/>
                <a:tab algn="l" pos="6784920"/>
                <a:tab algn="l" pos="7242120"/>
                <a:tab algn="l" pos="7699320"/>
                <a:tab algn="l" pos="8156520"/>
                <a:tab algn="l" pos="8613720"/>
                <a:tab algn="l" pos="9070920"/>
                <a:tab algn="l" pos="95281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fDump tools collect netflow data and store them in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4120" indent="-290520">
              <a:lnSpc>
                <a:spcPts val="3325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84120"/>
                <a:tab algn="l" pos="841320"/>
                <a:tab algn="l" pos="1298520"/>
                <a:tab algn="l" pos="1755720"/>
                <a:tab algn="l" pos="2212920"/>
                <a:tab algn="l" pos="2670120"/>
                <a:tab algn="l" pos="3127320"/>
                <a:tab algn="l" pos="3584520"/>
                <a:tab algn="l" pos="4041720"/>
                <a:tab algn="l" pos="4498920"/>
                <a:tab algn="l" pos="4956120"/>
                <a:tab algn="l" pos="5413320"/>
                <a:tab algn="l" pos="5870520"/>
                <a:tab algn="l" pos="6327720"/>
                <a:tab algn="l" pos="6784920"/>
                <a:tab algn="l" pos="7242120"/>
                <a:tab algn="l" pos="7699320"/>
                <a:tab algn="l" pos="8156520"/>
                <a:tab algn="l" pos="8613720"/>
                <a:tab algn="l" pos="9070920"/>
                <a:tab algn="l" pos="95281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ing netflow data with NfDump tools can only be done on the command 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4120" indent="-290520">
              <a:lnSpc>
                <a:spcPts val="3325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84120"/>
                <a:tab algn="l" pos="841320"/>
                <a:tab algn="l" pos="1298520"/>
                <a:tab algn="l" pos="1755720"/>
                <a:tab algn="l" pos="2212920"/>
                <a:tab algn="l" pos="2670120"/>
                <a:tab algn="l" pos="3127320"/>
                <a:tab algn="l" pos="3584520"/>
                <a:tab algn="l" pos="4041720"/>
                <a:tab algn="l" pos="4498920"/>
                <a:tab algn="l" pos="4956120"/>
                <a:tab algn="l" pos="5413320"/>
                <a:tab algn="l" pos="5870520"/>
                <a:tab algn="l" pos="6327720"/>
                <a:tab algn="l" pos="6784920"/>
                <a:tab algn="l" pos="7242120"/>
                <a:tab algn="l" pos="7699320"/>
                <a:tab algn="l" pos="8156520"/>
                <a:tab algn="l" pos="8613720"/>
                <a:tab algn="l" pos="9070920"/>
                <a:tab algn="l" pos="95281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fSen is a graphical (Web Based) front end to NfDum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4120" indent="-290520">
              <a:lnSpc>
                <a:spcPts val="3325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84120"/>
                <a:tab algn="l" pos="841320"/>
                <a:tab algn="l" pos="1298520"/>
                <a:tab algn="l" pos="1755720"/>
                <a:tab algn="l" pos="2212920"/>
                <a:tab algn="l" pos="2670120"/>
                <a:tab algn="l" pos="3127320"/>
                <a:tab algn="l" pos="3584520"/>
                <a:tab algn="l" pos="4041720"/>
                <a:tab algn="l" pos="4498920"/>
                <a:tab algn="l" pos="4956120"/>
                <a:tab algn="l" pos="5413320"/>
                <a:tab algn="l" pos="5870520"/>
                <a:tab algn="l" pos="6327720"/>
                <a:tab algn="l" pos="6784920"/>
                <a:tab algn="l" pos="7242120"/>
                <a:tab algn="l" pos="7699320"/>
                <a:tab algn="l" pos="8156520"/>
                <a:tab algn="l" pos="8613720"/>
                <a:tab algn="l" pos="9070920"/>
                <a:tab algn="l" pos="95281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s RRD graphs based on stored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4120" indent="-290520">
              <a:lnSpc>
                <a:spcPts val="3325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84120"/>
                <a:tab algn="l" pos="841320"/>
                <a:tab algn="l" pos="1298520"/>
                <a:tab algn="l" pos="1755720"/>
                <a:tab algn="l" pos="2212920"/>
                <a:tab algn="l" pos="2670120"/>
                <a:tab algn="l" pos="3127320"/>
                <a:tab algn="l" pos="3584520"/>
                <a:tab algn="l" pos="4041720"/>
                <a:tab algn="l" pos="4498920"/>
                <a:tab algn="l" pos="4956120"/>
                <a:tab algn="l" pos="5413320"/>
                <a:tab algn="l" pos="5870520"/>
                <a:tab algn="l" pos="6327720"/>
                <a:tab algn="l" pos="6784920"/>
                <a:tab algn="l" pos="7242120"/>
                <a:tab algn="l" pos="7699320"/>
                <a:tab algn="l" pos="8156520"/>
                <a:tab algn="l" pos="8613720"/>
                <a:tab algn="l" pos="9070920"/>
                <a:tab algn="l" pos="95281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ugins extend the functionality of base (e.g. PortTracker and SURFma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457200" y="64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9" name="Group 3"/>
          <p:cNvGrpSpPr/>
          <p:nvPr/>
        </p:nvGrpSpPr>
        <p:grpSpPr>
          <a:xfrm>
            <a:off x="444600" y="-12600"/>
            <a:ext cx="8708760" cy="1162080"/>
            <a:chOff x="444600" y="-12600"/>
            <a:chExt cx="8708760" cy="1162080"/>
          </a:xfrm>
        </p:grpSpPr>
        <p:pic>
          <p:nvPicPr>
            <p:cNvPr id="140" name="Picture 4" descr=""/>
            <p:cNvPicPr/>
            <p:nvPr/>
          </p:nvPicPr>
          <p:blipFill>
            <a:blip r:embed="rId1"/>
            <a:stretch/>
          </p:blipFill>
          <p:spPr>
            <a:xfrm>
              <a:off x="444600" y="-12600"/>
              <a:ext cx="8708760" cy="11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5"/>
            <p:cNvSpPr/>
            <p:nvPr/>
          </p:nvSpPr>
          <p:spPr>
            <a:xfrm>
              <a:off x="457200" y="0"/>
              <a:ext cx="8683560" cy="11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What is NfSen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2"/>
          <p:cNvGrpSpPr/>
          <p:nvPr/>
        </p:nvGrpSpPr>
        <p:grpSpPr>
          <a:xfrm>
            <a:off x="444600" y="-12600"/>
            <a:ext cx="8708760" cy="1162080"/>
            <a:chOff x="444600" y="-12600"/>
            <a:chExt cx="8708760" cy="1162080"/>
          </a:xfrm>
        </p:grpSpPr>
        <p:pic>
          <p:nvPicPr>
            <p:cNvPr id="228" name="Picture 3" descr=""/>
            <p:cNvPicPr/>
            <p:nvPr/>
          </p:nvPicPr>
          <p:blipFill>
            <a:blip r:embed="rId1"/>
            <a:stretch/>
          </p:blipFill>
          <p:spPr>
            <a:xfrm>
              <a:off x="444600" y="-12600"/>
              <a:ext cx="8708760" cy="11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Text Box 4"/>
            <p:cNvSpPr/>
            <p:nvPr/>
          </p:nvSpPr>
          <p:spPr>
            <a:xfrm>
              <a:off x="457200" y="0"/>
              <a:ext cx="8683560" cy="11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SURFMap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30" name="Picture 5" descr="surfmap.png"/>
          <p:cNvPicPr/>
          <p:nvPr/>
        </p:nvPicPr>
        <p:blipFill>
          <a:blip r:embed="rId2"/>
          <a:stretch/>
        </p:blipFill>
        <p:spPr>
          <a:xfrm>
            <a:off x="609480" y="1220760"/>
            <a:ext cx="8229600" cy="5560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1"/>
          <p:cNvSpPr/>
          <p:nvPr/>
        </p:nvSpPr>
        <p:spPr>
          <a:xfrm>
            <a:off x="609480" y="1219320"/>
            <a:ext cx="82281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4120" indent="-29052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384120"/>
                <a:tab algn="l" pos="841320"/>
                <a:tab algn="l" pos="1298520"/>
                <a:tab algn="l" pos="1755720"/>
                <a:tab algn="l" pos="2212920"/>
                <a:tab algn="l" pos="2670120"/>
                <a:tab algn="l" pos="3127320"/>
                <a:tab algn="l" pos="3584520"/>
                <a:tab algn="l" pos="4041720"/>
                <a:tab algn="l" pos="4498920"/>
                <a:tab algn="l" pos="4956120"/>
                <a:tab algn="l" pos="5413320"/>
                <a:tab algn="l" pos="5870520"/>
                <a:tab algn="l" pos="6327720"/>
                <a:tab algn="l" pos="6784920"/>
                <a:tab algn="l" pos="7242120"/>
                <a:tab algn="l" pos="7699320"/>
                <a:tab algn="l" pos="8156520"/>
                <a:tab algn="l" pos="8613720"/>
                <a:tab algn="l" pos="9070920"/>
                <a:tab algn="l" pos="9528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used fo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27160" indent="-290520">
              <a:spcBef>
                <a:spcPts val="799"/>
              </a:spcBef>
              <a:buClr>
                <a:srgbClr val="000000"/>
              </a:buClr>
              <a:buSzPct val="60000"/>
              <a:buFont typeface="Lucida Grande"/>
              <a:buChar char="-"/>
              <a:tabLst>
                <a:tab algn="l" pos="384120"/>
                <a:tab algn="l" pos="841320"/>
                <a:tab algn="l" pos="1298520"/>
                <a:tab algn="l" pos="1755720"/>
                <a:tab algn="l" pos="2212920"/>
                <a:tab algn="l" pos="2670120"/>
                <a:tab algn="l" pos="3127320"/>
                <a:tab algn="l" pos="3584520"/>
                <a:tab algn="l" pos="4041720"/>
                <a:tab algn="l" pos="4498920"/>
                <a:tab algn="l" pos="4956120"/>
                <a:tab algn="l" pos="5413320"/>
                <a:tab algn="l" pos="5870520"/>
                <a:tab algn="l" pos="6327720"/>
                <a:tab algn="l" pos="6784920"/>
                <a:tab algn="l" pos="7242120"/>
                <a:tab algn="l" pos="7699320"/>
                <a:tab algn="l" pos="8156520"/>
                <a:tab algn="l" pos="8613720"/>
                <a:tab algn="l" pos="9070920"/>
                <a:tab algn="l" pos="952812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rensic work: which hosts were active at a specific tim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1127160" indent="-290520">
              <a:spcBef>
                <a:spcPts val="799"/>
              </a:spcBef>
              <a:buClr>
                <a:srgbClr val="000000"/>
              </a:buClr>
              <a:buSzPct val="60000"/>
              <a:buFont typeface="Lucida Grande"/>
              <a:buChar char="-"/>
              <a:tabLst>
                <a:tab algn="l" pos="384120"/>
                <a:tab algn="l" pos="841320"/>
                <a:tab algn="l" pos="1298520"/>
                <a:tab algn="l" pos="1755720"/>
                <a:tab algn="l" pos="2212920"/>
                <a:tab algn="l" pos="2670120"/>
                <a:tab algn="l" pos="3127320"/>
                <a:tab algn="l" pos="3584520"/>
                <a:tab algn="l" pos="4041720"/>
                <a:tab algn="l" pos="4498920"/>
                <a:tab algn="l" pos="4956120"/>
                <a:tab algn="l" pos="5413320"/>
                <a:tab algn="l" pos="5870520"/>
                <a:tab algn="l" pos="6327720"/>
                <a:tab algn="l" pos="6784920"/>
                <a:tab algn="l" pos="7242120"/>
                <a:tab algn="l" pos="7699320"/>
                <a:tab algn="l" pos="8156520"/>
                <a:tab algn="l" pos="8613720"/>
                <a:tab algn="l" pos="9070920"/>
                <a:tab algn="l" pos="952812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iewing src/dst AS traffic, src/dst port/IP traffic among many other option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1127160" indent="-290520">
              <a:spcBef>
                <a:spcPts val="799"/>
              </a:spcBef>
              <a:buClr>
                <a:srgbClr val="000000"/>
              </a:buClr>
              <a:buSzPct val="60000"/>
              <a:buFont typeface="Lucida Grande"/>
              <a:buChar char="-"/>
              <a:tabLst>
                <a:tab algn="l" pos="384120"/>
                <a:tab algn="l" pos="841320"/>
                <a:tab algn="l" pos="1298520"/>
                <a:tab algn="l" pos="1755720"/>
                <a:tab algn="l" pos="2212920"/>
                <a:tab algn="l" pos="2670120"/>
                <a:tab algn="l" pos="3127320"/>
                <a:tab algn="l" pos="3584520"/>
                <a:tab algn="l" pos="4041720"/>
                <a:tab algn="l" pos="4498920"/>
                <a:tab algn="l" pos="4956120"/>
                <a:tab algn="l" pos="5413320"/>
                <a:tab algn="l" pos="5870520"/>
                <a:tab algn="l" pos="6327720"/>
                <a:tab algn="l" pos="6784920"/>
                <a:tab algn="l" pos="7242120"/>
                <a:tab algn="l" pos="7699320"/>
                <a:tab algn="l" pos="8156520"/>
                <a:tab algn="l" pos="8613720"/>
                <a:tab algn="l" pos="9070920"/>
                <a:tab algn="l" pos="952812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dentifying most active IPs or Protocol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84120" indent="-29052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384120"/>
                <a:tab algn="l" pos="841320"/>
                <a:tab algn="l" pos="1298520"/>
                <a:tab algn="l" pos="1755720"/>
                <a:tab algn="l" pos="2212920"/>
                <a:tab algn="l" pos="2670120"/>
                <a:tab algn="l" pos="3127320"/>
                <a:tab algn="l" pos="3584520"/>
                <a:tab algn="l" pos="4041720"/>
                <a:tab algn="l" pos="4498920"/>
                <a:tab algn="l" pos="4956120"/>
                <a:tab algn="l" pos="5413320"/>
                <a:tab algn="l" pos="5870520"/>
                <a:tab algn="l" pos="6327720"/>
                <a:tab algn="l" pos="6784920"/>
                <a:tab algn="l" pos="7242120"/>
                <a:tab algn="l" pos="7699320"/>
                <a:tab algn="l" pos="8156520"/>
                <a:tab algn="l" pos="8613720"/>
                <a:tab algn="l" pos="9070920"/>
                <a:tab algn="l" pos="9528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 tool to complement your NMS so that you can have more detailed info regarding the traff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4120" indent="-29052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384120"/>
                <a:tab algn="l" pos="841320"/>
                <a:tab algn="l" pos="1298520"/>
                <a:tab algn="l" pos="1755720"/>
                <a:tab algn="l" pos="2212920"/>
                <a:tab algn="l" pos="2670120"/>
                <a:tab algn="l" pos="3127320"/>
                <a:tab algn="l" pos="3584520"/>
                <a:tab algn="l" pos="4041720"/>
                <a:tab algn="l" pos="4498920"/>
                <a:tab algn="l" pos="4956120"/>
                <a:tab algn="l" pos="5413320"/>
                <a:tab algn="l" pos="5870520"/>
                <a:tab algn="l" pos="6327720"/>
                <a:tab algn="l" pos="6784920"/>
                <a:tab algn="l" pos="7242120"/>
                <a:tab algn="l" pos="7699320"/>
                <a:tab algn="l" pos="8156520"/>
                <a:tab algn="l" pos="8613720"/>
                <a:tab algn="l" pos="9070920"/>
                <a:tab algn="l" pos="9528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his information, you can make an informed decision e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27160" indent="-290520">
              <a:spcBef>
                <a:spcPts val="799"/>
              </a:spcBef>
              <a:buClr>
                <a:srgbClr val="000000"/>
              </a:buClr>
              <a:buSzPct val="60000"/>
              <a:buFont typeface="Lucida Grande"/>
              <a:buChar char="-"/>
              <a:tabLst>
                <a:tab algn="l" pos="384120"/>
                <a:tab algn="l" pos="841320"/>
                <a:tab algn="l" pos="1298520"/>
                <a:tab algn="l" pos="1755720"/>
                <a:tab algn="l" pos="2212920"/>
                <a:tab algn="l" pos="2670120"/>
                <a:tab algn="l" pos="3127320"/>
                <a:tab algn="l" pos="3584520"/>
                <a:tab algn="l" pos="4041720"/>
                <a:tab algn="l" pos="4498920"/>
                <a:tab algn="l" pos="4956120"/>
                <a:tab algn="l" pos="5413320"/>
                <a:tab algn="l" pos="5870520"/>
                <a:tab algn="l" pos="6327720"/>
                <a:tab algn="l" pos="6784920"/>
                <a:tab algn="l" pos="7242120"/>
                <a:tab algn="l" pos="7699320"/>
                <a:tab algn="l" pos="8156520"/>
                <a:tab algn="l" pos="8613720"/>
                <a:tab algn="l" pos="9070920"/>
                <a:tab algn="l" pos="952812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You have a high amount of SMTP traffic, some machines could be sending out spam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1127160" indent="-290520">
              <a:spcBef>
                <a:spcPts val="799"/>
              </a:spcBef>
              <a:buClr>
                <a:srgbClr val="000000"/>
              </a:buClr>
              <a:buSzPct val="60000"/>
              <a:buFont typeface="Lucida Grande"/>
              <a:buChar char="-"/>
              <a:tabLst>
                <a:tab algn="l" pos="384120"/>
                <a:tab algn="l" pos="841320"/>
                <a:tab algn="l" pos="1298520"/>
                <a:tab algn="l" pos="1755720"/>
                <a:tab algn="l" pos="2212920"/>
                <a:tab algn="l" pos="2670120"/>
                <a:tab algn="l" pos="3127320"/>
                <a:tab algn="l" pos="3584520"/>
                <a:tab algn="l" pos="4041720"/>
                <a:tab algn="l" pos="4498920"/>
                <a:tab algn="l" pos="4956120"/>
                <a:tab algn="l" pos="5413320"/>
                <a:tab algn="l" pos="5870520"/>
                <a:tab algn="l" pos="6327720"/>
                <a:tab algn="l" pos="6784920"/>
                <a:tab algn="l" pos="7242120"/>
                <a:tab algn="l" pos="7699320"/>
                <a:tab algn="l" pos="8156520"/>
                <a:tab algn="l" pos="8613720"/>
                <a:tab algn="l" pos="9070920"/>
                <a:tab algn="l" pos="952812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80% of your traffic is to ASN X. Perhaps its wise to connect directly with that network and save cost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2" name="Group 2"/>
          <p:cNvGrpSpPr/>
          <p:nvPr/>
        </p:nvGrpSpPr>
        <p:grpSpPr>
          <a:xfrm>
            <a:off x="444600" y="-12600"/>
            <a:ext cx="8708760" cy="1162080"/>
            <a:chOff x="444600" y="-12600"/>
            <a:chExt cx="8708760" cy="1162080"/>
          </a:xfrm>
        </p:grpSpPr>
        <p:pic>
          <p:nvPicPr>
            <p:cNvPr id="233" name="Picture 3" descr=""/>
            <p:cNvPicPr/>
            <p:nvPr/>
          </p:nvPicPr>
          <p:blipFill>
            <a:blip r:embed="rId1"/>
            <a:stretch/>
          </p:blipFill>
          <p:spPr>
            <a:xfrm>
              <a:off x="444600" y="-12600"/>
              <a:ext cx="8708760" cy="11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Text Box 4"/>
            <p:cNvSpPr/>
            <p:nvPr/>
          </p:nvSpPr>
          <p:spPr>
            <a:xfrm>
              <a:off x="457200" y="0"/>
              <a:ext cx="8683560" cy="11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When to use NfSen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1"/>
          <p:cNvSpPr/>
          <p:nvPr/>
        </p:nvSpPr>
        <p:spPr>
          <a:xfrm>
            <a:off x="533520" y="914400"/>
            <a:ext cx="8227800" cy="44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560" bIns="0" anchor="ctr">
            <a:normAutofit/>
          </a:bodyPr>
          <a:p>
            <a:pPr marL="343080" indent="-304920" algn="ctr"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directional vs Unidirectional traffic as seen via NfS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1"/>
          <p:cNvSpPr/>
          <p:nvPr/>
        </p:nvSpPr>
        <p:spPr>
          <a:xfrm>
            <a:off x="457200" y="1604880"/>
            <a:ext cx="8381880" cy="50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4120" indent="-29052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4120"/>
                <a:tab algn="l" pos="841320"/>
                <a:tab algn="l" pos="1298520"/>
                <a:tab algn="l" pos="1755720"/>
                <a:tab algn="l" pos="2212920"/>
                <a:tab algn="l" pos="2670120"/>
                <a:tab algn="l" pos="3127320"/>
                <a:tab algn="l" pos="3584520"/>
                <a:tab algn="l" pos="4041720"/>
                <a:tab algn="l" pos="4498920"/>
                <a:tab algn="l" pos="4956120"/>
                <a:tab algn="l" pos="5413320"/>
                <a:tab algn="l" pos="5870520"/>
                <a:tab algn="l" pos="6327720"/>
                <a:tab algn="l" pos="6784920"/>
                <a:tab algn="l" pos="7242120"/>
                <a:tab algn="l" pos="7699320"/>
                <a:tab algn="l" pos="8156520"/>
                <a:tab algn="l" pos="8613720"/>
                <a:tab algn="l" pos="9070920"/>
                <a:tab algn="l" pos="95281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directional shows flows from host A to B and then host B to host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4120" indent="-29052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4120"/>
                <a:tab algn="l" pos="841320"/>
                <a:tab algn="l" pos="1298520"/>
                <a:tab algn="l" pos="1755720"/>
                <a:tab algn="l" pos="2212920"/>
                <a:tab algn="l" pos="2670120"/>
                <a:tab algn="l" pos="3127320"/>
                <a:tab algn="l" pos="3584520"/>
                <a:tab algn="l" pos="4041720"/>
                <a:tab algn="l" pos="4498920"/>
                <a:tab algn="l" pos="4956120"/>
                <a:tab algn="l" pos="5413320"/>
                <a:tab algn="l" pos="5870520"/>
                <a:tab algn="l" pos="6327720"/>
                <a:tab algn="l" pos="6784920"/>
                <a:tab algn="l" pos="7242120"/>
                <a:tab algn="l" pos="7699320"/>
                <a:tab algn="l" pos="8156520"/>
                <a:tab algn="l" pos="8613720"/>
                <a:tab algn="l" pos="9070920"/>
                <a:tab algn="l" pos="95281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directional shows flows between Host A and B combi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4120" indent="-29052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4120"/>
                <a:tab algn="l" pos="841320"/>
                <a:tab algn="l" pos="1298520"/>
                <a:tab algn="l" pos="1755720"/>
                <a:tab algn="l" pos="2212920"/>
                <a:tab algn="l" pos="2670120"/>
                <a:tab algn="l" pos="3127320"/>
                <a:tab algn="l" pos="3584520"/>
                <a:tab algn="l" pos="4041720"/>
                <a:tab algn="l" pos="4498920"/>
                <a:tab algn="l" pos="4956120"/>
                <a:tab algn="l" pos="5413320"/>
                <a:tab algn="l" pos="5870520"/>
                <a:tab algn="l" pos="6327720"/>
                <a:tab algn="l" pos="6784920"/>
                <a:tab algn="l" pos="7242120"/>
                <a:tab algn="l" pos="7699320"/>
                <a:tab algn="l" pos="8156520"/>
                <a:tab algn="l" pos="8613720"/>
                <a:tab algn="l" pos="9070920"/>
                <a:tab algn="l" pos="95281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used with any of the other filters (src port, src host plus many mor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4120" indent="-29052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4120"/>
                <a:tab algn="l" pos="841320"/>
                <a:tab algn="l" pos="1298520"/>
                <a:tab algn="l" pos="1755720"/>
                <a:tab algn="l" pos="2212920"/>
                <a:tab algn="l" pos="2670120"/>
                <a:tab algn="l" pos="3127320"/>
                <a:tab algn="l" pos="3584520"/>
                <a:tab algn="l" pos="4041720"/>
                <a:tab algn="l" pos="4498920"/>
                <a:tab algn="l" pos="4956120"/>
                <a:tab algn="l" pos="5413320"/>
                <a:tab algn="l" pos="5870520"/>
                <a:tab algn="l" pos="6327720"/>
                <a:tab algn="l" pos="6784920"/>
                <a:tab algn="l" pos="7242120"/>
                <a:tab algn="l" pos="7699320"/>
                <a:tab algn="l" pos="8156520"/>
                <a:tab algn="l" pos="8613720"/>
                <a:tab algn="l" pos="9070920"/>
                <a:tab algn="l" pos="95281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of filters can be found he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290520">
              <a:spcBef>
                <a:spcPts val="700"/>
              </a:spcBef>
              <a:buClr>
                <a:srgbClr val="000000"/>
              </a:buClr>
              <a:buSzPct val="60000"/>
              <a:buFont typeface="Lucida Grande"/>
              <a:buChar char="-"/>
              <a:tabLst>
                <a:tab algn="l" pos="384120"/>
                <a:tab algn="l" pos="841320"/>
                <a:tab algn="l" pos="1298520"/>
                <a:tab algn="l" pos="1755720"/>
                <a:tab algn="l" pos="2212920"/>
                <a:tab algn="l" pos="2670120"/>
                <a:tab algn="l" pos="3127320"/>
                <a:tab algn="l" pos="3584520"/>
                <a:tab algn="l" pos="4041720"/>
                <a:tab algn="l" pos="4498920"/>
                <a:tab algn="l" pos="4956120"/>
                <a:tab algn="l" pos="5413320"/>
                <a:tab algn="l" pos="5870520"/>
                <a:tab algn="l" pos="6327720"/>
                <a:tab algn="l" pos="6784920"/>
                <a:tab algn="l" pos="7242120"/>
                <a:tab algn="l" pos="7699320"/>
                <a:tab algn="l" pos="8156520"/>
                <a:tab algn="l" pos="8613720"/>
                <a:tab algn="l" pos="9070920"/>
                <a:tab algn="l" pos="95281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ttp://nfsen.sourceforge.net/#mozTocId652064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7" name="Group 2"/>
          <p:cNvGrpSpPr/>
          <p:nvPr/>
        </p:nvGrpSpPr>
        <p:grpSpPr>
          <a:xfrm>
            <a:off x="444600" y="-12600"/>
            <a:ext cx="8708760" cy="1162080"/>
            <a:chOff x="444600" y="-12600"/>
            <a:chExt cx="8708760" cy="1162080"/>
          </a:xfrm>
        </p:grpSpPr>
        <p:pic>
          <p:nvPicPr>
            <p:cNvPr id="238" name="Picture 3" descr=""/>
            <p:cNvPicPr/>
            <p:nvPr/>
          </p:nvPicPr>
          <p:blipFill>
            <a:blip r:embed="rId1"/>
            <a:stretch/>
          </p:blipFill>
          <p:spPr>
            <a:xfrm>
              <a:off x="444600" y="-12600"/>
              <a:ext cx="8708760" cy="11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Text Box 4"/>
            <p:cNvSpPr/>
            <p:nvPr/>
          </p:nvSpPr>
          <p:spPr>
            <a:xfrm>
              <a:off x="457200" y="0"/>
              <a:ext cx="8683560" cy="11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Unidirectional and Bidirectional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2"/>
          <p:cNvGrpSpPr/>
          <p:nvPr/>
        </p:nvGrpSpPr>
        <p:grpSpPr>
          <a:xfrm>
            <a:off x="444600" y="-12600"/>
            <a:ext cx="8708760" cy="1162080"/>
            <a:chOff x="444600" y="-12600"/>
            <a:chExt cx="8708760" cy="1162080"/>
          </a:xfrm>
        </p:grpSpPr>
        <p:pic>
          <p:nvPicPr>
            <p:cNvPr id="241" name="Picture 3" descr=""/>
            <p:cNvPicPr/>
            <p:nvPr/>
          </p:nvPicPr>
          <p:blipFill>
            <a:blip r:embed="rId1"/>
            <a:stretch/>
          </p:blipFill>
          <p:spPr>
            <a:xfrm>
              <a:off x="444600" y="-12600"/>
              <a:ext cx="8708760" cy="11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Text Box 4"/>
            <p:cNvSpPr/>
            <p:nvPr/>
          </p:nvSpPr>
          <p:spPr>
            <a:xfrm>
              <a:off x="457200" y="0"/>
              <a:ext cx="8683560" cy="11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Bidirectional (</a:t>
              </a:r>
              <a:r>
                <a:rPr b="1" i="1" lang="en-US" sz="4000" spc="-1" strike="noStrike">
                  <a:solidFill>
                    <a:srgbClr val="000000"/>
                  </a:solidFill>
                  <a:latin typeface="Arial"/>
                </a:rPr>
                <a:t>Detail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s tab)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3" name="TextBox 3"/>
          <p:cNvSpPr/>
          <p:nvPr/>
        </p:nvSpPr>
        <p:spPr>
          <a:xfrm>
            <a:off x="588960" y="1295280"/>
            <a:ext cx="82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need to select either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nge Timeslo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ime Window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5" descr="netflow-bidirectional.png"/>
          <p:cNvPicPr/>
          <p:nvPr/>
        </p:nvPicPr>
        <p:blipFill>
          <a:blip r:embed="rId2"/>
          <a:stretch/>
        </p:blipFill>
        <p:spPr>
          <a:xfrm>
            <a:off x="496800" y="2209680"/>
            <a:ext cx="8647200" cy="353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2"/>
          <p:cNvGrpSpPr/>
          <p:nvPr/>
        </p:nvGrpSpPr>
        <p:grpSpPr>
          <a:xfrm>
            <a:off x="444600" y="-12600"/>
            <a:ext cx="8708760" cy="1162080"/>
            <a:chOff x="444600" y="-12600"/>
            <a:chExt cx="8708760" cy="1162080"/>
          </a:xfrm>
        </p:grpSpPr>
        <p:pic>
          <p:nvPicPr>
            <p:cNvPr id="246" name="Picture 3" descr=""/>
            <p:cNvPicPr/>
            <p:nvPr/>
          </p:nvPicPr>
          <p:blipFill>
            <a:blip r:embed="rId1"/>
            <a:stretch/>
          </p:blipFill>
          <p:spPr>
            <a:xfrm>
              <a:off x="444600" y="-12600"/>
              <a:ext cx="8708760" cy="11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 Box 4"/>
            <p:cNvSpPr/>
            <p:nvPr/>
          </p:nvSpPr>
          <p:spPr>
            <a:xfrm>
              <a:off x="457200" y="0"/>
              <a:ext cx="8683560" cy="11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Unidirectional (</a:t>
              </a:r>
              <a:r>
                <a:rPr b="1" i="1" lang="en-US" sz="4000" spc="-1" strike="noStrike">
                  <a:solidFill>
                    <a:srgbClr val="000000"/>
                  </a:solidFill>
                  <a:latin typeface="Arial"/>
                </a:rPr>
                <a:t>Detail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s tab)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48" name="Picture 1" descr="netflow-unidirectional.png"/>
          <p:cNvPicPr/>
          <p:nvPr/>
        </p:nvPicPr>
        <p:blipFill>
          <a:blip r:embed="rId2"/>
          <a:stretch/>
        </p:blipFill>
        <p:spPr>
          <a:xfrm>
            <a:off x="493560" y="1805040"/>
            <a:ext cx="8650440" cy="467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1"/>
          <p:cNvSpPr/>
          <p:nvPr/>
        </p:nvSpPr>
        <p:spPr>
          <a:xfrm>
            <a:off x="533520" y="1646280"/>
            <a:ext cx="8227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8800" indent="-288720">
              <a:spcBef>
                <a:spcPts val="799"/>
              </a:spcBef>
              <a:tabLst>
                <a:tab algn="l" pos="0"/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fS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287640">
              <a:spcBef>
                <a:spcPts val="700"/>
              </a:spcBef>
              <a:tabLst>
                <a:tab algn="l" pos="0"/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ttp://nfsen.sourceforge.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8800" indent="-288720">
              <a:spcBef>
                <a:spcPts val="799"/>
              </a:spcBef>
              <a:tabLst>
                <a:tab algn="l" pos="0"/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fDum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287640">
              <a:spcBef>
                <a:spcPts val="700"/>
              </a:spcBef>
              <a:tabLst>
                <a:tab algn="l" pos="0"/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ttp://nfdump.sourceforge.net/</a:t>
            </a:r>
            <a:br>
              <a:rPr sz="2800"/>
            </a:b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is is a good read to better understand NfSen, NfDump and nfcap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0" name="Group 2"/>
          <p:cNvGrpSpPr/>
          <p:nvPr/>
        </p:nvGrpSpPr>
        <p:grpSpPr>
          <a:xfrm>
            <a:off x="444600" y="-12600"/>
            <a:ext cx="8708760" cy="1162080"/>
            <a:chOff x="444600" y="-12600"/>
            <a:chExt cx="8708760" cy="1162080"/>
          </a:xfrm>
        </p:grpSpPr>
        <p:pic>
          <p:nvPicPr>
            <p:cNvPr id="251" name="Picture 3" descr=""/>
            <p:cNvPicPr/>
            <p:nvPr/>
          </p:nvPicPr>
          <p:blipFill>
            <a:blip r:embed="rId1"/>
            <a:stretch/>
          </p:blipFill>
          <p:spPr>
            <a:xfrm>
              <a:off x="444600" y="-12600"/>
              <a:ext cx="8708760" cy="11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Text Box 4"/>
            <p:cNvSpPr/>
            <p:nvPr/>
          </p:nvSpPr>
          <p:spPr>
            <a:xfrm>
              <a:off x="457200" y="0"/>
              <a:ext cx="8683560" cy="11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References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2"/>
          <p:cNvGrpSpPr/>
          <p:nvPr/>
        </p:nvGrpSpPr>
        <p:grpSpPr>
          <a:xfrm>
            <a:off x="457200" y="2057400"/>
            <a:ext cx="8708760" cy="1162080"/>
            <a:chOff x="457200" y="2057400"/>
            <a:chExt cx="8708760" cy="1162080"/>
          </a:xfrm>
        </p:grpSpPr>
        <p:pic>
          <p:nvPicPr>
            <p:cNvPr id="254" name="Picture 3" descr=""/>
            <p:cNvPicPr/>
            <p:nvPr/>
          </p:nvPicPr>
          <p:blipFill>
            <a:blip r:embed="rId1"/>
            <a:stretch/>
          </p:blipFill>
          <p:spPr>
            <a:xfrm>
              <a:off x="457200" y="2057400"/>
              <a:ext cx="8708760" cy="11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Text Box 4"/>
            <p:cNvSpPr/>
            <p:nvPr/>
          </p:nvSpPr>
          <p:spPr>
            <a:xfrm>
              <a:off x="469800" y="2070000"/>
              <a:ext cx="8683560" cy="11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Exercises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"/>
          <p:cNvSpPr/>
          <p:nvPr/>
        </p:nvSpPr>
        <p:spPr>
          <a:xfrm>
            <a:off x="53352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4120" indent="-290520">
              <a:lnSpc>
                <a:spcPts val="3325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84120"/>
                <a:tab algn="l" pos="841320"/>
                <a:tab algn="l" pos="1298520"/>
                <a:tab algn="l" pos="1755720"/>
                <a:tab algn="l" pos="2212920"/>
                <a:tab algn="l" pos="2670120"/>
                <a:tab algn="l" pos="3127320"/>
                <a:tab algn="l" pos="3584520"/>
                <a:tab algn="l" pos="4041720"/>
                <a:tab algn="l" pos="4498920"/>
                <a:tab algn="l" pos="4956120"/>
                <a:tab algn="l" pos="5413320"/>
                <a:tab algn="l" pos="5870520"/>
                <a:tab algn="l" pos="6327720"/>
                <a:tab algn="l" pos="6784920"/>
                <a:tab algn="l" pos="7242120"/>
                <a:tab algn="l" pos="7699320"/>
                <a:tab algn="l" pos="8156520"/>
                <a:tab algn="l" pos="8613720"/>
                <a:tab algn="l" pos="9070920"/>
                <a:tab algn="l" pos="95281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fSen allows you 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290520">
              <a:lnSpc>
                <a:spcPts val="3325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-"/>
              <a:tabLst>
                <a:tab algn="l" pos="384120"/>
                <a:tab algn="l" pos="841320"/>
                <a:tab algn="l" pos="1298520"/>
                <a:tab algn="l" pos="1755720"/>
                <a:tab algn="l" pos="2212920"/>
                <a:tab algn="l" pos="2670120"/>
                <a:tab algn="l" pos="3127320"/>
                <a:tab algn="l" pos="3584520"/>
                <a:tab algn="l" pos="4041720"/>
                <a:tab algn="l" pos="4498920"/>
                <a:tab algn="l" pos="4956120"/>
                <a:tab algn="l" pos="5413320"/>
                <a:tab algn="l" pos="5870520"/>
                <a:tab algn="l" pos="6327720"/>
                <a:tab algn="l" pos="6784920"/>
                <a:tab algn="l" pos="7242120"/>
                <a:tab algn="l" pos="7699320"/>
                <a:tab algn="l" pos="8156520"/>
                <a:tab algn="l" pos="8613720"/>
                <a:tab algn="l" pos="9070920"/>
                <a:tab algn="l" pos="9528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ly navigate through the netflow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290520">
              <a:lnSpc>
                <a:spcPts val="3325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-"/>
              <a:tabLst>
                <a:tab algn="l" pos="384120"/>
                <a:tab algn="l" pos="841320"/>
                <a:tab algn="l" pos="1298520"/>
                <a:tab algn="l" pos="1755720"/>
                <a:tab algn="l" pos="2212920"/>
                <a:tab algn="l" pos="2670120"/>
                <a:tab algn="l" pos="3127320"/>
                <a:tab algn="l" pos="3584520"/>
                <a:tab algn="l" pos="4041720"/>
                <a:tab algn="l" pos="4498920"/>
                <a:tab algn="l" pos="4956120"/>
                <a:tab algn="l" pos="5413320"/>
                <a:tab algn="l" pos="5870520"/>
                <a:tab algn="l" pos="6327720"/>
                <a:tab algn="l" pos="6784920"/>
                <a:tab algn="l" pos="7242120"/>
                <a:tab algn="l" pos="7699320"/>
                <a:tab algn="l" pos="8156520"/>
                <a:tab algn="l" pos="8613720"/>
                <a:tab algn="l" pos="9070920"/>
                <a:tab algn="l" pos="9528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the netflow data within the specified time sp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290520">
              <a:lnSpc>
                <a:spcPts val="3325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-"/>
              <a:tabLst>
                <a:tab algn="l" pos="384120"/>
                <a:tab algn="l" pos="841320"/>
                <a:tab algn="l" pos="1298520"/>
                <a:tab algn="l" pos="1755720"/>
                <a:tab algn="l" pos="2212920"/>
                <a:tab algn="l" pos="2670120"/>
                <a:tab algn="l" pos="3127320"/>
                <a:tab algn="l" pos="3584520"/>
                <a:tab algn="l" pos="4041720"/>
                <a:tab algn="l" pos="4498920"/>
                <a:tab algn="l" pos="4956120"/>
                <a:tab algn="l" pos="5413320"/>
                <a:tab algn="l" pos="5870520"/>
                <a:tab algn="l" pos="6327720"/>
                <a:tab algn="l" pos="6784920"/>
                <a:tab algn="l" pos="7242120"/>
                <a:tab algn="l" pos="7699320"/>
                <a:tab algn="l" pos="8156520"/>
                <a:tab algn="l" pos="8613720"/>
                <a:tab algn="l" pos="9070920"/>
                <a:tab algn="l" pos="9528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history as well as continuous profi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290520">
              <a:lnSpc>
                <a:spcPts val="3325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-"/>
              <a:tabLst>
                <a:tab algn="l" pos="384120"/>
                <a:tab algn="l" pos="841320"/>
                <a:tab algn="l" pos="1298520"/>
                <a:tab algn="l" pos="1755720"/>
                <a:tab algn="l" pos="2212920"/>
                <a:tab algn="l" pos="2670120"/>
                <a:tab algn="l" pos="3127320"/>
                <a:tab algn="l" pos="3584520"/>
                <a:tab algn="l" pos="4041720"/>
                <a:tab algn="l" pos="4498920"/>
                <a:tab algn="l" pos="4956120"/>
                <a:tab algn="l" pos="5413320"/>
                <a:tab algn="l" pos="5870520"/>
                <a:tab algn="l" pos="6327720"/>
                <a:tab algn="l" pos="6784920"/>
                <a:tab algn="l" pos="7242120"/>
                <a:tab algn="l" pos="7699320"/>
                <a:tab algn="l" pos="8156520"/>
                <a:tab algn="l" pos="8613720"/>
                <a:tab algn="l" pos="9070920"/>
                <a:tab algn="l" pos="9528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alerts, based on various cond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290520">
              <a:lnSpc>
                <a:spcPts val="3325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-"/>
              <a:tabLst>
                <a:tab algn="l" pos="384120"/>
                <a:tab algn="l" pos="841320"/>
                <a:tab algn="l" pos="1298520"/>
                <a:tab algn="l" pos="1755720"/>
                <a:tab algn="l" pos="2212920"/>
                <a:tab algn="l" pos="2670120"/>
                <a:tab algn="l" pos="3127320"/>
                <a:tab algn="l" pos="3584520"/>
                <a:tab algn="l" pos="4041720"/>
                <a:tab algn="l" pos="4498920"/>
                <a:tab algn="l" pos="4956120"/>
                <a:tab algn="l" pos="5413320"/>
                <a:tab algn="l" pos="5870520"/>
                <a:tab algn="l" pos="6327720"/>
                <a:tab algn="l" pos="6784920"/>
                <a:tab algn="l" pos="7242120"/>
                <a:tab algn="l" pos="7699320"/>
                <a:tab algn="l" pos="8156520"/>
                <a:tab algn="l" pos="8613720"/>
                <a:tab algn="l" pos="9070920"/>
                <a:tab algn="l" pos="9528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your own plugins to process netflow data on a regular interv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457200" y="64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Group 3"/>
          <p:cNvGrpSpPr/>
          <p:nvPr/>
        </p:nvGrpSpPr>
        <p:grpSpPr>
          <a:xfrm>
            <a:off x="444600" y="-12600"/>
            <a:ext cx="8708760" cy="1162080"/>
            <a:chOff x="444600" y="-12600"/>
            <a:chExt cx="8708760" cy="1162080"/>
          </a:xfrm>
        </p:grpSpPr>
        <p:pic>
          <p:nvPicPr>
            <p:cNvPr id="145" name="Picture 4" descr=""/>
            <p:cNvPicPr/>
            <p:nvPr/>
          </p:nvPicPr>
          <p:blipFill>
            <a:blip r:embed="rId1"/>
            <a:stretch/>
          </p:blipFill>
          <p:spPr>
            <a:xfrm>
              <a:off x="444600" y="-12600"/>
              <a:ext cx="8708760" cy="11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 Box 5"/>
            <p:cNvSpPr/>
            <p:nvPr/>
          </p:nvSpPr>
          <p:spPr>
            <a:xfrm>
              <a:off x="457200" y="0"/>
              <a:ext cx="8683560" cy="11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What can you do with NfSen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457200" y="64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8" name="Group 3"/>
          <p:cNvGrpSpPr/>
          <p:nvPr/>
        </p:nvGrpSpPr>
        <p:grpSpPr>
          <a:xfrm>
            <a:off x="444600" y="-12600"/>
            <a:ext cx="8708760" cy="1162080"/>
            <a:chOff x="444600" y="-12600"/>
            <a:chExt cx="8708760" cy="1162080"/>
          </a:xfrm>
        </p:grpSpPr>
        <p:pic>
          <p:nvPicPr>
            <p:cNvPr id="149" name="Picture 4" descr=""/>
            <p:cNvPicPr/>
            <p:nvPr/>
          </p:nvPicPr>
          <p:blipFill>
            <a:blip r:embed="rId1"/>
            <a:stretch/>
          </p:blipFill>
          <p:spPr>
            <a:xfrm>
              <a:off x="444600" y="-12600"/>
              <a:ext cx="8708760" cy="11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 Box 5"/>
            <p:cNvSpPr/>
            <p:nvPr/>
          </p:nvSpPr>
          <p:spPr>
            <a:xfrm>
              <a:off x="457200" y="0"/>
              <a:ext cx="8683560" cy="11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NfSen Architectur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51" name="Picture 6" descr=""/>
          <p:cNvPicPr/>
          <p:nvPr/>
        </p:nvPicPr>
        <p:blipFill>
          <a:blip r:embed="rId2"/>
          <a:stretch/>
        </p:blipFill>
        <p:spPr>
          <a:xfrm>
            <a:off x="227160" y="1295280"/>
            <a:ext cx="9144000" cy="536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3"/>
          <p:cNvGrpSpPr/>
          <p:nvPr/>
        </p:nvGrpSpPr>
        <p:grpSpPr>
          <a:xfrm>
            <a:off x="457200" y="0"/>
            <a:ext cx="8708760" cy="1216080"/>
            <a:chOff x="457200" y="0"/>
            <a:chExt cx="8708760" cy="1216080"/>
          </a:xfrm>
        </p:grpSpPr>
        <p:pic>
          <p:nvPicPr>
            <p:cNvPr id="153" name="Picture 4" descr=""/>
            <p:cNvPicPr/>
            <p:nvPr/>
          </p:nvPicPr>
          <p:blipFill>
            <a:blip r:embed="rId1"/>
            <a:stretch/>
          </p:blipFill>
          <p:spPr>
            <a:xfrm>
              <a:off x="457200" y="0"/>
              <a:ext cx="8708760" cy="11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Text Box 5"/>
            <p:cNvSpPr/>
            <p:nvPr/>
          </p:nvSpPr>
          <p:spPr>
            <a:xfrm>
              <a:off x="482400" y="76320"/>
              <a:ext cx="8683560" cy="11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NfSen: Points to not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" name="Text Box 1"/>
          <p:cNvSpPr/>
          <p:nvPr/>
        </p:nvSpPr>
        <p:spPr>
          <a:xfrm>
            <a:off x="611280" y="1447920"/>
            <a:ext cx="8227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4120" indent="-29052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4120"/>
                <a:tab algn="l" pos="841320"/>
                <a:tab algn="l" pos="1298520"/>
                <a:tab algn="l" pos="1755720"/>
                <a:tab algn="l" pos="2212920"/>
                <a:tab algn="l" pos="2670120"/>
                <a:tab algn="l" pos="3127320"/>
                <a:tab algn="l" pos="3584520"/>
                <a:tab algn="l" pos="4041720"/>
                <a:tab algn="l" pos="4498920"/>
                <a:tab algn="l" pos="4956120"/>
                <a:tab algn="l" pos="5413320"/>
                <a:tab algn="l" pos="5870520"/>
                <a:tab algn="l" pos="6327720"/>
                <a:tab algn="l" pos="6784920"/>
                <a:tab algn="l" pos="7242120"/>
                <a:tab algn="l" pos="7699320"/>
                <a:tab algn="l" pos="8156520"/>
                <a:tab algn="l" pos="8613720"/>
                <a:tab algn="l" pos="9070920"/>
                <a:tab algn="l" pos="95281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5 minute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fcap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rts a new file,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fs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cesses the previous 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4120" indent="-29052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4120"/>
                <a:tab algn="l" pos="841320"/>
                <a:tab algn="l" pos="1298520"/>
                <a:tab algn="l" pos="1755720"/>
                <a:tab algn="l" pos="2212920"/>
                <a:tab algn="l" pos="2670120"/>
                <a:tab algn="l" pos="3127320"/>
                <a:tab algn="l" pos="3584520"/>
                <a:tab algn="l" pos="4041720"/>
                <a:tab algn="l" pos="4498920"/>
                <a:tab algn="l" pos="4956120"/>
                <a:tab algn="l" pos="5413320"/>
                <a:tab algn="l" pos="5870520"/>
                <a:tab algn="l" pos="6327720"/>
                <a:tab algn="l" pos="6784920"/>
                <a:tab algn="l" pos="7242120"/>
                <a:tab algn="l" pos="7699320"/>
                <a:tab algn="l" pos="8156520"/>
                <a:tab algn="l" pos="8613720"/>
                <a:tab algn="l" pos="9070920"/>
                <a:tab algn="l" pos="95281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ce each graph point covers 5 min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4120" indent="-29052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4120"/>
                <a:tab algn="l" pos="841320"/>
                <a:tab algn="l" pos="1298520"/>
                <a:tab algn="l" pos="1755720"/>
                <a:tab algn="l" pos="2212920"/>
                <a:tab algn="l" pos="2670120"/>
                <a:tab algn="l" pos="3127320"/>
                <a:tab algn="l" pos="3584520"/>
                <a:tab algn="l" pos="4041720"/>
                <a:tab algn="l" pos="4498920"/>
                <a:tab algn="l" pos="4956120"/>
                <a:tab algn="l" pos="5413320"/>
                <a:tab algn="l" pos="5870520"/>
                <a:tab algn="l" pos="6327720"/>
                <a:tab algn="l" pos="6784920"/>
                <a:tab algn="l" pos="7242120"/>
                <a:tab algn="l" pos="7699320"/>
                <a:tab algn="l" pos="8156520"/>
                <a:tab algn="l" pos="8613720"/>
                <a:tab algn="l" pos="9070920"/>
                <a:tab algn="l" pos="95281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aph shows you the total of selected traffic in that 5-minute peri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4120" indent="-29052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4120"/>
                <a:tab algn="l" pos="841320"/>
                <a:tab algn="l" pos="1298520"/>
                <a:tab algn="l" pos="1755720"/>
                <a:tab algn="l" pos="2212920"/>
                <a:tab algn="l" pos="2670120"/>
                <a:tab algn="l" pos="3127320"/>
                <a:tab algn="l" pos="3584520"/>
                <a:tab algn="l" pos="4041720"/>
                <a:tab algn="l" pos="4498920"/>
                <a:tab algn="l" pos="4956120"/>
                <a:tab algn="l" pos="5413320"/>
                <a:tab algn="l" pos="5870520"/>
                <a:tab algn="l" pos="6327720"/>
                <a:tab algn="l" pos="6784920"/>
                <a:tab algn="l" pos="7242120"/>
                <a:tab algn="l" pos="7699320"/>
                <a:tab algn="l" pos="8156520"/>
                <a:tab algn="l" pos="8613720"/>
                <a:tab algn="l" pos="9070920"/>
                <a:tab algn="l" pos="95281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et more detailed information on the individual flows in that period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fs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ts you drill down us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fdump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back e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4120" indent="-29052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4120"/>
                <a:tab algn="l" pos="841320"/>
                <a:tab algn="l" pos="1298520"/>
                <a:tab algn="l" pos="1755720"/>
                <a:tab algn="l" pos="2212920"/>
                <a:tab algn="l" pos="2670120"/>
                <a:tab algn="l" pos="3127320"/>
                <a:tab algn="l" pos="3584520"/>
                <a:tab algn="l" pos="4041720"/>
                <a:tab algn="l" pos="4498920"/>
                <a:tab algn="l" pos="4956120"/>
                <a:tab algn="l" pos="5413320"/>
                <a:tab algn="l" pos="5870520"/>
                <a:tab algn="l" pos="6327720"/>
                <a:tab algn="l" pos="6784920"/>
                <a:tab algn="l" pos="7242120"/>
                <a:tab algn="l" pos="7699320"/>
                <a:tab algn="l" pos="8156520"/>
                <a:tab algn="l" pos="8613720"/>
                <a:tab algn="l" pos="9070920"/>
                <a:tab algn="l" pos="952812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3"/>
          <p:cNvGrpSpPr/>
          <p:nvPr/>
        </p:nvGrpSpPr>
        <p:grpSpPr>
          <a:xfrm>
            <a:off x="457200" y="0"/>
            <a:ext cx="8708760" cy="1216080"/>
            <a:chOff x="457200" y="0"/>
            <a:chExt cx="8708760" cy="1216080"/>
          </a:xfrm>
        </p:grpSpPr>
        <p:pic>
          <p:nvPicPr>
            <p:cNvPr id="157" name="Picture 4" descr=""/>
            <p:cNvPicPr/>
            <p:nvPr/>
          </p:nvPicPr>
          <p:blipFill>
            <a:blip r:embed="rId1"/>
            <a:stretch/>
          </p:blipFill>
          <p:spPr>
            <a:xfrm>
              <a:off x="457200" y="0"/>
              <a:ext cx="8708760" cy="11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5"/>
            <p:cNvSpPr/>
            <p:nvPr/>
          </p:nvSpPr>
          <p:spPr>
            <a:xfrm>
              <a:off x="482400" y="76320"/>
              <a:ext cx="8683560" cy="11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NfSen structur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9" name="Text Box 1"/>
          <p:cNvSpPr/>
          <p:nvPr/>
        </p:nvSpPr>
        <p:spPr>
          <a:xfrm>
            <a:off x="611280" y="1447920"/>
            <a:ext cx="8227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4120" indent="-29052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4120"/>
                <a:tab algn="l" pos="841320"/>
                <a:tab algn="l" pos="1298520"/>
                <a:tab algn="l" pos="1755720"/>
                <a:tab algn="l" pos="2212920"/>
                <a:tab algn="l" pos="2670120"/>
                <a:tab algn="l" pos="3127320"/>
                <a:tab algn="l" pos="3584520"/>
                <a:tab algn="l" pos="4041720"/>
                <a:tab algn="l" pos="4498920"/>
                <a:tab algn="l" pos="4956120"/>
                <a:tab algn="l" pos="5413320"/>
                <a:tab algn="l" pos="5870520"/>
                <a:tab algn="l" pos="6327720"/>
                <a:tab algn="l" pos="6784920"/>
                <a:tab algn="l" pos="7242120"/>
                <a:tab algn="l" pos="7699320"/>
                <a:tab algn="l" pos="8156520"/>
                <a:tab algn="l" pos="8613720"/>
                <a:tab algn="l" pos="9070920"/>
                <a:tab algn="l" pos="95281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guration file -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nfsen.con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4120" indent="-29052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4120"/>
                <a:tab algn="l" pos="841320"/>
                <a:tab algn="l" pos="1298520"/>
                <a:tab algn="l" pos="1755720"/>
                <a:tab algn="l" pos="2212920"/>
                <a:tab algn="l" pos="2670120"/>
                <a:tab algn="l" pos="3127320"/>
                <a:tab algn="l" pos="3584520"/>
                <a:tab algn="l" pos="4041720"/>
                <a:tab algn="l" pos="4498920"/>
                <a:tab algn="l" pos="4956120"/>
                <a:tab algn="l" pos="5413320"/>
                <a:tab algn="l" pos="5870520"/>
                <a:tab algn="l" pos="6327720"/>
                <a:tab algn="l" pos="6784920"/>
                <a:tab algn="l" pos="7242120"/>
                <a:tab algn="l" pos="7699320"/>
                <a:tab algn="l" pos="8156520"/>
                <a:tab algn="l" pos="8613720"/>
                <a:tab algn="l" pos="9070920"/>
                <a:tab algn="l" pos="95281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fDump files – Netflow files containing collected flows stored in the directory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/var/nfsen/profiles-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127160" indent="-290520">
              <a:spcBef>
                <a:spcPts val="799"/>
              </a:spcBef>
              <a:buClr>
                <a:srgbClr val="000000"/>
              </a:buClr>
              <a:buSzPct val="60000"/>
              <a:buFont typeface="Lucida Grande"/>
              <a:buChar char="-"/>
              <a:tabLst>
                <a:tab algn="l" pos="384120"/>
                <a:tab algn="l" pos="841320"/>
                <a:tab algn="l" pos="1298520"/>
                <a:tab algn="l" pos="1755720"/>
                <a:tab algn="l" pos="2212920"/>
                <a:tab algn="l" pos="2670120"/>
                <a:tab algn="l" pos="3127320"/>
                <a:tab algn="l" pos="3584520"/>
                <a:tab algn="l" pos="4041720"/>
                <a:tab algn="l" pos="4498920"/>
                <a:tab algn="l" pos="4956120"/>
                <a:tab algn="l" pos="5413320"/>
                <a:tab algn="l" pos="5870520"/>
                <a:tab algn="l" pos="6327720"/>
                <a:tab algn="l" pos="6784920"/>
                <a:tab algn="l" pos="7242120"/>
                <a:tab algn="l" pos="7699320"/>
                <a:tab algn="l" pos="8156520"/>
                <a:tab algn="l" pos="8613720"/>
                <a:tab algn="l" pos="9070920"/>
                <a:tab algn="l" pos="9528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It is possible for other programs to read NFDump files but don’t store them for too long as they can fill up your dri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4120" indent="-29052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4120"/>
                <a:tab algn="l" pos="841320"/>
                <a:tab algn="l" pos="1298520"/>
                <a:tab algn="l" pos="1755720"/>
                <a:tab algn="l" pos="2212920"/>
                <a:tab algn="l" pos="2670120"/>
                <a:tab algn="l" pos="3127320"/>
                <a:tab algn="l" pos="3584520"/>
                <a:tab algn="l" pos="4041720"/>
                <a:tab algn="l" pos="4498920"/>
                <a:tab algn="l" pos="4956120"/>
                <a:tab algn="l" pos="5413320"/>
                <a:tab algn="l" pos="5870520"/>
                <a:tab algn="l" pos="6327720"/>
                <a:tab algn="l" pos="6784920"/>
                <a:tab algn="l" pos="7242120"/>
                <a:tab algn="l" pos="7699320"/>
                <a:tab algn="l" pos="8156520"/>
                <a:tab algn="l" pos="8613720"/>
                <a:tab algn="l" pos="9070920"/>
                <a:tab algn="l" pos="95281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ual graphs – stored in the directory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/var/nfsen/profiles-st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4120" indent="-29052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4120"/>
                <a:tab algn="l" pos="841320"/>
                <a:tab algn="l" pos="1298520"/>
                <a:tab algn="l" pos="1755720"/>
                <a:tab algn="l" pos="2212920"/>
                <a:tab algn="l" pos="2670120"/>
                <a:tab algn="l" pos="3127320"/>
                <a:tab algn="l" pos="3584520"/>
                <a:tab algn="l" pos="4041720"/>
                <a:tab algn="l" pos="4498920"/>
                <a:tab algn="l" pos="4956120"/>
                <a:tab algn="l" pos="5413320"/>
                <a:tab algn="l" pos="5870520"/>
                <a:tab algn="l" pos="6327720"/>
                <a:tab algn="l" pos="6784920"/>
                <a:tab algn="l" pos="7242120"/>
                <a:tab algn="l" pos="7699320"/>
                <a:tab algn="l" pos="8156520"/>
                <a:tab algn="l" pos="8613720"/>
                <a:tab algn="l" pos="9070920"/>
                <a:tab algn="l" pos="952812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27160" indent="-29052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4120"/>
                <a:tab algn="l" pos="841320"/>
                <a:tab algn="l" pos="1298520"/>
                <a:tab algn="l" pos="1755720"/>
                <a:tab algn="l" pos="2212920"/>
                <a:tab algn="l" pos="2670120"/>
                <a:tab algn="l" pos="3127320"/>
                <a:tab algn="l" pos="3584520"/>
                <a:tab algn="l" pos="4041720"/>
                <a:tab algn="l" pos="4498920"/>
                <a:tab algn="l" pos="4956120"/>
                <a:tab algn="l" pos="5413320"/>
                <a:tab algn="l" pos="5870520"/>
                <a:tab algn="l" pos="6327720"/>
                <a:tab algn="l" pos="6784920"/>
                <a:tab algn="l" pos="7242120"/>
                <a:tab algn="l" pos="7699320"/>
                <a:tab algn="l" pos="8156520"/>
                <a:tab algn="l" pos="8613720"/>
                <a:tab algn="l" pos="9070920"/>
                <a:tab algn="l" pos="952812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127160" indent="-290520"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384120"/>
                <a:tab algn="l" pos="841320"/>
                <a:tab algn="l" pos="1298520"/>
                <a:tab algn="l" pos="1755720"/>
                <a:tab algn="l" pos="2212920"/>
                <a:tab algn="l" pos="2670120"/>
                <a:tab algn="l" pos="3127320"/>
                <a:tab algn="l" pos="3584520"/>
                <a:tab algn="l" pos="4041720"/>
                <a:tab algn="l" pos="4498920"/>
                <a:tab algn="l" pos="4956120"/>
                <a:tab algn="l" pos="5413320"/>
                <a:tab algn="l" pos="5870520"/>
                <a:tab algn="l" pos="6327720"/>
                <a:tab algn="l" pos="6784920"/>
                <a:tab algn="l" pos="7242120"/>
                <a:tab algn="l" pos="7699320"/>
                <a:tab algn="l" pos="8156520"/>
                <a:tab algn="l" pos="8613720"/>
                <a:tab algn="l" pos="9070920"/>
                <a:tab algn="l" pos="952812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4120" indent="-29052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4120"/>
                <a:tab algn="l" pos="841320"/>
                <a:tab algn="l" pos="1298520"/>
                <a:tab algn="l" pos="1755720"/>
                <a:tab algn="l" pos="2212920"/>
                <a:tab algn="l" pos="2670120"/>
                <a:tab algn="l" pos="3127320"/>
                <a:tab algn="l" pos="3584520"/>
                <a:tab algn="l" pos="4041720"/>
                <a:tab algn="l" pos="4498920"/>
                <a:tab algn="l" pos="4956120"/>
                <a:tab algn="l" pos="5413320"/>
                <a:tab algn="l" pos="5870520"/>
                <a:tab algn="l" pos="6327720"/>
                <a:tab algn="l" pos="6784920"/>
                <a:tab algn="l" pos="7242120"/>
                <a:tab algn="l" pos="7699320"/>
                <a:tab algn="l" pos="8156520"/>
                <a:tab algn="l" pos="8613720"/>
                <a:tab algn="l" pos="9070920"/>
                <a:tab algn="l" pos="952812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" descr=""/>
          <p:cNvPicPr/>
          <p:nvPr/>
        </p:nvPicPr>
        <p:blipFill>
          <a:blip r:embed="rId1"/>
          <a:stretch/>
        </p:blipFill>
        <p:spPr>
          <a:xfrm>
            <a:off x="533520" y="1630440"/>
            <a:ext cx="8610480" cy="522756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"/>
          <p:cNvSpPr/>
          <p:nvPr/>
        </p:nvSpPr>
        <p:spPr>
          <a:xfrm>
            <a:off x="457200" y="64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2" name="Group 2"/>
          <p:cNvGrpSpPr/>
          <p:nvPr/>
        </p:nvGrpSpPr>
        <p:grpSpPr>
          <a:xfrm>
            <a:off x="444600" y="-12600"/>
            <a:ext cx="8708760" cy="1162080"/>
            <a:chOff x="444600" y="-12600"/>
            <a:chExt cx="8708760" cy="1162080"/>
          </a:xfrm>
        </p:grpSpPr>
        <p:pic>
          <p:nvPicPr>
            <p:cNvPr id="163" name="Picture 3" descr=""/>
            <p:cNvPicPr/>
            <p:nvPr/>
          </p:nvPicPr>
          <p:blipFill>
            <a:blip r:embed="rId2"/>
            <a:stretch/>
          </p:blipFill>
          <p:spPr>
            <a:xfrm>
              <a:off x="444600" y="-12600"/>
              <a:ext cx="8708760" cy="11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Text Box 4"/>
            <p:cNvSpPr/>
            <p:nvPr/>
          </p:nvSpPr>
          <p:spPr>
            <a:xfrm>
              <a:off x="457200" y="0"/>
              <a:ext cx="8683560" cy="11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NfSen Home Screen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"/>
          <p:cNvSpPr/>
          <p:nvPr/>
        </p:nvSpPr>
        <p:spPr>
          <a:xfrm>
            <a:off x="457200" y="1295280"/>
            <a:ext cx="8228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8800" indent="-288720">
              <a:spcBef>
                <a:spcPts val="799"/>
              </a:spcBef>
              <a:tabLst>
                <a:tab algn="l" pos="0"/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s of flows, packets and traffic based on interface with NetFlow activ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800" indent="-288720">
              <a:spcBef>
                <a:spcPts val="799"/>
              </a:spcBef>
              <a:tabLst>
                <a:tab algn="l" pos="0"/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What is seen under Traffic should closely match what your NMS shows for the same inter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457200" y="64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7" name="Group 4"/>
          <p:cNvGrpSpPr/>
          <p:nvPr/>
        </p:nvGrpSpPr>
        <p:grpSpPr>
          <a:xfrm>
            <a:off x="444600" y="-12600"/>
            <a:ext cx="8708760" cy="1162080"/>
            <a:chOff x="444600" y="-12600"/>
            <a:chExt cx="8708760" cy="1162080"/>
          </a:xfrm>
        </p:grpSpPr>
        <p:pic>
          <p:nvPicPr>
            <p:cNvPr id="168" name="Picture 5" descr=""/>
            <p:cNvPicPr/>
            <p:nvPr/>
          </p:nvPicPr>
          <p:blipFill>
            <a:blip r:embed="rId1"/>
            <a:stretch/>
          </p:blipFill>
          <p:spPr>
            <a:xfrm>
              <a:off x="444600" y="-12600"/>
              <a:ext cx="8708760" cy="11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Text Box 6"/>
            <p:cNvSpPr/>
            <p:nvPr/>
          </p:nvSpPr>
          <p:spPr>
            <a:xfrm>
              <a:off x="457200" y="0"/>
              <a:ext cx="8683560" cy="11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Graphs Tab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70" name="Picture 1" descr=""/>
          <p:cNvPicPr/>
          <p:nvPr/>
        </p:nvPicPr>
        <p:blipFill>
          <a:blip r:embed="rId2"/>
          <a:stretch/>
        </p:blipFill>
        <p:spPr>
          <a:xfrm>
            <a:off x="965160" y="2971800"/>
            <a:ext cx="5969160" cy="379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1"/>
          <p:cNvSpPr/>
          <p:nvPr/>
        </p:nvSpPr>
        <p:spPr>
          <a:xfrm>
            <a:off x="611280" y="1295280"/>
            <a:ext cx="8227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72240" indent="-28152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4120"/>
                <a:tab algn="l" pos="841320"/>
                <a:tab algn="l" pos="1298520"/>
                <a:tab algn="l" pos="1755720"/>
                <a:tab algn="l" pos="2212920"/>
                <a:tab algn="l" pos="2670120"/>
                <a:tab algn="l" pos="3127320"/>
                <a:tab algn="l" pos="3584520"/>
                <a:tab algn="l" pos="4041720"/>
                <a:tab algn="l" pos="4498920"/>
                <a:tab algn="l" pos="4956120"/>
                <a:tab algn="l" pos="5413320"/>
                <a:tab algn="l" pos="5870520"/>
                <a:tab algn="l" pos="6327720"/>
                <a:tab algn="l" pos="6784920"/>
                <a:tab algn="l" pos="7242120"/>
                <a:tab algn="l" pos="7699320"/>
                <a:tab algn="l" pos="8156520"/>
                <a:tab algn="l" pos="8613720"/>
                <a:tab algn="l" pos="9070920"/>
                <a:tab algn="l" pos="95281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interesting p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72240" indent="-28152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4120"/>
                <a:tab algn="l" pos="841320"/>
                <a:tab algn="l" pos="1298520"/>
                <a:tab algn="l" pos="1755720"/>
                <a:tab algn="l" pos="2212920"/>
                <a:tab algn="l" pos="2670120"/>
                <a:tab algn="l" pos="3127320"/>
                <a:tab algn="l" pos="3584520"/>
                <a:tab algn="l" pos="4041720"/>
                <a:tab algn="l" pos="4498920"/>
                <a:tab algn="l" pos="4956120"/>
                <a:tab algn="l" pos="5413320"/>
                <a:tab algn="l" pos="5870520"/>
                <a:tab algn="l" pos="6327720"/>
                <a:tab algn="l" pos="6784920"/>
                <a:tab algn="l" pos="7242120"/>
                <a:tab algn="l" pos="7699320"/>
                <a:tab algn="l" pos="8156520"/>
                <a:tab algn="l" pos="8613720"/>
                <a:tab algn="l" pos="9070920"/>
                <a:tab algn="l" pos="95281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view present flow information or stored flow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72240" indent="-28152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4120"/>
                <a:tab algn="l" pos="841320"/>
                <a:tab algn="l" pos="1298520"/>
                <a:tab algn="l" pos="1755720"/>
                <a:tab algn="l" pos="2212920"/>
                <a:tab algn="l" pos="2670120"/>
                <a:tab algn="l" pos="3127320"/>
                <a:tab algn="l" pos="3584520"/>
                <a:tab algn="l" pos="4041720"/>
                <a:tab algn="l" pos="4498920"/>
                <a:tab algn="l" pos="4956120"/>
                <a:tab algn="l" pos="5413320"/>
                <a:tab algn="l" pos="5870520"/>
                <a:tab algn="l" pos="6327720"/>
                <a:tab algn="l" pos="6784920"/>
                <a:tab algn="l" pos="7242120"/>
                <a:tab algn="l" pos="7699320"/>
                <a:tab algn="l" pos="8156520"/>
                <a:tab algn="l" pos="8613720"/>
                <a:tab algn="l" pos="9070920"/>
                <a:tab algn="l" pos="95281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view detailed NetFlow information such 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52760" indent="-281520">
              <a:lnSpc>
                <a:spcPts val="29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-"/>
              <a:tabLst>
                <a:tab algn="l" pos="384120"/>
                <a:tab algn="l" pos="841320"/>
                <a:tab algn="l" pos="1298520"/>
                <a:tab algn="l" pos="1755720"/>
                <a:tab algn="l" pos="2212920"/>
                <a:tab algn="l" pos="2670120"/>
                <a:tab algn="l" pos="3127320"/>
                <a:tab algn="l" pos="3584520"/>
                <a:tab algn="l" pos="4041720"/>
                <a:tab algn="l" pos="4498920"/>
                <a:tab algn="l" pos="4956120"/>
                <a:tab algn="l" pos="5413320"/>
                <a:tab algn="l" pos="5870520"/>
                <a:tab algn="l" pos="6327720"/>
                <a:tab algn="l" pos="6784920"/>
                <a:tab algn="l" pos="7242120"/>
                <a:tab algn="l" pos="7699320"/>
                <a:tab algn="l" pos="8156520"/>
                <a:tab algn="l" pos="8613720"/>
                <a:tab algn="l" pos="9070920"/>
                <a:tab algn="l" pos="9528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Numbers (more useful if you have full routing table exported on your rout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52760" indent="-281520">
              <a:lnSpc>
                <a:spcPts val="29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-"/>
              <a:tabLst>
                <a:tab algn="l" pos="384120"/>
                <a:tab algn="l" pos="841320"/>
                <a:tab algn="l" pos="1298520"/>
                <a:tab algn="l" pos="1755720"/>
                <a:tab algn="l" pos="2212920"/>
                <a:tab algn="l" pos="2670120"/>
                <a:tab algn="l" pos="3127320"/>
                <a:tab algn="l" pos="3584520"/>
                <a:tab algn="l" pos="4041720"/>
                <a:tab algn="l" pos="4498920"/>
                <a:tab algn="l" pos="4956120"/>
                <a:tab algn="l" pos="5413320"/>
                <a:tab algn="l" pos="5870520"/>
                <a:tab algn="l" pos="6327720"/>
                <a:tab algn="l" pos="6784920"/>
                <a:tab algn="l" pos="7242120"/>
                <a:tab algn="l" pos="7699320"/>
                <a:tab algn="l" pos="8156520"/>
                <a:tab algn="l" pos="8613720"/>
                <a:tab algn="l" pos="9070920"/>
                <a:tab algn="l" pos="9528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rc hosts/ports, destination hosts and po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52760" indent="-281520">
              <a:lnSpc>
                <a:spcPts val="29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-"/>
              <a:tabLst>
                <a:tab algn="l" pos="384120"/>
                <a:tab algn="l" pos="841320"/>
                <a:tab algn="l" pos="1298520"/>
                <a:tab algn="l" pos="1755720"/>
                <a:tab algn="l" pos="2212920"/>
                <a:tab algn="l" pos="2670120"/>
                <a:tab algn="l" pos="3127320"/>
                <a:tab algn="l" pos="3584520"/>
                <a:tab algn="l" pos="4041720"/>
                <a:tab algn="l" pos="4498920"/>
                <a:tab algn="l" pos="4956120"/>
                <a:tab algn="l" pos="5413320"/>
                <a:tab algn="l" pos="5870520"/>
                <a:tab algn="l" pos="6327720"/>
                <a:tab algn="l" pos="6784920"/>
                <a:tab algn="l" pos="7242120"/>
                <a:tab algn="l" pos="7699320"/>
                <a:tab algn="l" pos="8156520"/>
                <a:tab algn="l" pos="8613720"/>
                <a:tab algn="l" pos="9070920"/>
                <a:tab algn="l" pos="9528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directional or Bi-directional fl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52760" indent="-281520">
              <a:lnSpc>
                <a:spcPts val="29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-"/>
              <a:tabLst>
                <a:tab algn="l" pos="384120"/>
                <a:tab algn="l" pos="841320"/>
                <a:tab algn="l" pos="1298520"/>
                <a:tab algn="l" pos="1755720"/>
                <a:tab algn="l" pos="2212920"/>
                <a:tab algn="l" pos="2670120"/>
                <a:tab algn="l" pos="3127320"/>
                <a:tab algn="l" pos="3584520"/>
                <a:tab algn="l" pos="4041720"/>
                <a:tab algn="l" pos="4498920"/>
                <a:tab algn="l" pos="4956120"/>
                <a:tab algn="l" pos="5413320"/>
                <a:tab algn="l" pos="5870520"/>
                <a:tab algn="l" pos="6327720"/>
                <a:tab algn="l" pos="6784920"/>
                <a:tab algn="l" pos="7242120"/>
                <a:tab algn="l" pos="7699320"/>
                <a:tab algn="l" pos="8156520"/>
                <a:tab algn="l" pos="8613720"/>
                <a:tab algn="l" pos="9070920"/>
                <a:tab algn="l" pos="9528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ws on specific interfa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52760" indent="-281520">
              <a:lnSpc>
                <a:spcPts val="29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-"/>
              <a:tabLst>
                <a:tab algn="l" pos="384120"/>
                <a:tab algn="l" pos="841320"/>
                <a:tab algn="l" pos="1298520"/>
                <a:tab algn="l" pos="1755720"/>
                <a:tab algn="l" pos="2212920"/>
                <a:tab algn="l" pos="2670120"/>
                <a:tab algn="l" pos="3127320"/>
                <a:tab algn="l" pos="3584520"/>
                <a:tab algn="l" pos="4041720"/>
                <a:tab algn="l" pos="4498920"/>
                <a:tab algn="l" pos="4956120"/>
                <a:tab algn="l" pos="5413320"/>
                <a:tab algn="l" pos="5870520"/>
                <a:tab algn="l" pos="6327720"/>
                <a:tab algn="l" pos="6784920"/>
                <a:tab algn="l" pos="7242120"/>
                <a:tab algn="l" pos="7699320"/>
                <a:tab algn="l" pos="8156520"/>
                <a:tab algn="l" pos="8613720"/>
                <a:tab algn="l" pos="9070920"/>
                <a:tab algn="l" pos="9528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s and 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2" name="Group 2"/>
          <p:cNvGrpSpPr/>
          <p:nvPr/>
        </p:nvGrpSpPr>
        <p:grpSpPr>
          <a:xfrm>
            <a:off x="444600" y="-12600"/>
            <a:ext cx="8708760" cy="1162080"/>
            <a:chOff x="444600" y="-12600"/>
            <a:chExt cx="8708760" cy="1162080"/>
          </a:xfrm>
        </p:grpSpPr>
        <p:pic>
          <p:nvPicPr>
            <p:cNvPr id="173" name="Picture 3" descr=""/>
            <p:cNvPicPr/>
            <p:nvPr/>
          </p:nvPicPr>
          <p:blipFill>
            <a:blip r:embed="rId1"/>
            <a:stretch/>
          </p:blipFill>
          <p:spPr>
            <a:xfrm>
              <a:off x="444600" y="-12600"/>
              <a:ext cx="8708760" cy="11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Text Box 4"/>
            <p:cNvSpPr/>
            <p:nvPr/>
          </p:nvSpPr>
          <p:spPr>
            <a:xfrm>
              <a:off x="457200" y="0"/>
              <a:ext cx="8683560" cy="11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Details Pag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11:26:36Z</dcterms:created>
  <dc:creator>Hervey Allen</dc:creator>
  <dc:description/>
  <dc:language>en-US</dc:language>
  <cp:lastModifiedBy>Hervey Allen</cp:lastModifiedBy>
  <dcterms:modified xsi:type="dcterms:W3CDTF">2017-02-23T07:25:49Z</dcterms:modified>
  <cp:revision>172</cp:revision>
  <dc:subject/>
  <dc:title>Slide 1</dc:title>
</cp:coreProperties>
</file>